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EB91-E182-4394-9765-457442EBD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97A-6451-457F-94A0-1FA7E89E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DFD1-A98A-4DAB-BD9C-D871DC0DC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4BD3-0F34-43A0-8793-4F0477373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60200"/>
            <a:ext cx="77724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A6B0-5C58-4156-BEE1-D636D7872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644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4600" y="17521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644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4600" y="4259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E5F8-8FFC-49E5-B77B-70D057EEB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73FE-DBEC-4658-B1CA-25F9746BC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1270-7262-4241-84C6-DC93013AA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0200"/>
            <a:ext cx="77724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981F-4117-426E-837F-47A83C274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9DBF-1B44-4019-A9FC-EA1E9420F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4259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CC75-3760-4E99-AFF9-4D943803A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7521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259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BD1F-DDCB-447D-B368-E750161CF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2" marL="1143000" indent="-2286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3" marL="1600200" indent="-228600">
              <a:spcBef>
                <a:spcPts val="751"/>
              </a:spcBef>
              <a:buClr>
                <a:srgbClr val="f8f8f8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4" marL="2057400" indent="-228600">
              <a:spcBef>
                <a:spcPts val="751"/>
              </a:spcBef>
              <a:buClr>
                <a:srgbClr val="cc66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 Rounded MT Bold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E04-188E-4468-8D01-56218BE9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2361960"/>
            <a:ext cx="65646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64800" y="1767600"/>
            <a:ext cx="11160" cy="9144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5e69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7600" y="6419880"/>
            <a:ext cx="7772040" cy="380520"/>
            <a:chOff x="1047600" y="6419880"/>
            <a:chExt cx="7772040" cy="38052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047600" y="6419880"/>
              <a:ext cx="5454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165420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225648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85876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346104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406332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466560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526752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587016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647208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7074360" y="6419880"/>
              <a:ext cx="5410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7676640" y="6419880"/>
              <a:ext cx="5407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8278920" y="6423120"/>
              <a:ext cx="540720" cy="37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SzPct val="65000"/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3" marL="1371600" algn="ctr">
              <a:spcBef>
                <a:spcPts val="601"/>
              </a:spcBef>
              <a:buClr>
                <a:srgbClr val="f8f8f8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4" marL="1828800" algn="ctr">
              <a:spcBef>
                <a:spcPts val="601"/>
              </a:spcBef>
              <a:buClr>
                <a:srgbClr val="cc6600"/>
              </a:buClr>
              <a:buFont typeface="Arial Rounded MT Bold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8960" y="2115720"/>
            <a:ext cx="7261200" cy="25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Rounded MT Bold"/>
              </a:rPr>
              <a:t>ESCWA’s Regional Plan of Action for Building the Information Society (RPoA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4708080"/>
            <a:ext cx="44766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Mansour Farah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Rounded MT Bold"/>
              </a:rPr>
              <a:t>Team Leader and Senior Information Technology Officer, ICT Division, ESCWA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 Rounded MT Bold"/>
              </a:rPr>
              <a:t>http://www.escwa.un.org/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2517840" y="1038240"/>
            <a:ext cx="6462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Verdana"/>
              </a:rPr>
              <a:t>Fourth meeting of the ESCWA Consultative Committee on Scientific &amp; Technological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Verdana"/>
              </a:rPr>
              <a:t>and Technological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Verdana"/>
              </a:rPr>
              <a:t>Manama, 1-2 April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0520" y="192240"/>
            <a:ext cx="72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Verdana"/>
              </a:rPr>
              <a:t>United Nations Economic and Social Commission for Western Asia (UN-ESCW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922680"/>
            <a:ext cx="9144000" cy="11160"/>
          </a:xfrm>
          <a:prstGeom prst="rect">
            <a:avLst/>
          </a:prstGeom>
          <a:gradFill rotWithShape="0">
            <a:gsLst>
              <a:gs pos="0">
                <a:srgbClr val="fcfeda"/>
              </a:gs>
              <a:gs pos="100000">
                <a:srgbClr val="9bac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6800" y="171360"/>
            <a:ext cx="8413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198160"/>
            <a:ext cx="7772400" cy="127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Lists of</a:t>
            </a:r>
            <a:br>
              <a:rPr sz="4400"/>
            </a:b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Progammes and Project</a:t>
            </a:r>
            <a:r>
              <a:rPr b="1" lang="en-US" sz="3600" spc="-1" strike="noStrike">
                <a:solidFill>
                  <a:srgbClr val="def1f2"/>
                </a:solidFill>
                <a:latin typeface="Arial Rounded MT Bold"/>
              </a:rPr>
              <a:t>s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440" y="793800"/>
            <a:ext cx="299268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1.  ICT for economic develop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06800" y="719280"/>
            <a:ext cx="5661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1  CyberPort for trade and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2  CyberHaven for regional tourism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3  Connecting Arab ATM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.4  ICT Hub for S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60" y="2774880"/>
            <a:ext cx="2992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2.  Developing e-govern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0560" y="2700360"/>
            <a:ext cx="5662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1  Enhancing government decision support capabilities in the socio-economic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2  Regional e-government port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40" y="3970440"/>
            <a:ext cx="299268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3.  Empowering Arab NGO's in the informa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5880" y="3952800"/>
            <a:ext cx="5661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1  Arab NGO's informat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.2  Arab civil society academy for capacity build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6760" y="260028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5080" y="383868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440" y="5222880"/>
            <a:ext cx="299268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4.  Developing telecommunications infrastructur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06800" y="5148360"/>
            <a:ext cx="5661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1  Towards an integrated regional telecommunication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4.2  Enhanced broadband access through pilot national applica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98960" y="509112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1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760" y="803160"/>
            <a:ext cx="299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5.  Developing the ICT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0560" y="771480"/>
            <a:ext cx="56624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1  Legislation model for an ICT enabl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2  Establishment of ICT incub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.3  Partnership space for incubating telecommunications projec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5880" y="2610000"/>
            <a:ext cx="56610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1  Women empowerment through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2  Promoting the rights of women and children through the use of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3  Enhancing Arab women’s role in development and decision making through the use of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6.4  Gender evaluation methodology for ICT initiatives (GEM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5080" y="252396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440" y="2641680"/>
            <a:ext cx="299268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6.  Women empowerment in the information societ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480" y="5504040"/>
            <a:ext cx="299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7.  Information society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0560" y="5429160"/>
            <a:ext cx="566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1  Core ICT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2  ICT indicator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7.3  Capacity building for information society measure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6760" y="5357880"/>
            <a:ext cx="5575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2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3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60" y="803160"/>
            <a:ext cx="2992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8.  Promoting digital Arabic content (DAC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0560" y="700200"/>
            <a:ext cx="56624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1  Establishing a digital Arabic librar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2  Connecting Arab documentation centre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3  Developing an Arabic search engin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4  Arabized ICT e-glo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5  Arabic domain name system (AD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6  Arab region network for document cataloguing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8.7  Memory of the Arab worl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5880" y="3681360"/>
            <a:ext cx="566100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1  Regional Hub for capacity building in open source software for education and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2  IT teacher training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3  Regional scheme for deployment of technical comput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4  Lifelong learning for socio-economic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5  Networking academ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9.6  Learning object repository in Arabic (L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5080" y="3662280"/>
            <a:ext cx="5572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80" y="3813120"/>
            <a:ext cx="30020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9.  ICT in education and scientific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" y="2106720"/>
            <a:ext cx="1685880" cy="14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03" y="-5717"/>
                </a:moveTo>
                <a:lnTo>
                  <a:pt x="22576" y="1722"/>
                </a:lnTo>
              </a:path>
              <a:path w="21600" h="21600">
                <a:moveTo>
                  <a:pt x="22576" y="0"/>
                </a:moveTo>
                <a:lnTo>
                  <a:pt x="22576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* These projects have been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earmarked as most important</a:t>
            </a: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by Arab Ministers of Telecommunications and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37040" y="668160"/>
            <a:ext cx="534960" cy="122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792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6920" y="176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dd"/>
                </a:solidFill>
                <a:latin typeface="Tahoma"/>
              </a:rPr>
              <a:t>Projects                 (4/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" y="831960"/>
            <a:ext cx="299232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10.  Increasing community access with emphasis on the marginalized and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728640"/>
            <a:ext cx="566244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1  Empowerment through community access: total access point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2  PC for Every Home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3  Information technology club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4  Empowerment of the visually disabled through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0.5  Market information systems for agriculture and fishing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9720" y="3222720"/>
            <a:ext cx="1596960" cy="16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888" y="-18448"/>
                </a:moveTo>
                <a:lnTo>
                  <a:pt x="22631" y="1513"/>
                </a:lnTo>
              </a:path>
              <a:path w="21600" h="21600">
                <a:moveTo>
                  <a:pt x="22631" y="0"/>
                </a:moveTo>
                <a:lnTo>
                  <a:pt x="22631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* These projects have been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earmarked as</a:t>
            </a: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cc6600"/>
                </a:solidFill>
                <a:latin typeface="Tahoma"/>
              </a:rPr>
              <a:t>most important</a:t>
            </a: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Tahoma"/>
              </a:rPr>
              <a:t>by Arab Ministers of Telecommunications and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52960" y="701640"/>
            <a:ext cx="55749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78000" y="647640"/>
            <a:ext cx="790560" cy="155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084400"/>
            <a:ext cx="7772400" cy="14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ef1f2"/>
                </a:solidFill>
                <a:latin typeface="Tahoma"/>
              </a:rPr>
              <a:t>RPoA</a:t>
            </a:r>
            <a:br>
              <a:rPr sz="4000"/>
            </a:br>
            <a:r>
              <a:rPr b="1" lang="en-GB" sz="4000" spc="-1" strike="noStrike">
                <a:solidFill>
                  <a:srgbClr val="def1f2"/>
                </a:solidFill>
                <a:latin typeface="Tahoma"/>
              </a:rPr>
              <a:t> Methodology for Programmes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Programme Detail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0560" y="2212560"/>
            <a:ext cx="815832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Conceptual overview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Mapping to the areas presented in the strategic framework of RPoA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Rounded MT Bold"/>
              </a:rPr>
              <a:t>Outline that includes the programme’s main objectives, challenges, implementation strategy, expected accomplishments and indicators of achievements.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0" name=""/>
          <p:cNvSpPr/>
          <p:nvPr/>
        </p:nvSpPr>
        <p:spPr>
          <a:xfrm>
            <a:off x="338040" y="1119240"/>
            <a:ext cx="8499600" cy="812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Each programme in the RPoA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is presented by its champion-partner using the following struc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1760" y="160200"/>
            <a:ext cx="892188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Criteria for adding Programme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76280" y="2081160"/>
            <a:ext cx="81280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Presented in a clear and concise format by its champion-partner (RPoA uses the Results-Based Management paradigm)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It has a coordinating agency/institution (usually the champion-partner)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8f8f8"/>
                </a:solidFill>
                <a:latin typeface="Tahoma"/>
              </a:rPr>
              <a:t>It has a high impact on a number of areas that are identified in the RPoA strategic framework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3" name=""/>
          <p:cNvSpPr/>
          <p:nvPr/>
        </p:nvSpPr>
        <p:spPr>
          <a:xfrm>
            <a:off x="574560" y="1128600"/>
            <a:ext cx="8143920" cy="808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A programme can be added once it satisfies the following criteria</a:t>
            </a: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8040"/>
            <a:ext cx="7772400" cy="13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f1f2"/>
                </a:solidFill>
                <a:latin typeface="Tahoma"/>
              </a:rPr>
              <a:t>RPoA</a:t>
            </a:r>
            <a:br>
              <a:rPr sz="4400"/>
            </a:br>
            <a:r>
              <a:rPr b="1" lang="en-GB" sz="4400" spc="-1" strike="noStrike">
                <a:solidFill>
                  <a:srgbClr val="def1f2"/>
                </a:solidFill>
                <a:latin typeface="Tahoma"/>
              </a:rPr>
              <a:t>Methodology for Projects 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Projects: Actions translated into result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2240" y="2319120"/>
            <a:ext cx="80247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Originally, there were 38 projects proposed by various partners and distributed among 10 programmes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ach project has a coordinating/leading agency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ojects are regional in nature, with most having national components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plementation starts upon maturity;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gional projects recommended by the Working Group on the Realization of the Arab Strategy are included and flagged as most important for the Arab Governments.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307" name=""/>
          <p:cNvSpPr/>
          <p:nvPr/>
        </p:nvSpPr>
        <p:spPr>
          <a:xfrm>
            <a:off x="573120" y="1274760"/>
            <a:ext cx="7958160" cy="826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The list is an evolving one and will be adjusted as changes on existing projects are made and as new projects are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Objectives of the RPoA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596600"/>
            <a:ext cx="84582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build a sustainable and inclusive information society in the region, in line with WSIS Geneva Plan of Action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propose a comprehensive strategic framework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foster partnerships and propose a modality for implementation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achieve the Millennium Development Goals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1760" y="255600"/>
            <a:ext cx="8612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Project Development Phases</a:t>
            </a:r>
            <a:r>
              <a:rPr b="0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09" name=""/>
          <p:cNvSpPr/>
          <p:nvPr/>
        </p:nvSpPr>
        <p:spPr>
          <a:xfrm>
            <a:off x="915840" y="1255680"/>
            <a:ext cx="3314880" cy="5575320"/>
          </a:xfrm>
          <a:prstGeom prst="rect">
            <a:avLst/>
          </a:prstGeom>
          <a:noFill/>
          <a:ln w="27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2400" y="3747960"/>
            <a:ext cx="180360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6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4"/>
                </a:lnTo>
                <a:lnTo>
                  <a:pt x="853" y="464"/>
                </a:lnTo>
                <a:lnTo>
                  <a:pt x="835" y="464"/>
                </a:lnTo>
                <a:lnTo>
                  <a:pt x="817" y="466"/>
                </a:lnTo>
                <a:lnTo>
                  <a:pt x="799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8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89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3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89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2400" y="3747960"/>
            <a:ext cx="180360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6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4"/>
                </a:lnTo>
                <a:lnTo>
                  <a:pt x="853" y="464"/>
                </a:lnTo>
                <a:lnTo>
                  <a:pt x="835" y="464"/>
                </a:lnTo>
                <a:lnTo>
                  <a:pt x="817" y="466"/>
                </a:lnTo>
                <a:lnTo>
                  <a:pt x="799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8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89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3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89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0880" y="451944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2"/>
                </a:moveTo>
                <a:lnTo>
                  <a:pt x="0" y="0"/>
                </a:lnTo>
                <a:lnTo>
                  <a:pt x="1137" y="0"/>
                </a:lnTo>
                <a:lnTo>
                  <a:pt x="1137" y="542"/>
                </a:lnTo>
                <a:lnTo>
                  <a:pt x="1118" y="533"/>
                </a:lnTo>
                <a:lnTo>
                  <a:pt x="1101" y="524"/>
                </a:lnTo>
                <a:lnTo>
                  <a:pt x="1085" y="516"/>
                </a:lnTo>
                <a:lnTo>
                  <a:pt x="1066" y="508"/>
                </a:lnTo>
                <a:lnTo>
                  <a:pt x="1050" y="502"/>
                </a:lnTo>
                <a:lnTo>
                  <a:pt x="1031" y="496"/>
                </a:lnTo>
                <a:lnTo>
                  <a:pt x="1014" y="489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89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6"/>
                </a:lnTo>
                <a:lnTo>
                  <a:pt x="602" y="524"/>
                </a:lnTo>
                <a:lnTo>
                  <a:pt x="585" y="533"/>
                </a:lnTo>
                <a:lnTo>
                  <a:pt x="568" y="542"/>
                </a:lnTo>
                <a:lnTo>
                  <a:pt x="551" y="551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3"/>
                </a:lnTo>
                <a:lnTo>
                  <a:pt x="464" y="590"/>
                </a:lnTo>
                <a:lnTo>
                  <a:pt x="446" y="596"/>
                </a:lnTo>
                <a:lnTo>
                  <a:pt x="428" y="601"/>
                </a:lnTo>
                <a:lnTo>
                  <a:pt x="411" y="605"/>
                </a:lnTo>
                <a:lnTo>
                  <a:pt x="393" y="609"/>
                </a:lnTo>
                <a:lnTo>
                  <a:pt x="374" y="612"/>
                </a:lnTo>
                <a:lnTo>
                  <a:pt x="356" y="615"/>
                </a:lnTo>
                <a:lnTo>
                  <a:pt x="338" y="617"/>
                </a:lnTo>
                <a:lnTo>
                  <a:pt x="320" y="618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8"/>
                </a:lnTo>
                <a:lnTo>
                  <a:pt x="229" y="617"/>
                </a:lnTo>
                <a:lnTo>
                  <a:pt x="211" y="615"/>
                </a:lnTo>
                <a:lnTo>
                  <a:pt x="193" y="612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3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0880" y="451944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2"/>
                </a:moveTo>
                <a:lnTo>
                  <a:pt x="0" y="0"/>
                </a:lnTo>
                <a:lnTo>
                  <a:pt x="1137" y="0"/>
                </a:lnTo>
                <a:lnTo>
                  <a:pt x="1137" y="542"/>
                </a:lnTo>
                <a:lnTo>
                  <a:pt x="1118" y="533"/>
                </a:lnTo>
                <a:lnTo>
                  <a:pt x="1101" y="524"/>
                </a:lnTo>
                <a:lnTo>
                  <a:pt x="1085" y="516"/>
                </a:lnTo>
                <a:lnTo>
                  <a:pt x="1066" y="508"/>
                </a:lnTo>
                <a:lnTo>
                  <a:pt x="1050" y="502"/>
                </a:lnTo>
                <a:lnTo>
                  <a:pt x="1031" y="496"/>
                </a:lnTo>
                <a:lnTo>
                  <a:pt x="1014" y="489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89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6"/>
                </a:lnTo>
                <a:lnTo>
                  <a:pt x="602" y="524"/>
                </a:lnTo>
                <a:lnTo>
                  <a:pt x="585" y="533"/>
                </a:lnTo>
                <a:lnTo>
                  <a:pt x="568" y="542"/>
                </a:lnTo>
                <a:lnTo>
                  <a:pt x="551" y="551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3"/>
                </a:lnTo>
                <a:lnTo>
                  <a:pt x="464" y="590"/>
                </a:lnTo>
                <a:lnTo>
                  <a:pt x="446" y="596"/>
                </a:lnTo>
                <a:lnTo>
                  <a:pt x="428" y="601"/>
                </a:lnTo>
                <a:lnTo>
                  <a:pt x="411" y="605"/>
                </a:lnTo>
                <a:lnTo>
                  <a:pt x="393" y="609"/>
                </a:lnTo>
                <a:lnTo>
                  <a:pt x="374" y="612"/>
                </a:lnTo>
                <a:lnTo>
                  <a:pt x="356" y="615"/>
                </a:lnTo>
                <a:lnTo>
                  <a:pt x="338" y="617"/>
                </a:lnTo>
                <a:lnTo>
                  <a:pt x="320" y="618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8"/>
                </a:lnTo>
                <a:lnTo>
                  <a:pt x="229" y="617"/>
                </a:lnTo>
                <a:lnTo>
                  <a:pt x="211" y="615"/>
                </a:lnTo>
                <a:lnTo>
                  <a:pt x="193" y="612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3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33840" y="460044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5" y="517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3840" y="460044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5" y="517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7" y="508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2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30400" y="1419120"/>
            <a:ext cx="2833560" cy="49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0400" y="1419120"/>
            <a:ext cx="2833560" cy="492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49280" y="1496880"/>
            <a:ext cx="242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1.  Preparing the project concept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33640" y="3247920"/>
            <a:ext cx="1181160" cy="738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33640" y="3247920"/>
            <a:ext cx="1181160" cy="73836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3216240"/>
            <a:ext cx="1441440" cy="10159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 rot="10800000">
            <a:off x="1034640" y="3240000"/>
            <a:ext cx="136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2. Identifying funding agencies and possible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30400" y="4708440"/>
            <a:ext cx="28335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30400" y="4708440"/>
            <a:ext cx="28335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71560" y="5372280"/>
            <a:ext cx="19353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1560" y="5372280"/>
            <a:ext cx="19353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4960" y="6027840"/>
            <a:ext cx="2001960" cy="492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04960" y="6027840"/>
            <a:ext cx="2001960" cy="492120"/>
          </a:xfrm>
          <a:prstGeom prst="rect">
            <a:avLst/>
          </a:prstGeom>
          <a:solidFill>
            <a:srgbClr val="ff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24640" y="977760"/>
            <a:ext cx="70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4680" y="977760"/>
            <a:ext cx="83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4800" y="4232160"/>
            <a:ext cx="773280" cy="420840"/>
          </a:xfrm>
          <a:custGeom>
            <a:avLst/>
            <a:gdLst/>
            <a:ahLst/>
            <a:rect l="l" t="t" r="r" b="b"/>
            <a:pathLst>
              <a:path w="487" h="529">
                <a:moveTo>
                  <a:pt x="0" y="0"/>
                </a:moveTo>
                <a:lnTo>
                  <a:pt x="0" y="176"/>
                </a:lnTo>
                <a:lnTo>
                  <a:pt x="487" y="176"/>
                </a:lnTo>
                <a:lnTo>
                  <a:pt x="487" y="52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96960" y="4643280"/>
            <a:ext cx="10188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2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35720" y="1419120"/>
            <a:ext cx="180324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5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7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2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35720" y="1419120"/>
            <a:ext cx="1803240" cy="492120"/>
          </a:xfrm>
          <a:custGeom>
            <a:avLst/>
            <a:gdLst/>
            <a:ahLst/>
            <a:rect l="l" t="t" r="r" b="b"/>
            <a:pathLst>
              <a:path w="1136" h="619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4"/>
                </a:lnTo>
                <a:lnTo>
                  <a:pt x="1085" y="516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4"/>
                </a:lnTo>
                <a:lnTo>
                  <a:pt x="1015" y="489"/>
                </a:lnTo>
                <a:lnTo>
                  <a:pt x="997" y="484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4"/>
                </a:lnTo>
                <a:lnTo>
                  <a:pt x="691" y="489"/>
                </a:lnTo>
                <a:lnTo>
                  <a:pt x="673" y="494"/>
                </a:lnTo>
                <a:lnTo>
                  <a:pt x="654" y="502"/>
                </a:lnTo>
                <a:lnTo>
                  <a:pt x="637" y="508"/>
                </a:lnTo>
                <a:lnTo>
                  <a:pt x="621" y="516"/>
                </a:lnTo>
                <a:lnTo>
                  <a:pt x="602" y="524"/>
                </a:lnTo>
                <a:lnTo>
                  <a:pt x="586" y="533"/>
                </a:lnTo>
                <a:lnTo>
                  <a:pt x="569" y="542"/>
                </a:lnTo>
                <a:lnTo>
                  <a:pt x="552" y="551"/>
                </a:lnTo>
                <a:lnTo>
                  <a:pt x="535" y="561"/>
                </a:lnTo>
                <a:lnTo>
                  <a:pt x="517" y="569"/>
                </a:lnTo>
                <a:lnTo>
                  <a:pt x="500" y="576"/>
                </a:lnTo>
                <a:lnTo>
                  <a:pt x="482" y="583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09"/>
                </a:lnTo>
                <a:lnTo>
                  <a:pt x="375" y="612"/>
                </a:lnTo>
                <a:lnTo>
                  <a:pt x="357" y="614"/>
                </a:lnTo>
                <a:lnTo>
                  <a:pt x="339" y="617"/>
                </a:lnTo>
                <a:lnTo>
                  <a:pt x="321" y="618"/>
                </a:lnTo>
                <a:lnTo>
                  <a:pt x="302" y="619"/>
                </a:lnTo>
                <a:lnTo>
                  <a:pt x="284" y="619"/>
                </a:lnTo>
                <a:lnTo>
                  <a:pt x="266" y="619"/>
                </a:lnTo>
                <a:lnTo>
                  <a:pt x="248" y="618"/>
                </a:lnTo>
                <a:lnTo>
                  <a:pt x="230" y="617"/>
                </a:lnTo>
                <a:lnTo>
                  <a:pt x="212" y="614"/>
                </a:lnTo>
                <a:lnTo>
                  <a:pt x="193" y="612"/>
                </a:lnTo>
                <a:lnTo>
                  <a:pt x="175" y="609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3"/>
                </a:lnTo>
                <a:lnTo>
                  <a:pt x="69" y="576"/>
                </a:lnTo>
                <a:lnTo>
                  <a:pt x="52" y="569"/>
                </a:lnTo>
                <a:lnTo>
                  <a:pt x="35" y="561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0320" y="1454040"/>
            <a:ext cx="13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ject Concept Paper (P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37160" y="381492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3"/>
                </a:moveTo>
                <a:lnTo>
                  <a:pt x="0" y="0"/>
                </a:lnTo>
                <a:lnTo>
                  <a:pt x="1136" y="0"/>
                </a:lnTo>
                <a:lnTo>
                  <a:pt x="1136" y="543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7"/>
                </a:lnTo>
                <a:lnTo>
                  <a:pt x="1066" y="509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5"/>
                </a:lnTo>
                <a:lnTo>
                  <a:pt x="978" y="481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1"/>
                </a:lnTo>
                <a:lnTo>
                  <a:pt x="707" y="485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9"/>
                </a:lnTo>
                <a:lnTo>
                  <a:pt x="620" y="517"/>
                </a:lnTo>
                <a:lnTo>
                  <a:pt x="601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7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37160" y="469908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6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8"/>
                </a:lnTo>
                <a:lnTo>
                  <a:pt x="620" y="516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37160" y="4699080"/>
            <a:ext cx="180360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8" y="533"/>
                </a:lnTo>
                <a:lnTo>
                  <a:pt x="1101" y="525"/>
                </a:lnTo>
                <a:lnTo>
                  <a:pt x="1084" y="516"/>
                </a:lnTo>
                <a:lnTo>
                  <a:pt x="1066" y="508"/>
                </a:lnTo>
                <a:lnTo>
                  <a:pt x="1049" y="502"/>
                </a:lnTo>
                <a:lnTo>
                  <a:pt x="1031" y="496"/>
                </a:lnTo>
                <a:lnTo>
                  <a:pt x="1014" y="490"/>
                </a:lnTo>
                <a:lnTo>
                  <a:pt x="996" y="484"/>
                </a:lnTo>
                <a:lnTo>
                  <a:pt x="978" y="480"/>
                </a:lnTo>
                <a:lnTo>
                  <a:pt x="960" y="476"/>
                </a:lnTo>
                <a:lnTo>
                  <a:pt x="942" y="473"/>
                </a:lnTo>
                <a:lnTo>
                  <a:pt x="925" y="470"/>
                </a:lnTo>
                <a:lnTo>
                  <a:pt x="907" y="468"/>
                </a:lnTo>
                <a:lnTo>
                  <a:pt x="888" y="466"/>
                </a:lnTo>
                <a:lnTo>
                  <a:pt x="870" y="466"/>
                </a:lnTo>
                <a:lnTo>
                  <a:pt x="852" y="465"/>
                </a:lnTo>
                <a:lnTo>
                  <a:pt x="834" y="466"/>
                </a:lnTo>
                <a:lnTo>
                  <a:pt x="816" y="466"/>
                </a:lnTo>
                <a:lnTo>
                  <a:pt x="797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6"/>
                </a:lnTo>
                <a:lnTo>
                  <a:pt x="725" y="480"/>
                </a:lnTo>
                <a:lnTo>
                  <a:pt x="707" y="484"/>
                </a:lnTo>
                <a:lnTo>
                  <a:pt x="690" y="490"/>
                </a:lnTo>
                <a:lnTo>
                  <a:pt x="672" y="496"/>
                </a:lnTo>
                <a:lnTo>
                  <a:pt x="655" y="502"/>
                </a:lnTo>
                <a:lnTo>
                  <a:pt x="636" y="508"/>
                </a:lnTo>
                <a:lnTo>
                  <a:pt x="620" y="516"/>
                </a:lnTo>
                <a:lnTo>
                  <a:pt x="601" y="525"/>
                </a:lnTo>
                <a:lnTo>
                  <a:pt x="585" y="533"/>
                </a:lnTo>
                <a:lnTo>
                  <a:pt x="568" y="542"/>
                </a:lnTo>
                <a:lnTo>
                  <a:pt x="551" y="552"/>
                </a:lnTo>
                <a:lnTo>
                  <a:pt x="534" y="561"/>
                </a:lnTo>
                <a:lnTo>
                  <a:pt x="516" y="569"/>
                </a:lnTo>
                <a:lnTo>
                  <a:pt x="499" y="576"/>
                </a:lnTo>
                <a:lnTo>
                  <a:pt x="481" y="584"/>
                </a:lnTo>
                <a:lnTo>
                  <a:pt x="464" y="590"/>
                </a:lnTo>
                <a:lnTo>
                  <a:pt x="446" y="596"/>
                </a:lnTo>
                <a:lnTo>
                  <a:pt x="427" y="601"/>
                </a:lnTo>
                <a:lnTo>
                  <a:pt x="411" y="605"/>
                </a:lnTo>
                <a:lnTo>
                  <a:pt x="392" y="609"/>
                </a:lnTo>
                <a:lnTo>
                  <a:pt x="374" y="613"/>
                </a:lnTo>
                <a:lnTo>
                  <a:pt x="356" y="616"/>
                </a:lnTo>
                <a:lnTo>
                  <a:pt x="338" y="618"/>
                </a:lnTo>
                <a:lnTo>
                  <a:pt x="320" y="619"/>
                </a:lnTo>
                <a:lnTo>
                  <a:pt x="301" y="620"/>
                </a:lnTo>
                <a:lnTo>
                  <a:pt x="283" y="620"/>
                </a:lnTo>
                <a:lnTo>
                  <a:pt x="265" y="620"/>
                </a:lnTo>
                <a:lnTo>
                  <a:pt x="247" y="619"/>
                </a:lnTo>
                <a:lnTo>
                  <a:pt x="229" y="618"/>
                </a:lnTo>
                <a:lnTo>
                  <a:pt x="211" y="616"/>
                </a:lnTo>
                <a:lnTo>
                  <a:pt x="192" y="613"/>
                </a:lnTo>
                <a:lnTo>
                  <a:pt x="176" y="609"/>
                </a:lnTo>
                <a:lnTo>
                  <a:pt x="157" y="605"/>
                </a:lnTo>
                <a:lnTo>
                  <a:pt x="139" y="601"/>
                </a:lnTo>
                <a:lnTo>
                  <a:pt x="121" y="596"/>
                </a:lnTo>
                <a:lnTo>
                  <a:pt x="104" y="590"/>
                </a:lnTo>
                <a:lnTo>
                  <a:pt x="86" y="584"/>
                </a:lnTo>
                <a:lnTo>
                  <a:pt x="69" y="576"/>
                </a:lnTo>
                <a:lnTo>
                  <a:pt x="51" y="569"/>
                </a:lnTo>
                <a:lnTo>
                  <a:pt x="34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38280" y="5200560"/>
            <a:ext cx="144360" cy="417600"/>
          </a:xfrm>
          <a:custGeom>
            <a:avLst/>
            <a:gdLst/>
            <a:ahLst/>
            <a:rect l="l" t="t" r="r" b="b"/>
            <a:pathLst>
              <a:path w="91" h="527">
                <a:moveTo>
                  <a:pt x="0" y="0"/>
                </a:moveTo>
                <a:lnTo>
                  <a:pt x="0" y="527"/>
                </a:lnTo>
                <a:lnTo>
                  <a:pt x="91" y="52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0040" y="5586480"/>
            <a:ext cx="101520" cy="63360"/>
          </a:xfrm>
          <a:custGeom>
            <a:avLst/>
            <a:gdLst/>
            <a:ahLst/>
            <a:rect l="l" t="t" r="r" b="b"/>
            <a:pathLst>
              <a:path w="64" h="80">
                <a:moveTo>
                  <a:pt x="0" y="0"/>
                </a:moveTo>
                <a:lnTo>
                  <a:pt x="64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5200560"/>
            <a:ext cx="287280" cy="1073160"/>
          </a:xfrm>
          <a:custGeom>
            <a:avLst/>
            <a:gdLst/>
            <a:ahLst/>
            <a:rect l="l" t="t" r="r" b="b"/>
            <a:pathLst>
              <a:path w="181" h="1353">
                <a:moveTo>
                  <a:pt x="0" y="0"/>
                </a:moveTo>
                <a:lnTo>
                  <a:pt x="0" y="1353"/>
                </a:lnTo>
                <a:lnTo>
                  <a:pt x="181" y="135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6242040"/>
            <a:ext cx="98280" cy="63360"/>
          </a:xfrm>
          <a:custGeom>
            <a:avLst/>
            <a:gdLst/>
            <a:ahLst/>
            <a:rect l="l" t="t" r="r" b="b"/>
            <a:pathLst>
              <a:path w="62" h="81">
                <a:moveTo>
                  <a:pt x="0" y="0"/>
                </a:moveTo>
                <a:lnTo>
                  <a:pt x="62" y="40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10160" y="5372280"/>
            <a:ext cx="1830600" cy="492120"/>
          </a:xfrm>
          <a:custGeom>
            <a:avLst/>
            <a:gdLst/>
            <a:ahLst/>
            <a:rect l="l" t="t" r="r" b="b"/>
            <a:pathLst>
              <a:path w="1153" h="620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5"/>
                </a:lnTo>
                <a:lnTo>
                  <a:pt x="1100" y="517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6"/>
                </a:lnTo>
                <a:lnTo>
                  <a:pt x="1029" y="490"/>
                </a:lnTo>
                <a:lnTo>
                  <a:pt x="1011" y="485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6"/>
                </a:lnTo>
                <a:lnTo>
                  <a:pt x="883" y="466"/>
                </a:lnTo>
                <a:lnTo>
                  <a:pt x="865" y="465"/>
                </a:lnTo>
                <a:lnTo>
                  <a:pt x="846" y="466"/>
                </a:lnTo>
                <a:lnTo>
                  <a:pt x="827" y="466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5"/>
                </a:lnTo>
                <a:lnTo>
                  <a:pt x="700" y="490"/>
                </a:lnTo>
                <a:lnTo>
                  <a:pt x="682" y="496"/>
                </a:lnTo>
                <a:lnTo>
                  <a:pt x="664" y="502"/>
                </a:lnTo>
                <a:lnTo>
                  <a:pt x="647" y="508"/>
                </a:lnTo>
                <a:lnTo>
                  <a:pt x="629" y="517"/>
                </a:lnTo>
                <a:lnTo>
                  <a:pt x="611" y="525"/>
                </a:lnTo>
                <a:lnTo>
                  <a:pt x="594" y="533"/>
                </a:lnTo>
                <a:lnTo>
                  <a:pt x="577" y="542"/>
                </a:lnTo>
                <a:lnTo>
                  <a:pt x="559" y="552"/>
                </a:lnTo>
                <a:lnTo>
                  <a:pt x="542" y="561"/>
                </a:lnTo>
                <a:lnTo>
                  <a:pt x="524" y="569"/>
                </a:lnTo>
                <a:lnTo>
                  <a:pt x="507" y="577"/>
                </a:lnTo>
                <a:lnTo>
                  <a:pt x="489" y="584"/>
                </a:lnTo>
                <a:lnTo>
                  <a:pt x="470" y="590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10"/>
                </a:lnTo>
                <a:lnTo>
                  <a:pt x="381" y="613"/>
                </a:lnTo>
                <a:lnTo>
                  <a:pt x="361" y="616"/>
                </a:lnTo>
                <a:lnTo>
                  <a:pt x="343" y="618"/>
                </a:lnTo>
                <a:lnTo>
                  <a:pt x="325" y="619"/>
                </a:lnTo>
                <a:lnTo>
                  <a:pt x="307" y="620"/>
                </a:lnTo>
                <a:lnTo>
                  <a:pt x="289" y="620"/>
                </a:lnTo>
                <a:lnTo>
                  <a:pt x="270" y="620"/>
                </a:lnTo>
                <a:lnTo>
                  <a:pt x="251" y="619"/>
                </a:lnTo>
                <a:lnTo>
                  <a:pt x="233" y="618"/>
                </a:lnTo>
                <a:lnTo>
                  <a:pt x="215" y="616"/>
                </a:lnTo>
                <a:lnTo>
                  <a:pt x="196" y="613"/>
                </a:lnTo>
                <a:lnTo>
                  <a:pt x="178" y="610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90"/>
                </a:lnTo>
                <a:lnTo>
                  <a:pt x="89" y="584"/>
                </a:lnTo>
                <a:lnTo>
                  <a:pt x="70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0160" y="5372280"/>
            <a:ext cx="1830600" cy="492120"/>
          </a:xfrm>
          <a:custGeom>
            <a:avLst/>
            <a:gdLst/>
            <a:ahLst/>
            <a:rect l="l" t="t" r="r" b="b"/>
            <a:pathLst>
              <a:path w="1153" h="620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5"/>
                </a:lnTo>
                <a:lnTo>
                  <a:pt x="1100" y="517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6"/>
                </a:lnTo>
                <a:lnTo>
                  <a:pt x="1029" y="490"/>
                </a:lnTo>
                <a:lnTo>
                  <a:pt x="1011" y="485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6"/>
                </a:lnTo>
                <a:lnTo>
                  <a:pt x="883" y="466"/>
                </a:lnTo>
                <a:lnTo>
                  <a:pt x="865" y="465"/>
                </a:lnTo>
                <a:lnTo>
                  <a:pt x="846" y="466"/>
                </a:lnTo>
                <a:lnTo>
                  <a:pt x="827" y="466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5"/>
                </a:lnTo>
                <a:lnTo>
                  <a:pt x="700" y="490"/>
                </a:lnTo>
                <a:lnTo>
                  <a:pt x="682" y="496"/>
                </a:lnTo>
                <a:lnTo>
                  <a:pt x="664" y="502"/>
                </a:lnTo>
                <a:lnTo>
                  <a:pt x="647" y="508"/>
                </a:lnTo>
                <a:lnTo>
                  <a:pt x="629" y="517"/>
                </a:lnTo>
                <a:lnTo>
                  <a:pt x="611" y="525"/>
                </a:lnTo>
                <a:lnTo>
                  <a:pt x="594" y="533"/>
                </a:lnTo>
                <a:lnTo>
                  <a:pt x="577" y="542"/>
                </a:lnTo>
                <a:lnTo>
                  <a:pt x="559" y="552"/>
                </a:lnTo>
                <a:lnTo>
                  <a:pt x="542" y="561"/>
                </a:lnTo>
                <a:lnTo>
                  <a:pt x="524" y="569"/>
                </a:lnTo>
                <a:lnTo>
                  <a:pt x="507" y="577"/>
                </a:lnTo>
                <a:lnTo>
                  <a:pt x="489" y="584"/>
                </a:lnTo>
                <a:lnTo>
                  <a:pt x="470" y="590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10"/>
                </a:lnTo>
                <a:lnTo>
                  <a:pt x="381" y="613"/>
                </a:lnTo>
                <a:lnTo>
                  <a:pt x="361" y="616"/>
                </a:lnTo>
                <a:lnTo>
                  <a:pt x="343" y="618"/>
                </a:lnTo>
                <a:lnTo>
                  <a:pt x="325" y="619"/>
                </a:lnTo>
                <a:lnTo>
                  <a:pt x="307" y="620"/>
                </a:lnTo>
                <a:lnTo>
                  <a:pt x="289" y="620"/>
                </a:lnTo>
                <a:lnTo>
                  <a:pt x="270" y="620"/>
                </a:lnTo>
                <a:lnTo>
                  <a:pt x="251" y="619"/>
                </a:lnTo>
                <a:lnTo>
                  <a:pt x="233" y="618"/>
                </a:lnTo>
                <a:lnTo>
                  <a:pt x="215" y="616"/>
                </a:lnTo>
                <a:lnTo>
                  <a:pt x="196" y="613"/>
                </a:lnTo>
                <a:lnTo>
                  <a:pt x="178" y="610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90"/>
                </a:lnTo>
                <a:lnTo>
                  <a:pt x="89" y="584"/>
                </a:lnTo>
                <a:lnTo>
                  <a:pt x="70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0160" y="6027840"/>
            <a:ext cx="1830600" cy="492120"/>
          </a:xfrm>
          <a:custGeom>
            <a:avLst/>
            <a:gdLst/>
            <a:ahLst/>
            <a:rect l="l" t="t" r="r" b="b"/>
            <a:pathLst>
              <a:path w="1153" h="619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4"/>
                </a:lnTo>
                <a:lnTo>
                  <a:pt x="1100" y="516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5"/>
                </a:lnTo>
                <a:lnTo>
                  <a:pt x="1029" y="489"/>
                </a:lnTo>
                <a:lnTo>
                  <a:pt x="1011" y="484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5"/>
                </a:lnTo>
                <a:lnTo>
                  <a:pt x="883" y="465"/>
                </a:lnTo>
                <a:lnTo>
                  <a:pt x="865" y="464"/>
                </a:lnTo>
                <a:lnTo>
                  <a:pt x="846" y="465"/>
                </a:lnTo>
                <a:lnTo>
                  <a:pt x="827" y="465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4"/>
                </a:lnTo>
                <a:lnTo>
                  <a:pt x="700" y="489"/>
                </a:lnTo>
                <a:lnTo>
                  <a:pt x="682" y="495"/>
                </a:lnTo>
                <a:lnTo>
                  <a:pt x="664" y="502"/>
                </a:lnTo>
                <a:lnTo>
                  <a:pt x="647" y="508"/>
                </a:lnTo>
                <a:lnTo>
                  <a:pt x="629" y="516"/>
                </a:lnTo>
                <a:lnTo>
                  <a:pt x="611" y="524"/>
                </a:lnTo>
                <a:lnTo>
                  <a:pt x="594" y="533"/>
                </a:lnTo>
                <a:lnTo>
                  <a:pt x="577" y="542"/>
                </a:lnTo>
                <a:lnTo>
                  <a:pt x="559" y="551"/>
                </a:lnTo>
                <a:lnTo>
                  <a:pt x="542" y="560"/>
                </a:lnTo>
                <a:lnTo>
                  <a:pt x="524" y="569"/>
                </a:lnTo>
                <a:lnTo>
                  <a:pt x="507" y="576"/>
                </a:lnTo>
                <a:lnTo>
                  <a:pt x="489" y="583"/>
                </a:lnTo>
                <a:lnTo>
                  <a:pt x="470" y="589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09"/>
                </a:lnTo>
                <a:lnTo>
                  <a:pt x="381" y="612"/>
                </a:lnTo>
                <a:lnTo>
                  <a:pt x="361" y="615"/>
                </a:lnTo>
                <a:lnTo>
                  <a:pt x="343" y="617"/>
                </a:lnTo>
                <a:lnTo>
                  <a:pt x="325" y="618"/>
                </a:lnTo>
                <a:lnTo>
                  <a:pt x="307" y="619"/>
                </a:lnTo>
                <a:lnTo>
                  <a:pt x="289" y="619"/>
                </a:lnTo>
                <a:lnTo>
                  <a:pt x="270" y="619"/>
                </a:lnTo>
                <a:lnTo>
                  <a:pt x="251" y="618"/>
                </a:lnTo>
                <a:lnTo>
                  <a:pt x="233" y="617"/>
                </a:lnTo>
                <a:lnTo>
                  <a:pt x="215" y="615"/>
                </a:lnTo>
                <a:lnTo>
                  <a:pt x="196" y="612"/>
                </a:lnTo>
                <a:lnTo>
                  <a:pt x="178" y="609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89"/>
                </a:lnTo>
                <a:lnTo>
                  <a:pt x="89" y="583"/>
                </a:lnTo>
                <a:lnTo>
                  <a:pt x="70" y="576"/>
                </a:lnTo>
                <a:lnTo>
                  <a:pt x="52" y="569"/>
                </a:lnTo>
                <a:lnTo>
                  <a:pt x="35" y="560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160" y="6027840"/>
            <a:ext cx="1830600" cy="492120"/>
          </a:xfrm>
          <a:custGeom>
            <a:avLst/>
            <a:gdLst/>
            <a:ahLst/>
            <a:rect l="l" t="t" r="r" b="b"/>
            <a:pathLst>
              <a:path w="1153" h="619">
                <a:moveTo>
                  <a:pt x="0" y="542"/>
                </a:moveTo>
                <a:lnTo>
                  <a:pt x="0" y="0"/>
                </a:lnTo>
                <a:lnTo>
                  <a:pt x="1153" y="0"/>
                </a:lnTo>
                <a:lnTo>
                  <a:pt x="1153" y="542"/>
                </a:lnTo>
                <a:lnTo>
                  <a:pt x="1135" y="533"/>
                </a:lnTo>
                <a:lnTo>
                  <a:pt x="1118" y="524"/>
                </a:lnTo>
                <a:lnTo>
                  <a:pt x="1100" y="516"/>
                </a:lnTo>
                <a:lnTo>
                  <a:pt x="1083" y="508"/>
                </a:lnTo>
                <a:lnTo>
                  <a:pt x="1065" y="502"/>
                </a:lnTo>
                <a:lnTo>
                  <a:pt x="1047" y="495"/>
                </a:lnTo>
                <a:lnTo>
                  <a:pt x="1029" y="489"/>
                </a:lnTo>
                <a:lnTo>
                  <a:pt x="1011" y="484"/>
                </a:lnTo>
                <a:lnTo>
                  <a:pt x="992" y="480"/>
                </a:lnTo>
                <a:lnTo>
                  <a:pt x="974" y="476"/>
                </a:lnTo>
                <a:lnTo>
                  <a:pt x="956" y="473"/>
                </a:lnTo>
                <a:lnTo>
                  <a:pt x="938" y="470"/>
                </a:lnTo>
                <a:lnTo>
                  <a:pt x="920" y="468"/>
                </a:lnTo>
                <a:lnTo>
                  <a:pt x="901" y="465"/>
                </a:lnTo>
                <a:lnTo>
                  <a:pt x="883" y="465"/>
                </a:lnTo>
                <a:lnTo>
                  <a:pt x="865" y="464"/>
                </a:lnTo>
                <a:lnTo>
                  <a:pt x="846" y="465"/>
                </a:lnTo>
                <a:lnTo>
                  <a:pt x="827" y="465"/>
                </a:lnTo>
                <a:lnTo>
                  <a:pt x="809" y="468"/>
                </a:lnTo>
                <a:lnTo>
                  <a:pt x="791" y="470"/>
                </a:lnTo>
                <a:lnTo>
                  <a:pt x="773" y="473"/>
                </a:lnTo>
                <a:lnTo>
                  <a:pt x="755" y="476"/>
                </a:lnTo>
                <a:lnTo>
                  <a:pt x="737" y="480"/>
                </a:lnTo>
                <a:lnTo>
                  <a:pt x="718" y="484"/>
                </a:lnTo>
                <a:lnTo>
                  <a:pt x="700" y="489"/>
                </a:lnTo>
                <a:lnTo>
                  <a:pt x="682" y="495"/>
                </a:lnTo>
                <a:lnTo>
                  <a:pt x="664" y="502"/>
                </a:lnTo>
                <a:lnTo>
                  <a:pt x="647" y="508"/>
                </a:lnTo>
                <a:lnTo>
                  <a:pt x="629" y="516"/>
                </a:lnTo>
                <a:lnTo>
                  <a:pt x="611" y="524"/>
                </a:lnTo>
                <a:lnTo>
                  <a:pt x="594" y="533"/>
                </a:lnTo>
                <a:lnTo>
                  <a:pt x="577" y="542"/>
                </a:lnTo>
                <a:lnTo>
                  <a:pt x="559" y="551"/>
                </a:lnTo>
                <a:lnTo>
                  <a:pt x="542" y="560"/>
                </a:lnTo>
                <a:lnTo>
                  <a:pt x="524" y="569"/>
                </a:lnTo>
                <a:lnTo>
                  <a:pt x="507" y="576"/>
                </a:lnTo>
                <a:lnTo>
                  <a:pt x="489" y="583"/>
                </a:lnTo>
                <a:lnTo>
                  <a:pt x="470" y="589"/>
                </a:lnTo>
                <a:lnTo>
                  <a:pt x="454" y="596"/>
                </a:lnTo>
                <a:lnTo>
                  <a:pt x="435" y="601"/>
                </a:lnTo>
                <a:lnTo>
                  <a:pt x="417" y="605"/>
                </a:lnTo>
                <a:lnTo>
                  <a:pt x="399" y="609"/>
                </a:lnTo>
                <a:lnTo>
                  <a:pt x="381" y="612"/>
                </a:lnTo>
                <a:lnTo>
                  <a:pt x="361" y="615"/>
                </a:lnTo>
                <a:lnTo>
                  <a:pt x="343" y="617"/>
                </a:lnTo>
                <a:lnTo>
                  <a:pt x="325" y="618"/>
                </a:lnTo>
                <a:lnTo>
                  <a:pt x="307" y="619"/>
                </a:lnTo>
                <a:lnTo>
                  <a:pt x="289" y="619"/>
                </a:lnTo>
                <a:lnTo>
                  <a:pt x="270" y="619"/>
                </a:lnTo>
                <a:lnTo>
                  <a:pt x="251" y="618"/>
                </a:lnTo>
                <a:lnTo>
                  <a:pt x="233" y="617"/>
                </a:lnTo>
                <a:lnTo>
                  <a:pt x="215" y="615"/>
                </a:lnTo>
                <a:lnTo>
                  <a:pt x="196" y="612"/>
                </a:lnTo>
                <a:lnTo>
                  <a:pt x="178" y="609"/>
                </a:lnTo>
                <a:lnTo>
                  <a:pt x="160" y="605"/>
                </a:lnTo>
                <a:lnTo>
                  <a:pt x="142" y="601"/>
                </a:lnTo>
                <a:lnTo>
                  <a:pt x="124" y="596"/>
                </a:lnTo>
                <a:lnTo>
                  <a:pt x="106" y="589"/>
                </a:lnTo>
                <a:lnTo>
                  <a:pt x="89" y="583"/>
                </a:lnTo>
                <a:lnTo>
                  <a:pt x="70" y="576"/>
                </a:lnTo>
                <a:lnTo>
                  <a:pt x="52" y="569"/>
                </a:lnTo>
                <a:lnTo>
                  <a:pt x="35" y="560"/>
                </a:lnTo>
                <a:lnTo>
                  <a:pt x="17" y="551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35720" y="3141720"/>
            <a:ext cx="180324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5"/>
                </a:lnTo>
                <a:lnTo>
                  <a:pt x="1085" y="517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5"/>
                </a:lnTo>
                <a:lnTo>
                  <a:pt x="1015" y="490"/>
                </a:lnTo>
                <a:lnTo>
                  <a:pt x="997" y="485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5"/>
                </a:lnTo>
                <a:lnTo>
                  <a:pt x="691" y="490"/>
                </a:lnTo>
                <a:lnTo>
                  <a:pt x="673" y="495"/>
                </a:lnTo>
                <a:lnTo>
                  <a:pt x="654" y="502"/>
                </a:lnTo>
                <a:lnTo>
                  <a:pt x="637" y="508"/>
                </a:lnTo>
                <a:lnTo>
                  <a:pt x="621" y="517"/>
                </a:lnTo>
                <a:lnTo>
                  <a:pt x="602" y="525"/>
                </a:lnTo>
                <a:lnTo>
                  <a:pt x="586" y="533"/>
                </a:lnTo>
                <a:lnTo>
                  <a:pt x="569" y="542"/>
                </a:lnTo>
                <a:lnTo>
                  <a:pt x="552" y="552"/>
                </a:lnTo>
                <a:lnTo>
                  <a:pt x="535" y="561"/>
                </a:lnTo>
                <a:lnTo>
                  <a:pt x="517" y="569"/>
                </a:lnTo>
                <a:lnTo>
                  <a:pt x="500" y="577"/>
                </a:lnTo>
                <a:lnTo>
                  <a:pt x="482" y="584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10"/>
                </a:lnTo>
                <a:lnTo>
                  <a:pt x="375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2" y="620"/>
                </a:lnTo>
                <a:lnTo>
                  <a:pt x="284" y="620"/>
                </a:lnTo>
                <a:lnTo>
                  <a:pt x="266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3" y="613"/>
                </a:lnTo>
                <a:lnTo>
                  <a:pt x="175" y="610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4"/>
                </a:lnTo>
                <a:lnTo>
                  <a:pt x="69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35720" y="3141720"/>
            <a:ext cx="1803240" cy="492120"/>
          </a:xfrm>
          <a:custGeom>
            <a:avLst/>
            <a:gdLst/>
            <a:ahLst/>
            <a:rect l="l" t="t" r="r" b="b"/>
            <a:pathLst>
              <a:path w="1136" h="620">
                <a:moveTo>
                  <a:pt x="0" y="542"/>
                </a:moveTo>
                <a:lnTo>
                  <a:pt x="0" y="0"/>
                </a:lnTo>
                <a:lnTo>
                  <a:pt x="1136" y="0"/>
                </a:lnTo>
                <a:lnTo>
                  <a:pt x="1136" y="542"/>
                </a:lnTo>
                <a:lnTo>
                  <a:pt x="1119" y="533"/>
                </a:lnTo>
                <a:lnTo>
                  <a:pt x="1102" y="525"/>
                </a:lnTo>
                <a:lnTo>
                  <a:pt x="1085" y="517"/>
                </a:lnTo>
                <a:lnTo>
                  <a:pt x="1067" y="508"/>
                </a:lnTo>
                <a:lnTo>
                  <a:pt x="1050" y="502"/>
                </a:lnTo>
                <a:lnTo>
                  <a:pt x="1032" y="495"/>
                </a:lnTo>
                <a:lnTo>
                  <a:pt x="1015" y="490"/>
                </a:lnTo>
                <a:lnTo>
                  <a:pt x="997" y="485"/>
                </a:lnTo>
                <a:lnTo>
                  <a:pt x="979" y="480"/>
                </a:lnTo>
                <a:lnTo>
                  <a:pt x="961" y="476"/>
                </a:lnTo>
                <a:lnTo>
                  <a:pt x="943" y="472"/>
                </a:lnTo>
                <a:lnTo>
                  <a:pt x="926" y="470"/>
                </a:lnTo>
                <a:lnTo>
                  <a:pt x="908" y="468"/>
                </a:lnTo>
                <a:lnTo>
                  <a:pt x="889" y="466"/>
                </a:lnTo>
                <a:lnTo>
                  <a:pt x="871" y="465"/>
                </a:lnTo>
                <a:lnTo>
                  <a:pt x="853" y="465"/>
                </a:lnTo>
                <a:lnTo>
                  <a:pt x="835" y="465"/>
                </a:lnTo>
                <a:lnTo>
                  <a:pt x="817" y="466"/>
                </a:lnTo>
                <a:lnTo>
                  <a:pt x="798" y="468"/>
                </a:lnTo>
                <a:lnTo>
                  <a:pt x="780" y="470"/>
                </a:lnTo>
                <a:lnTo>
                  <a:pt x="762" y="472"/>
                </a:lnTo>
                <a:lnTo>
                  <a:pt x="744" y="476"/>
                </a:lnTo>
                <a:lnTo>
                  <a:pt x="726" y="480"/>
                </a:lnTo>
                <a:lnTo>
                  <a:pt x="708" y="485"/>
                </a:lnTo>
                <a:lnTo>
                  <a:pt x="691" y="490"/>
                </a:lnTo>
                <a:lnTo>
                  <a:pt x="673" y="495"/>
                </a:lnTo>
                <a:lnTo>
                  <a:pt x="654" y="502"/>
                </a:lnTo>
                <a:lnTo>
                  <a:pt x="637" y="508"/>
                </a:lnTo>
                <a:lnTo>
                  <a:pt x="621" y="517"/>
                </a:lnTo>
                <a:lnTo>
                  <a:pt x="602" y="525"/>
                </a:lnTo>
                <a:lnTo>
                  <a:pt x="586" y="533"/>
                </a:lnTo>
                <a:lnTo>
                  <a:pt x="569" y="542"/>
                </a:lnTo>
                <a:lnTo>
                  <a:pt x="552" y="552"/>
                </a:lnTo>
                <a:lnTo>
                  <a:pt x="535" y="561"/>
                </a:lnTo>
                <a:lnTo>
                  <a:pt x="517" y="569"/>
                </a:lnTo>
                <a:lnTo>
                  <a:pt x="500" y="577"/>
                </a:lnTo>
                <a:lnTo>
                  <a:pt x="482" y="584"/>
                </a:lnTo>
                <a:lnTo>
                  <a:pt x="465" y="590"/>
                </a:lnTo>
                <a:lnTo>
                  <a:pt x="447" y="595"/>
                </a:lnTo>
                <a:lnTo>
                  <a:pt x="428" y="600"/>
                </a:lnTo>
                <a:lnTo>
                  <a:pt x="412" y="605"/>
                </a:lnTo>
                <a:lnTo>
                  <a:pt x="393" y="610"/>
                </a:lnTo>
                <a:lnTo>
                  <a:pt x="375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2" y="620"/>
                </a:lnTo>
                <a:lnTo>
                  <a:pt x="284" y="620"/>
                </a:lnTo>
                <a:lnTo>
                  <a:pt x="266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3" y="613"/>
                </a:lnTo>
                <a:lnTo>
                  <a:pt x="175" y="610"/>
                </a:lnTo>
                <a:lnTo>
                  <a:pt x="158" y="605"/>
                </a:lnTo>
                <a:lnTo>
                  <a:pt x="140" y="600"/>
                </a:lnTo>
                <a:lnTo>
                  <a:pt x="122" y="595"/>
                </a:lnTo>
                <a:lnTo>
                  <a:pt x="105" y="590"/>
                </a:lnTo>
                <a:lnTo>
                  <a:pt x="87" y="584"/>
                </a:lnTo>
                <a:lnTo>
                  <a:pt x="69" y="577"/>
                </a:lnTo>
                <a:lnTo>
                  <a:pt x="52" y="569"/>
                </a:lnTo>
                <a:lnTo>
                  <a:pt x="35" y="561"/>
                </a:lnTo>
                <a:lnTo>
                  <a:pt x="17" y="552"/>
                </a:lnTo>
                <a:lnTo>
                  <a:pt x="0" y="542"/>
                </a:lnTo>
                <a:lnTo>
                  <a:pt x="0" y="54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5720" y="1255680"/>
            <a:ext cx="2860920" cy="5575320"/>
          </a:xfrm>
          <a:prstGeom prst="rect">
            <a:avLst/>
          </a:prstGeom>
          <a:noFill/>
          <a:ln w="27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4600" y="1662120"/>
            <a:ext cx="1473120" cy="7920"/>
          </a:xfrm>
          <a:custGeom>
            <a:avLst/>
            <a:gdLst/>
            <a:ahLst/>
            <a:rect l="l" t="t" r="r" b="b"/>
            <a:pathLst>
              <a:path w="928" h="11">
                <a:moveTo>
                  <a:pt x="6" y="0"/>
                </a:moveTo>
                <a:lnTo>
                  <a:pt x="103" y="0"/>
                </a:lnTo>
                <a:lnTo>
                  <a:pt x="105" y="0"/>
                </a:lnTo>
                <a:lnTo>
                  <a:pt x="108" y="1"/>
                </a:lnTo>
                <a:lnTo>
                  <a:pt x="109" y="4"/>
                </a:lnTo>
                <a:lnTo>
                  <a:pt x="109" y="6"/>
                </a:lnTo>
                <a:lnTo>
                  <a:pt x="109" y="8"/>
                </a:lnTo>
                <a:lnTo>
                  <a:pt x="108" y="10"/>
                </a:lnTo>
                <a:lnTo>
                  <a:pt x="105" y="11"/>
                </a:lnTo>
                <a:lnTo>
                  <a:pt x="103" y="11"/>
                </a:lnTo>
                <a:lnTo>
                  <a:pt x="6" y="11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3" y="1"/>
                </a:lnTo>
                <a:lnTo>
                  <a:pt x="274" y="4"/>
                </a:lnTo>
                <a:lnTo>
                  <a:pt x="274" y="6"/>
                </a:lnTo>
                <a:lnTo>
                  <a:pt x="274" y="8"/>
                </a:lnTo>
                <a:lnTo>
                  <a:pt x="273" y="10"/>
                </a:lnTo>
                <a:lnTo>
                  <a:pt x="270" y="11"/>
                </a:lnTo>
                <a:lnTo>
                  <a:pt x="267" y="11"/>
                </a:lnTo>
                <a:lnTo>
                  <a:pt x="171" y="11"/>
                </a:lnTo>
                <a:lnTo>
                  <a:pt x="169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6"/>
                </a:lnTo>
                <a:lnTo>
                  <a:pt x="165" y="4"/>
                </a:lnTo>
                <a:lnTo>
                  <a:pt x="166" y="1"/>
                </a:lnTo>
                <a:lnTo>
                  <a:pt x="169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8" y="1"/>
                </a:lnTo>
                <a:lnTo>
                  <a:pt x="439" y="4"/>
                </a:lnTo>
                <a:lnTo>
                  <a:pt x="439" y="6"/>
                </a:lnTo>
                <a:lnTo>
                  <a:pt x="439" y="8"/>
                </a:lnTo>
                <a:lnTo>
                  <a:pt x="438" y="10"/>
                </a:lnTo>
                <a:lnTo>
                  <a:pt x="435" y="11"/>
                </a:lnTo>
                <a:lnTo>
                  <a:pt x="432" y="11"/>
                </a:lnTo>
                <a:lnTo>
                  <a:pt x="336" y="11"/>
                </a:lnTo>
                <a:lnTo>
                  <a:pt x="334" y="11"/>
                </a:lnTo>
                <a:lnTo>
                  <a:pt x="331" y="10"/>
                </a:lnTo>
                <a:lnTo>
                  <a:pt x="330" y="8"/>
                </a:lnTo>
                <a:lnTo>
                  <a:pt x="330" y="6"/>
                </a:lnTo>
                <a:lnTo>
                  <a:pt x="330" y="4"/>
                </a:lnTo>
                <a:lnTo>
                  <a:pt x="331" y="1"/>
                </a:lnTo>
                <a:lnTo>
                  <a:pt x="334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4" y="4"/>
                </a:lnTo>
                <a:lnTo>
                  <a:pt x="604" y="6"/>
                </a:lnTo>
                <a:lnTo>
                  <a:pt x="604" y="8"/>
                </a:lnTo>
                <a:lnTo>
                  <a:pt x="602" y="10"/>
                </a:lnTo>
                <a:lnTo>
                  <a:pt x="600" y="11"/>
                </a:lnTo>
                <a:lnTo>
                  <a:pt x="597" y="11"/>
                </a:lnTo>
                <a:lnTo>
                  <a:pt x="501" y="11"/>
                </a:lnTo>
                <a:lnTo>
                  <a:pt x="499" y="11"/>
                </a:lnTo>
                <a:lnTo>
                  <a:pt x="496" y="10"/>
                </a:lnTo>
                <a:lnTo>
                  <a:pt x="495" y="8"/>
                </a:lnTo>
                <a:lnTo>
                  <a:pt x="495" y="6"/>
                </a:lnTo>
                <a:lnTo>
                  <a:pt x="495" y="4"/>
                </a:lnTo>
                <a:lnTo>
                  <a:pt x="496" y="1"/>
                </a:lnTo>
                <a:lnTo>
                  <a:pt x="499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5" y="0"/>
                </a:lnTo>
                <a:lnTo>
                  <a:pt x="767" y="1"/>
                </a:lnTo>
                <a:lnTo>
                  <a:pt x="769" y="4"/>
                </a:lnTo>
                <a:lnTo>
                  <a:pt x="769" y="6"/>
                </a:lnTo>
                <a:lnTo>
                  <a:pt x="769" y="8"/>
                </a:lnTo>
                <a:lnTo>
                  <a:pt x="767" y="10"/>
                </a:lnTo>
                <a:lnTo>
                  <a:pt x="765" y="11"/>
                </a:lnTo>
                <a:lnTo>
                  <a:pt x="762" y="11"/>
                </a:lnTo>
                <a:lnTo>
                  <a:pt x="666" y="11"/>
                </a:lnTo>
                <a:lnTo>
                  <a:pt x="663" y="11"/>
                </a:lnTo>
                <a:lnTo>
                  <a:pt x="661" y="10"/>
                </a:lnTo>
                <a:lnTo>
                  <a:pt x="660" y="8"/>
                </a:lnTo>
                <a:lnTo>
                  <a:pt x="660" y="6"/>
                </a:lnTo>
                <a:lnTo>
                  <a:pt x="660" y="4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2" y="0"/>
                </a:lnTo>
                <a:lnTo>
                  <a:pt x="924" y="0"/>
                </a:lnTo>
                <a:lnTo>
                  <a:pt x="927" y="1"/>
                </a:lnTo>
                <a:lnTo>
                  <a:pt x="928" y="4"/>
                </a:lnTo>
                <a:lnTo>
                  <a:pt x="928" y="6"/>
                </a:lnTo>
                <a:lnTo>
                  <a:pt x="928" y="8"/>
                </a:lnTo>
                <a:lnTo>
                  <a:pt x="927" y="10"/>
                </a:lnTo>
                <a:lnTo>
                  <a:pt x="924" y="11"/>
                </a:lnTo>
                <a:lnTo>
                  <a:pt x="922" y="11"/>
                </a:lnTo>
                <a:lnTo>
                  <a:pt x="831" y="11"/>
                </a:lnTo>
                <a:lnTo>
                  <a:pt x="828" y="11"/>
                </a:lnTo>
                <a:lnTo>
                  <a:pt x="826" y="10"/>
                </a:lnTo>
                <a:lnTo>
                  <a:pt x="825" y="8"/>
                </a:lnTo>
                <a:lnTo>
                  <a:pt x="825" y="6"/>
                </a:lnTo>
                <a:lnTo>
                  <a:pt x="825" y="4"/>
                </a:lnTo>
                <a:lnTo>
                  <a:pt x="826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2160" y="1622520"/>
            <a:ext cx="133560" cy="87120"/>
          </a:xfrm>
          <a:custGeom>
            <a:avLst/>
            <a:gdLst/>
            <a:ahLst/>
            <a:rect l="l" t="t" r="r" b="b"/>
            <a:pathLst>
              <a:path w="84" h="108">
                <a:moveTo>
                  <a:pt x="0" y="0"/>
                </a:moveTo>
                <a:lnTo>
                  <a:pt x="84" y="54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05440" y="3382920"/>
            <a:ext cx="1322280" cy="238320"/>
          </a:xfrm>
          <a:custGeom>
            <a:avLst/>
            <a:gdLst/>
            <a:ahLst/>
            <a:rect l="l" t="t" r="r" b="b"/>
            <a:pathLst>
              <a:path w="833" h="299">
                <a:moveTo>
                  <a:pt x="6" y="289"/>
                </a:moveTo>
                <a:lnTo>
                  <a:pt x="102" y="289"/>
                </a:lnTo>
                <a:lnTo>
                  <a:pt x="105" y="289"/>
                </a:lnTo>
                <a:lnTo>
                  <a:pt x="108" y="290"/>
                </a:lnTo>
                <a:lnTo>
                  <a:pt x="109" y="292"/>
                </a:lnTo>
                <a:lnTo>
                  <a:pt x="109" y="294"/>
                </a:lnTo>
                <a:lnTo>
                  <a:pt x="109" y="296"/>
                </a:lnTo>
                <a:lnTo>
                  <a:pt x="108" y="298"/>
                </a:lnTo>
                <a:lnTo>
                  <a:pt x="105" y="299"/>
                </a:lnTo>
                <a:lnTo>
                  <a:pt x="102" y="299"/>
                </a:lnTo>
                <a:lnTo>
                  <a:pt x="6" y="299"/>
                </a:lnTo>
                <a:lnTo>
                  <a:pt x="4" y="299"/>
                </a:lnTo>
                <a:lnTo>
                  <a:pt x="1" y="298"/>
                </a:lnTo>
                <a:lnTo>
                  <a:pt x="0" y="296"/>
                </a:lnTo>
                <a:lnTo>
                  <a:pt x="0" y="294"/>
                </a:lnTo>
                <a:lnTo>
                  <a:pt x="0" y="292"/>
                </a:lnTo>
                <a:lnTo>
                  <a:pt x="1" y="290"/>
                </a:lnTo>
                <a:lnTo>
                  <a:pt x="4" y="289"/>
                </a:lnTo>
                <a:lnTo>
                  <a:pt x="6" y="289"/>
                </a:lnTo>
                <a:lnTo>
                  <a:pt x="6" y="289"/>
                </a:lnTo>
                <a:close/>
                <a:moveTo>
                  <a:pt x="171" y="289"/>
                </a:moveTo>
                <a:lnTo>
                  <a:pt x="250" y="289"/>
                </a:lnTo>
                <a:lnTo>
                  <a:pt x="243" y="294"/>
                </a:lnTo>
                <a:lnTo>
                  <a:pt x="243" y="281"/>
                </a:lnTo>
                <a:lnTo>
                  <a:pt x="244" y="278"/>
                </a:lnTo>
                <a:lnTo>
                  <a:pt x="245" y="277"/>
                </a:lnTo>
                <a:lnTo>
                  <a:pt x="246" y="276"/>
                </a:lnTo>
                <a:lnTo>
                  <a:pt x="250" y="275"/>
                </a:lnTo>
                <a:lnTo>
                  <a:pt x="253" y="276"/>
                </a:lnTo>
                <a:lnTo>
                  <a:pt x="254" y="277"/>
                </a:lnTo>
                <a:lnTo>
                  <a:pt x="256" y="278"/>
                </a:lnTo>
                <a:lnTo>
                  <a:pt x="257" y="281"/>
                </a:lnTo>
                <a:lnTo>
                  <a:pt x="257" y="294"/>
                </a:lnTo>
                <a:lnTo>
                  <a:pt x="256" y="296"/>
                </a:lnTo>
                <a:lnTo>
                  <a:pt x="254" y="298"/>
                </a:lnTo>
                <a:lnTo>
                  <a:pt x="253" y="299"/>
                </a:lnTo>
                <a:lnTo>
                  <a:pt x="250" y="299"/>
                </a:lnTo>
                <a:lnTo>
                  <a:pt x="171" y="299"/>
                </a:lnTo>
                <a:lnTo>
                  <a:pt x="169" y="299"/>
                </a:lnTo>
                <a:lnTo>
                  <a:pt x="166" y="298"/>
                </a:lnTo>
                <a:lnTo>
                  <a:pt x="165" y="296"/>
                </a:lnTo>
                <a:lnTo>
                  <a:pt x="165" y="294"/>
                </a:lnTo>
                <a:lnTo>
                  <a:pt x="165" y="292"/>
                </a:lnTo>
                <a:lnTo>
                  <a:pt x="166" y="290"/>
                </a:lnTo>
                <a:lnTo>
                  <a:pt x="169" y="289"/>
                </a:lnTo>
                <a:lnTo>
                  <a:pt x="171" y="289"/>
                </a:lnTo>
                <a:lnTo>
                  <a:pt x="171" y="289"/>
                </a:lnTo>
                <a:close/>
                <a:moveTo>
                  <a:pt x="243" y="226"/>
                </a:moveTo>
                <a:lnTo>
                  <a:pt x="243" y="150"/>
                </a:lnTo>
                <a:lnTo>
                  <a:pt x="244" y="147"/>
                </a:lnTo>
                <a:lnTo>
                  <a:pt x="245" y="146"/>
                </a:lnTo>
                <a:lnTo>
                  <a:pt x="246" y="144"/>
                </a:lnTo>
                <a:lnTo>
                  <a:pt x="250" y="143"/>
                </a:lnTo>
                <a:lnTo>
                  <a:pt x="253" y="144"/>
                </a:lnTo>
                <a:lnTo>
                  <a:pt x="254" y="146"/>
                </a:lnTo>
                <a:lnTo>
                  <a:pt x="256" y="147"/>
                </a:lnTo>
                <a:lnTo>
                  <a:pt x="257" y="150"/>
                </a:lnTo>
                <a:lnTo>
                  <a:pt x="257" y="226"/>
                </a:lnTo>
                <a:lnTo>
                  <a:pt x="256" y="228"/>
                </a:lnTo>
                <a:lnTo>
                  <a:pt x="254" y="229"/>
                </a:lnTo>
                <a:lnTo>
                  <a:pt x="253" y="230"/>
                </a:lnTo>
                <a:lnTo>
                  <a:pt x="250" y="231"/>
                </a:lnTo>
                <a:lnTo>
                  <a:pt x="246" y="230"/>
                </a:lnTo>
                <a:lnTo>
                  <a:pt x="245" y="229"/>
                </a:lnTo>
                <a:lnTo>
                  <a:pt x="244" y="228"/>
                </a:lnTo>
                <a:lnTo>
                  <a:pt x="243" y="226"/>
                </a:lnTo>
                <a:lnTo>
                  <a:pt x="243" y="226"/>
                </a:lnTo>
                <a:close/>
                <a:moveTo>
                  <a:pt x="243" y="95"/>
                </a:moveTo>
                <a:lnTo>
                  <a:pt x="243" y="18"/>
                </a:lnTo>
                <a:lnTo>
                  <a:pt x="244" y="15"/>
                </a:lnTo>
                <a:lnTo>
                  <a:pt x="245" y="14"/>
                </a:lnTo>
                <a:lnTo>
                  <a:pt x="246" y="13"/>
                </a:lnTo>
                <a:lnTo>
                  <a:pt x="250" y="12"/>
                </a:lnTo>
                <a:lnTo>
                  <a:pt x="253" y="13"/>
                </a:lnTo>
                <a:lnTo>
                  <a:pt x="254" y="14"/>
                </a:lnTo>
                <a:lnTo>
                  <a:pt x="256" y="15"/>
                </a:lnTo>
                <a:lnTo>
                  <a:pt x="257" y="18"/>
                </a:lnTo>
                <a:lnTo>
                  <a:pt x="257" y="95"/>
                </a:lnTo>
                <a:lnTo>
                  <a:pt x="256" y="97"/>
                </a:lnTo>
                <a:lnTo>
                  <a:pt x="254" y="98"/>
                </a:lnTo>
                <a:lnTo>
                  <a:pt x="253" y="99"/>
                </a:lnTo>
                <a:lnTo>
                  <a:pt x="250" y="100"/>
                </a:lnTo>
                <a:lnTo>
                  <a:pt x="246" y="99"/>
                </a:lnTo>
                <a:lnTo>
                  <a:pt x="245" y="98"/>
                </a:lnTo>
                <a:lnTo>
                  <a:pt x="244" y="97"/>
                </a:lnTo>
                <a:lnTo>
                  <a:pt x="243" y="95"/>
                </a:lnTo>
                <a:lnTo>
                  <a:pt x="243" y="95"/>
                </a:lnTo>
                <a:close/>
                <a:moveTo>
                  <a:pt x="302" y="0"/>
                </a:moveTo>
                <a:lnTo>
                  <a:pt x="398" y="0"/>
                </a:lnTo>
                <a:lnTo>
                  <a:pt x="401" y="0"/>
                </a:lnTo>
                <a:lnTo>
                  <a:pt x="404" y="1"/>
                </a:lnTo>
                <a:lnTo>
                  <a:pt x="405" y="3"/>
                </a:lnTo>
                <a:lnTo>
                  <a:pt x="405" y="5"/>
                </a:lnTo>
                <a:lnTo>
                  <a:pt x="405" y="7"/>
                </a:lnTo>
                <a:lnTo>
                  <a:pt x="404" y="9"/>
                </a:lnTo>
                <a:lnTo>
                  <a:pt x="401" y="10"/>
                </a:lnTo>
                <a:lnTo>
                  <a:pt x="398" y="10"/>
                </a:lnTo>
                <a:lnTo>
                  <a:pt x="302" y="10"/>
                </a:lnTo>
                <a:lnTo>
                  <a:pt x="300" y="10"/>
                </a:lnTo>
                <a:lnTo>
                  <a:pt x="297" y="9"/>
                </a:lnTo>
                <a:lnTo>
                  <a:pt x="296" y="7"/>
                </a:lnTo>
                <a:lnTo>
                  <a:pt x="296" y="5"/>
                </a:lnTo>
                <a:lnTo>
                  <a:pt x="296" y="3"/>
                </a:lnTo>
                <a:lnTo>
                  <a:pt x="297" y="1"/>
                </a:lnTo>
                <a:lnTo>
                  <a:pt x="300" y="0"/>
                </a:lnTo>
                <a:lnTo>
                  <a:pt x="302" y="0"/>
                </a:lnTo>
                <a:lnTo>
                  <a:pt x="302" y="0"/>
                </a:lnTo>
                <a:close/>
                <a:moveTo>
                  <a:pt x="467" y="0"/>
                </a:moveTo>
                <a:lnTo>
                  <a:pt x="563" y="0"/>
                </a:lnTo>
                <a:lnTo>
                  <a:pt x="566" y="0"/>
                </a:lnTo>
                <a:lnTo>
                  <a:pt x="568" y="1"/>
                </a:lnTo>
                <a:lnTo>
                  <a:pt x="570" y="3"/>
                </a:lnTo>
                <a:lnTo>
                  <a:pt x="570" y="5"/>
                </a:lnTo>
                <a:lnTo>
                  <a:pt x="570" y="7"/>
                </a:lnTo>
                <a:lnTo>
                  <a:pt x="568" y="9"/>
                </a:lnTo>
                <a:lnTo>
                  <a:pt x="566" y="10"/>
                </a:lnTo>
                <a:lnTo>
                  <a:pt x="563" y="10"/>
                </a:lnTo>
                <a:lnTo>
                  <a:pt x="467" y="10"/>
                </a:lnTo>
                <a:lnTo>
                  <a:pt x="465" y="10"/>
                </a:lnTo>
                <a:lnTo>
                  <a:pt x="462" y="9"/>
                </a:lnTo>
                <a:lnTo>
                  <a:pt x="461" y="7"/>
                </a:lnTo>
                <a:lnTo>
                  <a:pt x="461" y="5"/>
                </a:lnTo>
                <a:lnTo>
                  <a:pt x="461" y="3"/>
                </a:lnTo>
                <a:lnTo>
                  <a:pt x="462" y="1"/>
                </a:lnTo>
                <a:lnTo>
                  <a:pt x="465" y="0"/>
                </a:lnTo>
                <a:lnTo>
                  <a:pt x="467" y="0"/>
                </a:lnTo>
                <a:lnTo>
                  <a:pt x="467" y="0"/>
                </a:lnTo>
                <a:close/>
                <a:moveTo>
                  <a:pt x="632" y="0"/>
                </a:moveTo>
                <a:lnTo>
                  <a:pt x="728" y="0"/>
                </a:lnTo>
                <a:lnTo>
                  <a:pt x="731" y="0"/>
                </a:lnTo>
                <a:lnTo>
                  <a:pt x="733" y="1"/>
                </a:lnTo>
                <a:lnTo>
                  <a:pt x="735" y="3"/>
                </a:lnTo>
                <a:lnTo>
                  <a:pt x="735" y="5"/>
                </a:lnTo>
                <a:lnTo>
                  <a:pt x="735" y="7"/>
                </a:lnTo>
                <a:lnTo>
                  <a:pt x="733" y="9"/>
                </a:lnTo>
                <a:lnTo>
                  <a:pt x="731" y="10"/>
                </a:lnTo>
                <a:lnTo>
                  <a:pt x="728" y="10"/>
                </a:lnTo>
                <a:lnTo>
                  <a:pt x="632" y="10"/>
                </a:lnTo>
                <a:lnTo>
                  <a:pt x="630" y="10"/>
                </a:lnTo>
                <a:lnTo>
                  <a:pt x="627" y="9"/>
                </a:lnTo>
                <a:lnTo>
                  <a:pt x="626" y="7"/>
                </a:lnTo>
                <a:lnTo>
                  <a:pt x="626" y="5"/>
                </a:lnTo>
                <a:lnTo>
                  <a:pt x="626" y="3"/>
                </a:lnTo>
                <a:lnTo>
                  <a:pt x="627" y="1"/>
                </a:lnTo>
                <a:lnTo>
                  <a:pt x="630" y="0"/>
                </a:lnTo>
                <a:lnTo>
                  <a:pt x="632" y="0"/>
                </a:lnTo>
                <a:lnTo>
                  <a:pt x="632" y="0"/>
                </a:lnTo>
                <a:close/>
                <a:moveTo>
                  <a:pt x="797" y="0"/>
                </a:moveTo>
                <a:lnTo>
                  <a:pt x="827" y="0"/>
                </a:lnTo>
                <a:lnTo>
                  <a:pt x="829" y="0"/>
                </a:lnTo>
                <a:lnTo>
                  <a:pt x="832" y="1"/>
                </a:lnTo>
                <a:lnTo>
                  <a:pt x="833" y="3"/>
                </a:lnTo>
                <a:lnTo>
                  <a:pt x="833" y="5"/>
                </a:lnTo>
                <a:lnTo>
                  <a:pt x="833" y="7"/>
                </a:lnTo>
                <a:lnTo>
                  <a:pt x="832" y="9"/>
                </a:lnTo>
                <a:lnTo>
                  <a:pt x="829" y="10"/>
                </a:lnTo>
                <a:lnTo>
                  <a:pt x="827" y="10"/>
                </a:lnTo>
                <a:lnTo>
                  <a:pt x="797" y="10"/>
                </a:lnTo>
                <a:lnTo>
                  <a:pt x="794" y="10"/>
                </a:lnTo>
                <a:lnTo>
                  <a:pt x="792" y="9"/>
                </a:lnTo>
                <a:lnTo>
                  <a:pt x="791" y="7"/>
                </a:lnTo>
                <a:lnTo>
                  <a:pt x="791" y="5"/>
                </a:lnTo>
                <a:lnTo>
                  <a:pt x="791" y="3"/>
                </a:lnTo>
                <a:lnTo>
                  <a:pt x="792" y="1"/>
                </a:lnTo>
                <a:lnTo>
                  <a:pt x="794" y="0"/>
                </a:lnTo>
                <a:lnTo>
                  <a:pt x="797" y="0"/>
                </a:lnTo>
                <a:lnTo>
                  <a:pt x="79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02160" y="3344760"/>
            <a:ext cx="133560" cy="85680"/>
          </a:xfrm>
          <a:custGeom>
            <a:avLst/>
            <a:gdLst/>
            <a:ahLst/>
            <a:rect l="l" t="t" r="r" b="b"/>
            <a:pathLst>
              <a:path w="84" h="109">
                <a:moveTo>
                  <a:pt x="0" y="0"/>
                </a:moveTo>
                <a:lnTo>
                  <a:pt x="84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08400" y="3719520"/>
            <a:ext cx="2914560" cy="376200"/>
          </a:xfrm>
          <a:custGeom>
            <a:avLst/>
            <a:gdLst/>
            <a:ahLst/>
            <a:rect l="l" t="t" r="r" b="b"/>
            <a:pathLst>
              <a:path w="1836" h="474">
                <a:moveTo>
                  <a:pt x="7" y="0"/>
                </a:moveTo>
                <a:lnTo>
                  <a:pt x="103" y="0"/>
                </a:lnTo>
                <a:lnTo>
                  <a:pt x="105" y="0"/>
                </a:lnTo>
                <a:lnTo>
                  <a:pt x="108" y="1"/>
                </a:lnTo>
                <a:lnTo>
                  <a:pt x="109" y="4"/>
                </a:lnTo>
                <a:lnTo>
                  <a:pt x="109" y="6"/>
                </a:lnTo>
                <a:lnTo>
                  <a:pt x="109" y="8"/>
                </a:lnTo>
                <a:lnTo>
                  <a:pt x="108" y="10"/>
                </a:lnTo>
                <a:lnTo>
                  <a:pt x="105" y="11"/>
                </a:lnTo>
                <a:lnTo>
                  <a:pt x="103" y="11"/>
                </a:lnTo>
                <a:lnTo>
                  <a:pt x="7" y="11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71" y="0"/>
                </a:moveTo>
                <a:lnTo>
                  <a:pt x="227" y="0"/>
                </a:lnTo>
                <a:lnTo>
                  <a:pt x="230" y="0"/>
                </a:lnTo>
                <a:lnTo>
                  <a:pt x="233" y="1"/>
                </a:lnTo>
                <a:lnTo>
                  <a:pt x="234" y="4"/>
                </a:lnTo>
                <a:lnTo>
                  <a:pt x="234" y="6"/>
                </a:lnTo>
                <a:lnTo>
                  <a:pt x="234" y="38"/>
                </a:lnTo>
                <a:lnTo>
                  <a:pt x="234" y="40"/>
                </a:lnTo>
                <a:lnTo>
                  <a:pt x="233" y="42"/>
                </a:lnTo>
                <a:lnTo>
                  <a:pt x="230" y="43"/>
                </a:lnTo>
                <a:lnTo>
                  <a:pt x="227" y="44"/>
                </a:lnTo>
                <a:lnTo>
                  <a:pt x="225" y="43"/>
                </a:lnTo>
                <a:lnTo>
                  <a:pt x="222" y="42"/>
                </a:lnTo>
                <a:lnTo>
                  <a:pt x="221" y="40"/>
                </a:lnTo>
                <a:lnTo>
                  <a:pt x="221" y="38"/>
                </a:lnTo>
                <a:lnTo>
                  <a:pt x="221" y="6"/>
                </a:lnTo>
                <a:lnTo>
                  <a:pt x="227" y="11"/>
                </a:lnTo>
                <a:lnTo>
                  <a:pt x="171" y="11"/>
                </a:lnTo>
                <a:lnTo>
                  <a:pt x="169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6"/>
                </a:lnTo>
                <a:lnTo>
                  <a:pt x="165" y="4"/>
                </a:lnTo>
                <a:lnTo>
                  <a:pt x="166" y="1"/>
                </a:lnTo>
                <a:lnTo>
                  <a:pt x="169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234" y="92"/>
                </a:moveTo>
                <a:lnTo>
                  <a:pt x="234" y="169"/>
                </a:lnTo>
                <a:lnTo>
                  <a:pt x="234" y="171"/>
                </a:lnTo>
                <a:lnTo>
                  <a:pt x="233" y="173"/>
                </a:lnTo>
                <a:lnTo>
                  <a:pt x="230" y="174"/>
                </a:lnTo>
                <a:lnTo>
                  <a:pt x="227" y="175"/>
                </a:lnTo>
                <a:lnTo>
                  <a:pt x="225" y="174"/>
                </a:lnTo>
                <a:lnTo>
                  <a:pt x="222" y="173"/>
                </a:lnTo>
                <a:lnTo>
                  <a:pt x="221" y="171"/>
                </a:lnTo>
                <a:lnTo>
                  <a:pt x="221" y="169"/>
                </a:lnTo>
                <a:lnTo>
                  <a:pt x="221" y="92"/>
                </a:lnTo>
                <a:lnTo>
                  <a:pt x="221" y="90"/>
                </a:lnTo>
                <a:lnTo>
                  <a:pt x="222" y="88"/>
                </a:lnTo>
                <a:lnTo>
                  <a:pt x="225" y="87"/>
                </a:lnTo>
                <a:lnTo>
                  <a:pt x="227" y="87"/>
                </a:lnTo>
                <a:lnTo>
                  <a:pt x="230" y="87"/>
                </a:lnTo>
                <a:lnTo>
                  <a:pt x="233" y="88"/>
                </a:lnTo>
                <a:lnTo>
                  <a:pt x="234" y="90"/>
                </a:lnTo>
                <a:lnTo>
                  <a:pt x="234" y="92"/>
                </a:lnTo>
                <a:lnTo>
                  <a:pt x="234" y="92"/>
                </a:lnTo>
                <a:close/>
                <a:moveTo>
                  <a:pt x="234" y="224"/>
                </a:moveTo>
                <a:lnTo>
                  <a:pt x="234" y="300"/>
                </a:lnTo>
                <a:lnTo>
                  <a:pt x="234" y="302"/>
                </a:lnTo>
                <a:lnTo>
                  <a:pt x="233" y="304"/>
                </a:lnTo>
                <a:lnTo>
                  <a:pt x="230" y="305"/>
                </a:lnTo>
                <a:lnTo>
                  <a:pt x="227" y="306"/>
                </a:lnTo>
                <a:lnTo>
                  <a:pt x="225" y="305"/>
                </a:lnTo>
                <a:lnTo>
                  <a:pt x="222" y="304"/>
                </a:lnTo>
                <a:lnTo>
                  <a:pt x="221" y="302"/>
                </a:lnTo>
                <a:lnTo>
                  <a:pt x="221" y="300"/>
                </a:lnTo>
                <a:lnTo>
                  <a:pt x="221" y="224"/>
                </a:lnTo>
                <a:lnTo>
                  <a:pt x="221" y="222"/>
                </a:lnTo>
                <a:lnTo>
                  <a:pt x="222" y="219"/>
                </a:lnTo>
                <a:lnTo>
                  <a:pt x="225" y="218"/>
                </a:lnTo>
                <a:lnTo>
                  <a:pt x="227" y="218"/>
                </a:lnTo>
                <a:lnTo>
                  <a:pt x="230" y="218"/>
                </a:lnTo>
                <a:lnTo>
                  <a:pt x="233" y="219"/>
                </a:lnTo>
                <a:lnTo>
                  <a:pt x="234" y="222"/>
                </a:lnTo>
                <a:lnTo>
                  <a:pt x="234" y="224"/>
                </a:lnTo>
                <a:lnTo>
                  <a:pt x="234" y="224"/>
                </a:lnTo>
                <a:close/>
                <a:moveTo>
                  <a:pt x="234" y="355"/>
                </a:moveTo>
                <a:lnTo>
                  <a:pt x="234" y="431"/>
                </a:lnTo>
                <a:lnTo>
                  <a:pt x="234" y="433"/>
                </a:lnTo>
                <a:lnTo>
                  <a:pt x="233" y="435"/>
                </a:lnTo>
                <a:lnTo>
                  <a:pt x="230" y="436"/>
                </a:lnTo>
                <a:lnTo>
                  <a:pt x="227" y="437"/>
                </a:lnTo>
                <a:lnTo>
                  <a:pt x="225" y="436"/>
                </a:lnTo>
                <a:lnTo>
                  <a:pt x="222" y="435"/>
                </a:lnTo>
                <a:lnTo>
                  <a:pt x="221" y="433"/>
                </a:lnTo>
                <a:lnTo>
                  <a:pt x="221" y="431"/>
                </a:lnTo>
                <a:lnTo>
                  <a:pt x="221" y="355"/>
                </a:lnTo>
                <a:lnTo>
                  <a:pt x="221" y="353"/>
                </a:lnTo>
                <a:lnTo>
                  <a:pt x="222" y="351"/>
                </a:lnTo>
                <a:lnTo>
                  <a:pt x="225" y="350"/>
                </a:lnTo>
                <a:lnTo>
                  <a:pt x="227" y="350"/>
                </a:lnTo>
                <a:lnTo>
                  <a:pt x="230" y="350"/>
                </a:lnTo>
                <a:lnTo>
                  <a:pt x="233" y="351"/>
                </a:lnTo>
                <a:lnTo>
                  <a:pt x="234" y="353"/>
                </a:lnTo>
                <a:lnTo>
                  <a:pt x="234" y="355"/>
                </a:lnTo>
                <a:lnTo>
                  <a:pt x="234" y="355"/>
                </a:lnTo>
                <a:close/>
                <a:moveTo>
                  <a:pt x="249" y="463"/>
                </a:moveTo>
                <a:lnTo>
                  <a:pt x="345" y="463"/>
                </a:lnTo>
                <a:lnTo>
                  <a:pt x="348" y="463"/>
                </a:lnTo>
                <a:lnTo>
                  <a:pt x="351" y="464"/>
                </a:lnTo>
                <a:lnTo>
                  <a:pt x="352" y="466"/>
                </a:lnTo>
                <a:lnTo>
                  <a:pt x="352" y="468"/>
                </a:lnTo>
                <a:lnTo>
                  <a:pt x="352" y="470"/>
                </a:lnTo>
                <a:lnTo>
                  <a:pt x="351" y="473"/>
                </a:lnTo>
                <a:lnTo>
                  <a:pt x="348" y="474"/>
                </a:lnTo>
                <a:lnTo>
                  <a:pt x="345" y="474"/>
                </a:lnTo>
                <a:lnTo>
                  <a:pt x="249" y="474"/>
                </a:lnTo>
                <a:lnTo>
                  <a:pt x="247" y="474"/>
                </a:lnTo>
                <a:lnTo>
                  <a:pt x="244" y="473"/>
                </a:lnTo>
                <a:lnTo>
                  <a:pt x="243" y="470"/>
                </a:lnTo>
                <a:lnTo>
                  <a:pt x="243" y="468"/>
                </a:lnTo>
                <a:lnTo>
                  <a:pt x="243" y="466"/>
                </a:lnTo>
                <a:lnTo>
                  <a:pt x="244" y="464"/>
                </a:lnTo>
                <a:lnTo>
                  <a:pt x="247" y="463"/>
                </a:lnTo>
                <a:lnTo>
                  <a:pt x="249" y="463"/>
                </a:lnTo>
                <a:lnTo>
                  <a:pt x="249" y="463"/>
                </a:lnTo>
                <a:close/>
                <a:moveTo>
                  <a:pt x="414" y="463"/>
                </a:moveTo>
                <a:lnTo>
                  <a:pt x="510" y="463"/>
                </a:lnTo>
                <a:lnTo>
                  <a:pt x="513" y="463"/>
                </a:lnTo>
                <a:lnTo>
                  <a:pt x="516" y="464"/>
                </a:lnTo>
                <a:lnTo>
                  <a:pt x="517" y="466"/>
                </a:lnTo>
                <a:lnTo>
                  <a:pt x="517" y="468"/>
                </a:lnTo>
                <a:lnTo>
                  <a:pt x="517" y="470"/>
                </a:lnTo>
                <a:lnTo>
                  <a:pt x="516" y="473"/>
                </a:lnTo>
                <a:lnTo>
                  <a:pt x="513" y="474"/>
                </a:lnTo>
                <a:lnTo>
                  <a:pt x="510" y="474"/>
                </a:lnTo>
                <a:lnTo>
                  <a:pt x="414" y="474"/>
                </a:lnTo>
                <a:lnTo>
                  <a:pt x="412" y="474"/>
                </a:lnTo>
                <a:lnTo>
                  <a:pt x="409" y="473"/>
                </a:lnTo>
                <a:lnTo>
                  <a:pt x="408" y="470"/>
                </a:lnTo>
                <a:lnTo>
                  <a:pt x="408" y="468"/>
                </a:lnTo>
                <a:lnTo>
                  <a:pt x="408" y="466"/>
                </a:lnTo>
                <a:lnTo>
                  <a:pt x="409" y="464"/>
                </a:lnTo>
                <a:lnTo>
                  <a:pt x="412" y="463"/>
                </a:lnTo>
                <a:lnTo>
                  <a:pt x="414" y="463"/>
                </a:lnTo>
                <a:lnTo>
                  <a:pt x="414" y="463"/>
                </a:lnTo>
                <a:close/>
                <a:moveTo>
                  <a:pt x="579" y="463"/>
                </a:moveTo>
                <a:lnTo>
                  <a:pt x="649" y="463"/>
                </a:lnTo>
                <a:lnTo>
                  <a:pt x="643" y="468"/>
                </a:lnTo>
                <a:lnTo>
                  <a:pt x="643" y="461"/>
                </a:lnTo>
                <a:lnTo>
                  <a:pt x="643" y="454"/>
                </a:lnTo>
                <a:lnTo>
                  <a:pt x="645" y="448"/>
                </a:lnTo>
                <a:lnTo>
                  <a:pt x="645" y="447"/>
                </a:lnTo>
                <a:lnTo>
                  <a:pt x="645" y="445"/>
                </a:lnTo>
                <a:lnTo>
                  <a:pt x="648" y="444"/>
                </a:lnTo>
                <a:lnTo>
                  <a:pt x="651" y="443"/>
                </a:lnTo>
                <a:lnTo>
                  <a:pt x="653" y="443"/>
                </a:lnTo>
                <a:lnTo>
                  <a:pt x="656" y="444"/>
                </a:lnTo>
                <a:lnTo>
                  <a:pt x="657" y="445"/>
                </a:lnTo>
                <a:lnTo>
                  <a:pt x="658" y="447"/>
                </a:lnTo>
                <a:lnTo>
                  <a:pt x="658" y="449"/>
                </a:lnTo>
                <a:lnTo>
                  <a:pt x="658" y="449"/>
                </a:lnTo>
                <a:lnTo>
                  <a:pt x="658" y="449"/>
                </a:lnTo>
                <a:lnTo>
                  <a:pt x="657" y="455"/>
                </a:lnTo>
                <a:lnTo>
                  <a:pt x="656" y="462"/>
                </a:lnTo>
                <a:lnTo>
                  <a:pt x="656" y="468"/>
                </a:lnTo>
                <a:lnTo>
                  <a:pt x="656" y="470"/>
                </a:lnTo>
                <a:lnTo>
                  <a:pt x="653" y="473"/>
                </a:lnTo>
                <a:lnTo>
                  <a:pt x="652" y="474"/>
                </a:lnTo>
                <a:lnTo>
                  <a:pt x="649" y="474"/>
                </a:lnTo>
                <a:lnTo>
                  <a:pt x="579" y="474"/>
                </a:lnTo>
                <a:lnTo>
                  <a:pt x="577" y="474"/>
                </a:lnTo>
                <a:lnTo>
                  <a:pt x="574" y="473"/>
                </a:lnTo>
                <a:lnTo>
                  <a:pt x="573" y="470"/>
                </a:lnTo>
                <a:lnTo>
                  <a:pt x="573" y="468"/>
                </a:lnTo>
                <a:lnTo>
                  <a:pt x="573" y="466"/>
                </a:lnTo>
                <a:lnTo>
                  <a:pt x="574" y="464"/>
                </a:lnTo>
                <a:lnTo>
                  <a:pt x="577" y="463"/>
                </a:lnTo>
                <a:lnTo>
                  <a:pt x="579" y="463"/>
                </a:lnTo>
                <a:lnTo>
                  <a:pt x="579" y="463"/>
                </a:lnTo>
                <a:close/>
                <a:moveTo>
                  <a:pt x="683" y="398"/>
                </a:moveTo>
                <a:lnTo>
                  <a:pt x="683" y="398"/>
                </a:lnTo>
                <a:lnTo>
                  <a:pt x="684" y="398"/>
                </a:lnTo>
                <a:lnTo>
                  <a:pt x="690" y="396"/>
                </a:lnTo>
                <a:lnTo>
                  <a:pt x="691" y="396"/>
                </a:lnTo>
                <a:lnTo>
                  <a:pt x="696" y="395"/>
                </a:lnTo>
                <a:lnTo>
                  <a:pt x="697" y="395"/>
                </a:lnTo>
                <a:lnTo>
                  <a:pt x="703" y="394"/>
                </a:lnTo>
                <a:lnTo>
                  <a:pt x="704" y="394"/>
                </a:lnTo>
                <a:lnTo>
                  <a:pt x="709" y="395"/>
                </a:lnTo>
                <a:lnTo>
                  <a:pt x="710" y="395"/>
                </a:lnTo>
                <a:lnTo>
                  <a:pt x="716" y="396"/>
                </a:lnTo>
                <a:lnTo>
                  <a:pt x="717" y="396"/>
                </a:lnTo>
                <a:lnTo>
                  <a:pt x="722" y="398"/>
                </a:lnTo>
                <a:lnTo>
                  <a:pt x="723" y="398"/>
                </a:lnTo>
                <a:lnTo>
                  <a:pt x="727" y="400"/>
                </a:lnTo>
                <a:lnTo>
                  <a:pt x="734" y="403"/>
                </a:lnTo>
                <a:lnTo>
                  <a:pt x="739" y="407"/>
                </a:lnTo>
                <a:lnTo>
                  <a:pt x="743" y="412"/>
                </a:lnTo>
                <a:lnTo>
                  <a:pt x="747" y="417"/>
                </a:lnTo>
                <a:lnTo>
                  <a:pt x="751" y="422"/>
                </a:lnTo>
                <a:lnTo>
                  <a:pt x="755" y="428"/>
                </a:lnTo>
                <a:lnTo>
                  <a:pt x="760" y="441"/>
                </a:lnTo>
                <a:lnTo>
                  <a:pt x="760" y="442"/>
                </a:lnTo>
                <a:lnTo>
                  <a:pt x="760" y="444"/>
                </a:lnTo>
                <a:lnTo>
                  <a:pt x="760" y="446"/>
                </a:lnTo>
                <a:lnTo>
                  <a:pt x="757" y="448"/>
                </a:lnTo>
                <a:lnTo>
                  <a:pt x="755" y="448"/>
                </a:lnTo>
                <a:lnTo>
                  <a:pt x="752" y="448"/>
                </a:lnTo>
                <a:lnTo>
                  <a:pt x="749" y="448"/>
                </a:lnTo>
                <a:lnTo>
                  <a:pt x="748" y="446"/>
                </a:lnTo>
                <a:lnTo>
                  <a:pt x="747" y="444"/>
                </a:lnTo>
                <a:lnTo>
                  <a:pt x="747" y="444"/>
                </a:lnTo>
                <a:lnTo>
                  <a:pt x="742" y="432"/>
                </a:lnTo>
                <a:lnTo>
                  <a:pt x="739" y="427"/>
                </a:lnTo>
                <a:lnTo>
                  <a:pt x="736" y="423"/>
                </a:lnTo>
                <a:lnTo>
                  <a:pt x="732" y="419"/>
                </a:lnTo>
                <a:lnTo>
                  <a:pt x="729" y="416"/>
                </a:lnTo>
                <a:lnTo>
                  <a:pt x="725" y="413"/>
                </a:lnTo>
                <a:lnTo>
                  <a:pt x="721" y="410"/>
                </a:lnTo>
                <a:lnTo>
                  <a:pt x="716" y="407"/>
                </a:lnTo>
                <a:lnTo>
                  <a:pt x="717" y="407"/>
                </a:lnTo>
                <a:lnTo>
                  <a:pt x="712" y="406"/>
                </a:lnTo>
                <a:lnTo>
                  <a:pt x="713" y="406"/>
                </a:lnTo>
                <a:lnTo>
                  <a:pt x="708" y="405"/>
                </a:lnTo>
                <a:lnTo>
                  <a:pt x="708" y="405"/>
                </a:lnTo>
                <a:lnTo>
                  <a:pt x="703" y="405"/>
                </a:lnTo>
                <a:lnTo>
                  <a:pt x="704" y="405"/>
                </a:lnTo>
                <a:lnTo>
                  <a:pt x="699" y="405"/>
                </a:lnTo>
                <a:lnTo>
                  <a:pt x="700" y="405"/>
                </a:lnTo>
                <a:lnTo>
                  <a:pt x="693" y="406"/>
                </a:lnTo>
                <a:lnTo>
                  <a:pt x="695" y="406"/>
                </a:lnTo>
                <a:lnTo>
                  <a:pt x="690" y="407"/>
                </a:lnTo>
                <a:lnTo>
                  <a:pt x="691" y="407"/>
                </a:lnTo>
                <a:lnTo>
                  <a:pt x="691" y="407"/>
                </a:lnTo>
                <a:lnTo>
                  <a:pt x="688" y="408"/>
                </a:lnTo>
                <a:lnTo>
                  <a:pt x="686" y="408"/>
                </a:lnTo>
                <a:lnTo>
                  <a:pt x="683" y="407"/>
                </a:lnTo>
                <a:lnTo>
                  <a:pt x="681" y="405"/>
                </a:lnTo>
                <a:lnTo>
                  <a:pt x="681" y="403"/>
                </a:lnTo>
                <a:lnTo>
                  <a:pt x="681" y="401"/>
                </a:lnTo>
                <a:lnTo>
                  <a:pt x="682" y="399"/>
                </a:lnTo>
                <a:lnTo>
                  <a:pt x="683" y="398"/>
                </a:lnTo>
                <a:lnTo>
                  <a:pt x="683" y="398"/>
                </a:lnTo>
                <a:close/>
                <a:moveTo>
                  <a:pt x="793" y="463"/>
                </a:moveTo>
                <a:lnTo>
                  <a:pt x="890" y="463"/>
                </a:lnTo>
                <a:lnTo>
                  <a:pt x="892" y="463"/>
                </a:lnTo>
                <a:lnTo>
                  <a:pt x="895" y="464"/>
                </a:lnTo>
                <a:lnTo>
                  <a:pt x="896" y="466"/>
                </a:lnTo>
                <a:lnTo>
                  <a:pt x="896" y="468"/>
                </a:lnTo>
                <a:lnTo>
                  <a:pt x="896" y="470"/>
                </a:lnTo>
                <a:lnTo>
                  <a:pt x="895" y="473"/>
                </a:lnTo>
                <a:lnTo>
                  <a:pt x="892" y="474"/>
                </a:lnTo>
                <a:lnTo>
                  <a:pt x="890" y="474"/>
                </a:lnTo>
                <a:lnTo>
                  <a:pt x="793" y="474"/>
                </a:lnTo>
                <a:lnTo>
                  <a:pt x="791" y="474"/>
                </a:lnTo>
                <a:lnTo>
                  <a:pt x="788" y="473"/>
                </a:lnTo>
                <a:lnTo>
                  <a:pt x="787" y="470"/>
                </a:lnTo>
                <a:lnTo>
                  <a:pt x="787" y="468"/>
                </a:lnTo>
                <a:lnTo>
                  <a:pt x="787" y="466"/>
                </a:lnTo>
                <a:lnTo>
                  <a:pt x="788" y="464"/>
                </a:lnTo>
                <a:lnTo>
                  <a:pt x="791" y="463"/>
                </a:lnTo>
                <a:lnTo>
                  <a:pt x="793" y="463"/>
                </a:lnTo>
                <a:lnTo>
                  <a:pt x="793" y="463"/>
                </a:lnTo>
                <a:close/>
                <a:moveTo>
                  <a:pt x="958" y="463"/>
                </a:moveTo>
                <a:lnTo>
                  <a:pt x="1054" y="463"/>
                </a:lnTo>
                <a:lnTo>
                  <a:pt x="1057" y="463"/>
                </a:lnTo>
                <a:lnTo>
                  <a:pt x="1060" y="464"/>
                </a:lnTo>
                <a:lnTo>
                  <a:pt x="1061" y="466"/>
                </a:lnTo>
                <a:lnTo>
                  <a:pt x="1061" y="468"/>
                </a:lnTo>
                <a:lnTo>
                  <a:pt x="1061" y="470"/>
                </a:lnTo>
                <a:lnTo>
                  <a:pt x="1060" y="473"/>
                </a:lnTo>
                <a:lnTo>
                  <a:pt x="1057" y="474"/>
                </a:lnTo>
                <a:lnTo>
                  <a:pt x="1054" y="474"/>
                </a:lnTo>
                <a:lnTo>
                  <a:pt x="958" y="474"/>
                </a:lnTo>
                <a:lnTo>
                  <a:pt x="956" y="474"/>
                </a:lnTo>
                <a:lnTo>
                  <a:pt x="953" y="473"/>
                </a:lnTo>
                <a:lnTo>
                  <a:pt x="952" y="470"/>
                </a:lnTo>
                <a:lnTo>
                  <a:pt x="952" y="468"/>
                </a:lnTo>
                <a:lnTo>
                  <a:pt x="952" y="466"/>
                </a:lnTo>
                <a:lnTo>
                  <a:pt x="953" y="464"/>
                </a:lnTo>
                <a:lnTo>
                  <a:pt x="956" y="463"/>
                </a:lnTo>
                <a:lnTo>
                  <a:pt x="958" y="463"/>
                </a:lnTo>
                <a:lnTo>
                  <a:pt x="958" y="463"/>
                </a:lnTo>
                <a:close/>
                <a:moveTo>
                  <a:pt x="1123" y="463"/>
                </a:moveTo>
                <a:lnTo>
                  <a:pt x="1219" y="463"/>
                </a:lnTo>
                <a:lnTo>
                  <a:pt x="1222" y="463"/>
                </a:lnTo>
                <a:lnTo>
                  <a:pt x="1225" y="464"/>
                </a:lnTo>
                <a:lnTo>
                  <a:pt x="1226" y="466"/>
                </a:lnTo>
                <a:lnTo>
                  <a:pt x="1226" y="468"/>
                </a:lnTo>
                <a:lnTo>
                  <a:pt x="1226" y="470"/>
                </a:lnTo>
                <a:lnTo>
                  <a:pt x="1225" y="473"/>
                </a:lnTo>
                <a:lnTo>
                  <a:pt x="1222" y="474"/>
                </a:lnTo>
                <a:lnTo>
                  <a:pt x="1219" y="474"/>
                </a:lnTo>
                <a:lnTo>
                  <a:pt x="1123" y="474"/>
                </a:lnTo>
                <a:lnTo>
                  <a:pt x="1121" y="474"/>
                </a:lnTo>
                <a:lnTo>
                  <a:pt x="1118" y="473"/>
                </a:lnTo>
                <a:lnTo>
                  <a:pt x="1117" y="470"/>
                </a:lnTo>
                <a:lnTo>
                  <a:pt x="1117" y="468"/>
                </a:lnTo>
                <a:lnTo>
                  <a:pt x="1117" y="466"/>
                </a:lnTo>
                <a:lnTo>
                  <a:pt x="1118" y="464"/>
                </a:lnTo>
                <a:lnTo>
                  <a:pt x="1121" y="463"/>
                </a:lnTo>
                <a:lnTo>
                  <a:pt x="1123" y="463"/>
                </a:lnTo>
                <a:lnTo>
                  <a:pt x="1123" y="463"/>
                </a:lnTo>
                <a:close/>
                <a:moveTo>
                  <a:pt x="1288" y="463"/>
                </a:moveTo>
                <a:lnTo>
                  <a:pt x="1384" y="463"/>
                </a:lnTo>
                <a:lnTo>
                  <a:pt x="1387" y="463"/>
                </a:lnTo>
                <a:lnTo>
                  <a:pt x="1389" y="464"/>
                </a:lnTo>
                <a:lnTo>
                  <a:pt x="1391" y="466"/>
                </a:lnTo>
                <a:lnTo>
                  <a:pt x="1391" y="468"/>
                </a:lnTo>
                <a:lnTo>
                  <a:pt x="1391" y="470"/>
                </a:lnTo>
                <a:lnTo>
                  <a:pt x="1389" y="473"/>
                </a:lnTo>
                <a:lnTo>
                  <a:pt x="1387" y="474"/>
                </a:lnTo>
                <a:lnTo>
                  <a:pt x="1384" y="474"/>
                </a:lnTo>
                <a:lnTo>
                  <a:pt x="1288" y="474"/>
                </a:lnTo>
                <a:lnTo>
                  <a:pt x="1286" y="474"/>
                </a:lnTo>
                <a:lnTo>
                  <a:pt x="1283" y="473"/>
                </a:lnTo>
                <a:lnTo>
                  <a:pt x="1282" y="470"/>
                </a:lnTo>
                <a:lnTo>
                  <a:pt x="1282" y="468"/>
                </a:lnTo>
                <a:lnTo>
                  <a:pt x="1282" y="466"/>
                </a:lnTo>
                <a:lnTo>
                  <a:pt x="1283" y="464"/>
                </a:lnTo>
                <a:lnTo>
                  <a:pt x="1286" y="463"/>
                </a:lnTo>
                <a:lnTo>
                  <a:pt x="1288" y="463"/>
                </a:lnTo>
                <a:lnTo>
                  <a:pt x="1288" y="463"/>
                </a:lnTo>
                <a:close/>
                <a:moveTo>
                  <a:pt x="1453" y="463"/>
                </a:moveTo>
                <a:lnTo>
                  <a:pt x="1549" y="463"/>
                </a:lnTo>
                <a:lnTo>
                  <a:pt x="1552" y="463"/>
                </a:lnTo>
                <a:lnTo>
                  <a:pt x="1554" y="464"/>
                </a:lnTo>
                <a:lnTo>
                  <a:pt x="1556" y="466"/>
                </a:lnTo>
                <a:lnTo>
                  <a:pt x="1556" y="468"/>
                </a:lnTo>
                <a:lnTo>
                  <a:pt x="1556" y="470"/>
                </a:lnTo>
                <a:lnTo>
                  <a:pt x="1554" y="473"/>
                </a:lnTo>
                <a:lnTo>
                  <a:pt x="1552" y="474"/>
                </a:lnTo>
                <a:lnTo>
                  <a:pt x="1549" y="474"/>
                </a:lnTo>
                <a:lnTo>
                  <a:pt x="1453" y="474"/>
                </a:lnTo>
                <a:lnTo>
                  <a:pt x="1451" y="474"/>
                </a:lnTo>
                <a:lnTo>
                  <a:pt x="1448" y="473"/>
                </a:lnTo>
                <a:lnTo>
                  <a:pt x="1447" y="470"/>
                </a:lnTo>
                <a:lnTo>
                  <a:pt x="1447" y="468"/>
                </a:lnTo>
                <a:lnTo>
                  <a:pt x="1447" y="466"/>
                </a:lnTo>
                <a:lnTo>
                  <a:pt x="1448" y="464"/>
                </a:lnTo>
                <a:lnTo>
                  <a:pt x="1451" y="463"/>
                </a:lnTo>
                <a:lnTo>
                  <a:pt x="1453" y="463"/>
                </a:lnTo>
                <a:lnTo>
                  <a:pt x="1453" y="463"/>
                </a:lnTo>
                <a:close/>
                <a:moveTo>
                  <a:pt x="1618" y="463"/>
                </a:moveTo>
                <a:lnTo>
                  <a:pt x="1714" y="463"/>
                </a:lnTo>
                <a:lnTo>
                  <a:pt x="1717" y="463"/>
                </a:lnTo>
                <a:lnTo>
                  <a:pt x="1719" y="464"/>
                </a:lnTo>
                <a:lnTo>
                  <a:pt x="1721" y="466"/>
                </a:lnTo>
                <a:lnTo>
                  <a:pt x="1721" y="468"/>
                </a:lnTo>
                <a:lnTo>
                  <a:pt x="1721" y="470"/>
                </a:lnTo>
                <a:lnTo>
                  <a:pt x="1719" y="473"/>
                </a:lnTo>
                <a:lnTo>
                  <a:pt x="1717" y="474"/>
                </a:lnTo>
                <a:lnTo>
                  <a:pt x="1714" y="474"/>
                </a:lnTo>
                <a:lnTo>
                  <a:pt x="1618" y="474"/>
                </a:lnTo>
                <a:lnTo>
                  <a:pt x="1615" y="474"/>
                </a:lnTo>
                <a:lnTo>
                  <a:pt x="1613" y="473"/>
                </a:lnTo>
                <a:lnTo>
                  <a:pt x="1612" y="470"/>
                </a:lnTo>
                <a:lnTo>
                  <a:pt x="1612" y="468"/>
                </a:lnTo>
                <a:lnTo>
                  <a:pt x="1612" y="466"/>
                </a:lnTo>
                <a:lnTo>
                  <a:pt x="1613" y="464"/>
                </a:lnTo>
                <a:lnTo>
                  <a:pt x="1615" y="463"/>
                </a:lnTo>
                <a:lnTo>
                  <a:pt x="1618" y="463"/>
                </a:lnTo>
                <a:lnTo>
                  <a:pt x="1618" y="463"/>
                </a:lnTo>
                <a:close/>
                <a:moveTo>
                  <a:pt x="1783" y="463"/>
                </a:moveTo>
                <a:lnTo>
                  <a:pt x="1814" y="463"/>
                </a:lnTo>
                <a:lnTo>
                  <a:pt x="1808" y="468"/>
                </a:lnTo>
                <a:lnTo>
                  <a:pt x="1808" y="429"/>
                </a:lnTo>
                <a:lnTo>
                  <a:pt x="1809" y="427"/>
                </a:lnTo>
                <a:lnTo>
                  <a:pt x="1810" y="425"/>
                </a:lnTo>
                <a:lnTo>
                  <a:pt x="1811" y="424"/>
                </a:lnTo>
                <a:lnTo>
                  <a:pt x="1814" y="424"/>
                </a:lnTo>
                <a:lnTo>
                  <a:pt x="1830" y="424"/>
                </a:lnTo>
                <a:lnTo>
                  <a:pt x="1832" y="424"/>
                </a:lnTo>
                <a:lnTo>
                  <a:pt x="1835" y="425"/>
                </a:lnTo>
                <a:lnTo>
                  <a:pt x="1836" y="427"/>
                </a:lnTo>
                <a:lnTo>
                  <a:pt x="1836" y="429"/>
                </a:lnTo>
                <a:lnTo>
                  <a:pt x="1836" y="431"/>
                </a:lnTo>
                <a:lnTo>
                  <a:pt x="1835" y="433"/>
                </a:lnTo>
                <a:lnTo>
                  <a:pt x="1832" y="434"/>
                </a:lnTo>
                <a:lnTo>
                  <a:pt x="1830" y="434"/>
                </a:lnTo>
                <a:lnTo>
                  <a:pt x="1814" y="434"/>
                </a:lnTo>
                <a:lnTo>
                  <a:pt x="1822" y="429"/>
                </a:lnTo>
                <a:lnTo>
                  <a:pt x="1822" y="468"/>
                </a:lnTo>
                <a:lnTo>
                  <a:pt x="1821" y="470"/>
                </a:lnTo>
                <a:lnTo>
                  <a:pt x="1819" y="473"/>
                </a:lnTo>
                <a:lnTo>
                  <a:pt x="1818" y="474"/>
                </a:lnTo>
                <a:lnTo>
                  <a:pt x="1814" y="474"/>
                </a:lnTo>
                <a:lnTo>
                  <a:pt x="1783" y="474"/>
                </a:lnTo>
                <a:lnTo>
                  <a:pt x="1780" y="474"/>
                </a:lnTo>
                <a:lnTo>
                  <a:pt x="1778" y="473"/>
                </a:lnTo>
                <a:lnTo>
                  <a:pt x="1776" y="470"/>
                </a:lnTo>
                <a:lnTo>
                  <a:pt x="1776" y="468"/>
                </a:lnTo>
                <a:lnTo>
                  <a:pt x="1776" y="466"/>
                </a:lnTo>
                <a:lnTo>
                  <a:pt x="1778" y="464"/>
                </a:lnTo>
                <a:lnTo>
                  <a:pt x="1780" y="463"/>
                </a:lnTo>
                <a:lnTo>
                  <a:pt x="1783" y="463"/>
                </a:lnTo>
                <a:lnTo>
                  <a:pt x="1783" y="463"/>
                </a:lnTo>
                <a:close/>
              </a:path>
            </a:pathLst>
          </a:custGeom>
          <a:solidFill>
            <a:srgbClr val="ffffff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02160" y="4017960"/>
            <a:ext cx="133560" cy="85680"/>
          </a:xfrm>
          <a:custGeom>
            <a:avLst/>
            <a:gdLst/>
            <a:ahLst/>
            <a:rect l="l" t="t" r="r" b="b"/>
            <a:pathLst>
              <a:path w="84" h="109">
                <a:moveTo>
                  <a:pt x="0" y="0"/>
                </a:moveTo>
                <a:lnTo>
                  <a:pt x="84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54600" y="4941720"/>
            <a:ext cx="1461960" cy="17640"/>
          </a:xfrm>
          <a:custGeom>
            <a:avLst/>
            <a:gdLst/>
            <a:ahLst/>
            <a:rect l="l" t="t" r="r" b="b"/>
            <a:pathLst>
              <a:path w="921" h="21">
                <a:moveTo>
                  <a:pt x="6" y="10"/>
                </a:moveTo>
                <a:lnTo>
                  <a:pt x="103" y="10"/>
                </a:lnTo>
                <a:lnTo>
                  <a:pt x="105" y="10"/>
                </a:lnTo>
                <a:lnTo>
                  <a:pt x="108" y="11"/>
                </a:lnTo>
                <a:lnTo>
                  <a:pt x="109" y="13"/>
                </a:lnTo>
                <a:lnTo>
                  <a:pt x="109" y="15"/>
                </a:lnTo>
                <a:lnTo>
                  <a:pt x="109" y="17"/>
                </a:lnTo>
                <a:lnTo>
                  <a:pt x="108" y="19"/>
                </a:lnTo>
                <a:lnTo>
                  <a:pt x="105" y="20"/>
                </a:lnTo>
                <a:lnTo>
                  <a:pt x="103" y="21"/>
                </a:lnTo>
                <a:lnTo>
                  <a:pt x="6" y="21"/>
                </a:lnTo>
                <a:lnTo>
                  <a:pt x="4" y="20"/>
                </a:lnTo>
                <a:lnTo>
                  <a:pt x="1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1" y="11"/>
                </a:lnTo>
                <a:lnTo>
                  <a:pt x="4" y="10"/>
                </a:lnTo>
                <a:lnTo>
                  <a:pt x="6" y="10"/>
                </a:lnTo>
                <a:lnTo>
                  <a:pt x="6" y="10"/>
                </a:lnTo>
                <a:close/>
                <a:moveTo>
                  <a:pt x="171" y="10"/>
                </a:moveTo>
                <a:lnTo>
                  <a:pt x="251" y="10"/>
                </a:lnTo>
                <a:lnTo>
                  <a:pt x="243" y="15"/>
                </a:lnTo>
                <a:lnTo>
                  <a:pt x="243" y="5"/>
                </a:lnTo>
                <a:lnTo>
                  <a:pt x="244" y="3"/>
                </a:lnTo>
                <a:lnTo>
                  <a:pt x="245" y="1"/>
                </a:lnTo>
                <a:lnTo>
                  <a:pt x="247" y="0"/>
                </a:lnTo>
                <a:lnTo>
                  <a:pt x="251" y="0"/>
                </a:lnTo>
                <a:lnTo>
                  <a:pt x="254" y="0"/>
                </a:lnTo>
                <a:lnTo>
                  <a:pt x="257" y="0"/>
                </a:lnTo>
                <a:lnTo>
                  <a:pt x="260" y="1"/>
                </a:lnTo>
                <a:lnTo>
                  <a:pt x="261" y="3"/>
                </a:lnTo>
                <a:lnTo>
                  <a:pt x="261" y="5"/>
                </a:lnTo>
                <a:lnTo>
                  <a:pt x="261" y="7"/>
                </a:lnTo>
                <a:lnTo>
                  <a:pt x="260" y="9"/>
                </a:lnTo>
                <a:lnTo>
                  <a:pt x="257" y="10"/>
                </a:lnTo>
                <a:lnTo>
                  <a:pt x="254" y="11"/>
                </a:lnTo>
                <a:lnTo>
                  <a:pt x="251" y="11"/>
                </a:lnTo>
                <a:lnTo>
                  <a:pt x="257" y="5"/>
                </a:lnTo>
                <a:lnTo>
                  <a:pt x="257" y="15"/>
                </a:lnTo>
                <a:lnTo>
                  <a:pt x="256" y="17"/>
                </a:lnTo>
                <a:lnTo>
                  <a:pt x="254" y="19"/>
                </a:lnTo>
                <a:lnTo>
                  <a:pt x="253" y="20"/>
                </a:lnTo>
                <a:lnTo>
                  <a:pt x="251" y="21"/>
                </a:lnTo>
                <a:lnTo>
                  <a:pt x="171" y="21"/>
                </a:lnTo>
                <a:lnTo>
                  <a:pt x="169" y="20"/>
                </a:lnTo>
                <a:lnTo>
                  <a:pt x="166" y="19"/>
                </a:lnTo>
                <a:lnTo>
                  <a:pt x="165" y="17"/>
                </a:lnTo>
                <a:lnTo>
                  <a:pt x="165" y="15"/>
                </a:lnTo>
                <a:lnTo>
                  <a:pt x="165" y="13"/>
                </a:lnTo>
                <a:lnTo>
                  <a:pt x="166" y="11"/>
                </a:lnTo>
                <a:lnTo>
                  <a:pt x="169" y="10"/>
                </a:lnTo>
                <a:lnTo>
                  <a:pt x="171" y="10"/>
                </a:lnTo>
                <a:lnTo>
                  <a:pt x="171" y="10"/>
                </a:lnTo>
                <a:close/>
                <a:moveTo>
                  <a:pt x="323" y="0"/>
                </a:moveTo>
                <a:lnTo>
                  <a:pt x="419" y="0"/>
                </a:lnTo>
                <a:lnTo>
                  <a:pt x="422" y="0"/>
                </a:lnTo>
                <a:lnTo>
                  <a:pt x="425" y="1"/>
                </a:lnTo>
                <a:lnTo>
                  <a:pt x="426" y="3"/>
                </a:lnTo>
                <a:lnTo>
                  <a:pt x="426" y="5"/>
                </a:lnTo>
                <a:lnTo>
                  <a:pt x="426" y="7"/>
                </a:lnTo>
                <a:lnTo>
                  <a:pt x="425" y="9"/>
                </a:lnTo>
                <a:lnTo>
                  <a:pt x="422" y="10"/>
                </a:lnTo>
                <a:lnTo>
                  <a:pt x="419" y="11"/>
                </a:lnTo>
                <a:lnTo>
                  <a:pt x="323" y="11"/>
                </a:lnTo>
                <a:lnTo>
                  <a:pt x="321" y="10"/>
                </a:lnTo>
                <a:lnTo>
                  <a:pt x="318" y="9"/>
                </a:lnTo>
                <a:lnTo>
                  <a:pt x="317" y="7"/>
                </a:lnTo>
                <a:lnTo>
                  <a:pt x="317" y="5"/>
                </a:lnTo>
                <a:lnTo>
                  <a:pt x="317" y="3"/>
                </a:lnTo>
                <a:lnTo>
                  <a:pt x="318" y="1"/>
                </a:lnTo>
                <a:lnTo>
                  <a:pt x="321" y="0"/>
                </a:lnTo>
                <a:lnTo>
                  <a:pt x="323" y="0"/>
                </a:lnTo>
                <a:lnTo>
                  <a:pt x="323" y="0"/>
                </a:lnTo>
                <a:close/>
                <a:moveTo>
                  <a:pt x="488" y="0"/>
                </a:moveTo>
                <a:lnTo>
                  <a:pt x="584" y="0"/>
                </a:lnTo>
                <a:lnTo>
                  <a:pt x="587" y="0"/>
                </a:lnTo>
                <a:lnTo>
                  <a:pt x="589" y="1"/>
                </a:lnTo>
                <a:lnTo>
                  <a:pt x="591" y="3"/>
                </a:lnTo>
                <a:lnTo>
                  <a:pt x="591" y="5"/>
                </a:lnTo>
                <a:lnTo>
                  <a:pt x="591" y="7"/>
                </a:lnTo>
                <a:lnTo>
                  <a:pt x="589" y="9"/>
                </a:lnTo>
                <a:lnTo>
                  <a:pt x="587" y="10"/>
                </a:lnTo>
                <a:lnTo>
                  <a:pt x="584" y="11"/>
                </a:lnTo>
                <a:lnTo>
                  <a:pt x="488" y="11"/>
                </a:lnTo>
                <a:lnTo>
                  <a:pt x="486" y="10"/>
                </a:lnTo>
                <a:lnTo>
                  <a:pt x="483" y="9"/>
                </a:lnTo>
                <a:lnTo>
                  <a:pt x="482" y="7"/>
                </a:lnTo>
                <a:lnTo>
                  <a:pt x="482" y="5"/>
                </a:lnTo>
                <a:lnTo>
                  <a:pt x="482" y="3"/>
                </a:lnTo>
                <a:lnTo>
                  <a:pt x="483" y="1"/>
                </a:lnTo>
                <a:lnTo>
                  <a:pt x="486" y="0"/>
                </a:lnTo>
                <a:lnTo>
                  <a:pt x="488" y="0"/>
                </a:lnTo>
                <a:lnTo>
                  <a:pt x="488" y="0"/>
                </a:lnTo>
                <a:close/>
                <a:moveTo>
                  <a:pt x="653" y="0"/>
                </a:moveTo>
                <a:lnTo>
                  <a:pt x="749" y="0"/>
                </a:lnTo>
                <a:lnTo>
                  <a:pt x="752" y="0"/>
                </a:lnTo>
                <a:lnTo>
                  <a:pt x="754" y="1"/>
                </a:lnTo>
                <a:lnTo>
                  <a:pt x="756" y="3"/>
                </a:lnTo>
                <a:lnTo>
                  <a:pt x="756" y="5"/>
                </a:lnTo>
                <a:lnTo>
                  <a:pt x="756" y="7"/>
                </a:lnTo>
                <a:lnTo>
                  <a:pt x="754" y="9"/>
                </a:lnTo>
                <a:lnTo>
                  <a:pt x="752" y="10"/>
                </a:lnTo>
                <a:lnTo>
                  <a:pt x="749" y="11"/>
                </a:lnTo>
                <a:lnTo>
                  <a:pt x="653" y="11"/>
                </a:lnTo>
                <a:lnTo>
                  <a:pt x="651" y="10"/>
                </a:lnTo>
                <a:lnTo>
                  <a:pt x="648" y="9"/>
                </a:lnTo>
                <a:lnTo>
                  <a:pt x="647" y="7"/>
                </a:lnTo>
                <a:lnTo>
                  <a:pt x="647" y="5"/>
                </a:lnTo>
                <a:lnTo>
                  <a:pt x="647" y="3"/>
                </a:lnTo>
                <a:lnTo>
                  <a:pt x="648" y="1"/>
                </a:lnTo>
                <a:lnTo>
                  <a:pt x="651" y="0"/>
                </a:lnTo>
                <a:lnTo>
                  <a:pt x="653" y="0"/>
                </a:lnTo>
                <a:lnTo>
                  <a:pt x="653" y="0"/>
                </a:lnTo>
                <a:close/>
                <a:moveTo>
                  <a:pt x="818" y="0"/>
                </a:moveTo>
                <a:lnTo>
                  <a:pt x="914" y="0"/>
                </a:lnTo>
                <a:lnTo>
                  <a:pt x="917" y="0"/>
                </a:lnTo>
                <a:lnTo>
                  <a:pt x="919" y="1"/>
                </a:lnTo>
                <a:lnTo>
                  <a:pt x="921" y="3"/>
                </a:lnTo>
                <a:lnTo>
                  <a:pt x="921" y="5"/>
                </a:lnTo>
                <a:lnTo>
                  <a:pt x="921" y="7"/>
                </a:lnTo>
                <a:lnTo>
                  <a:pt x="919" y="9"/>
                </a:lnTo>
                <a:lnTo>
                  <a:pt x="917" y="10"/>
                </a:lnTo>
                <a:lnTo>
                  <a:pt x="914" y="11"/>
                </a:lnTo>
                <a:lnTo>
                  <a:pt x="818" y="11"/>
                </a:lnTo>
                <a:lnTo>
                  <a:pt x="815" y="10"/>
                </a:lnTo>
                <a:lnTo>
                  <a:pt x="813" y="9"/>
                </a:lnTo>
                <a:lnTo>
                  <a:pt x="812" y="7"/>
                </a:lnTo>
                <a:lnTo>
                  <a:pt x="812" y="5"/>
                </a:lnTo>
                <a:lnTo>
                  <a:pt x="812" y="3"/>
                </a:lnTo>
                <a:lnTo>
                  <a:pt x="813" y="1"/>
                </a:lnTo>
                <a:lnTo>
                  <a:pt x="815" y="0"/>
                </a:lnTo>
                <a:lnTo>
                  <a:pt x="818" y="0"/>
                </a:lnTo>
                <a:lnTo>
                  <a:pt x="81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02160" y="4903920"/>
            <a:ext cx="135000" cy="85680"/>
          </a:xfrm>
          <a:custGeom>
            <a:avLst/>
            <a:gdLst/>
            <a:ahLst/>
            <a:rect l="l" t="t" r="r" b="b"/>
            <a:pathLst>
              <a:path w="85" h="109">
                <a:moveTo>
                  <a:pt x="0" y="0"/>
                </a:moveTo>
                <a:lnTo>
                  <a:pt x="85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97200" y="5613480"/>
            <a:ext cx="1706760" cy="9360"/>
          </a:xfrm>
          <a:custGeom>
            <a:avLst/>
            <a:gdLst/>
            <a:ahLst/>
            <a:rect l="l" t="t" r="r" b="b"/>
            <a:pathLst>
              <a:path w="1075" h="11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7"/>
                </a:lnTo>
                <a:lnTo>
                  <a:pt x="107" y="9"/>
                </a:lnTo>
                <a:lnTo>
                  <a:pt x="105" y="10"/>
                </a:lnTo>
                <a:lnTo>
                  <a:pt x="102" y="11"/>
                </a:lnTo>
                <a:lnTo>
                  <a:pt x="6" y="11"/>
                </a:lnTo>
                <a:lnTo>
                  <a:pt x="4" y="10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7"/>
                </a:lnTo>
                <a:lnTo>
                  <a:pt x="272" y="9"/>
                </a:lnTo>
                <a:lnTo>
                  <a:pt x="270" y="10"/>
                </a:lnTo>
                <a:lnTo>
                  <a:pt x="267" y="11"/>
                </a:lnTo>
                <a:lnTo>
                  <a:pt x="171" y="11"/>
                </a:lnTo>
                <a:lnTo>
                  <a:pt x="168" y="10"/>
                </a:lnTo>
                <a:lnTo>
                  <a:pt x="166" y="9"/>
                </a:lnTo>
                <a:lnTo>
                  <a:pt x="165" y="7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7"/>
                </a:lnTo>
                <a:lnTo>
                  <a:pt x="437" y="9"/>
                </a:lnTo>
                <a:lnTo>
                  <a:pt x="435" y="10"/>
                </a:lnTo>
                <a:lnTo>
                  <a:pt x="432" y="11"/>
                </a:lnTo>
                <a:lnTo>
                  <a:pt x="336" y="11"/>
                </a:lnTo>
                <a:lnTo>
                  <a:pt x="333" y="10"/>
                </a:lnTo>
                <a:lnTo>
                  <a:pt x="331" y="9"/>
                </a:lnTo>
                <a:lnTo>
                  <a:pt x="329" y="7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7"/>
                </a:lnTo>
                <a:lnTo>
                  <a:pt x="602" y="9"/>
                </a:lnTo>
                <a:lnTo>
                  <a:pt x="600" y="10"/>
                </a:lnTo>
                <a:lnTo>
                  <a:pt x="597" y="11"/>
                </a:lnTo>
                <a:lnTo>
                  <a:pt x="501" y="11"/>
                </a:lnTo>
                <a:lnTo>
                  <a:pt x="498" y="10"/>
                </a:lnTo>
                <a:lnTo>
                  <a:pt x="496" y="9"/>
                </a:lnTo>
                <a:lnTo>
                  <a:pt x="494" y="7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7"/>
                </a:lnTo>
                <a:lnTo>
                  <a:pt x="767" y="9"/>
                </a:lnTo>
                <a:lnTo>
                  <a:pt x="764" y="10"/>
                </a:lnTo>
                <a:lnTo>
                  <a:pt x="762" y="11"/>
                </a:lnTo>
                <a:lnTo>
                  <a:pt x="666" y="11"/>
                </a:lnTo>
                <a:lnTo>
                  <a:pt x="663" y="10"/>
                </a:lnTo>
                <a:lnTo>
                  <a:pt x="661" y="9"/>
                </a:lnTo>
                <a:lnTo>
                  <a:pt x="659" y="7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7"/>
                </a:lnTo>
                <a:lnTo>
                  <a:pt x="932" y="9"/>
                </a:lnTo>
                <a:lnTo>
                  <a:pt x="929" y="10"/>
                </a:lnTo>
                <a:lnTo>
                  <a:pt x="927" y="11"/>
                </a:lnTo>
                <a:lnTo>
                  <a:pt x="831" y="11"/>
                </a:lnTo>
                <a:lnTo>
                  <a:pt x="828" y="10"/>
                </a:lnTo>
                <a:lnTo>
                  <a:pt x="825" y="9"/>
                </a:lnTo>
                <a:lnTo>
                  <a:pt x="824" y="7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7"/>
                </a:lnTo>
                <a:lnTo>
                  <a:pt x="1072" y="9"/>
                </a:lnTo>
                <a:lnTo>
                  <a:pt x="1071" y="10"/>
                </a:lnTo>
                <a:lnTo>
                  <a:pt x="1068" y="11"/>
                </a:lnTo>
                <a:lnTo>
                  <a:pt x="996" y="11"/>
                </a:lnTo>
                <a:lnTo>
                  <a:pt x="993" y="10"/>
                </a:lnTo>
                <a:lnTo>
                  <a:pt x="990" y="9"/>
                </a:lnTo>
                <a:lnTo>
                  <a:pt x="989" y="7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5160" y="5575320"/>
            <a:ext cx="135000" cy="85680"/>
          </a:xfrm>
          <a:custGeom>
            <a:avLst/>
            <a:gdLst/>
            <a:ahLst/>
            <a:rect l="l" t="t" r="r" b="b"/>
            <a:pathLst>
              <a:path w="85" h="109">
                <a:moveTo>
                  <a:pt x="0" y="0"/>
                </a:moveTo>
                <a:lnTo>
                  <a:pt x="85" y="54"/>
                </a:lnTo>
                <a:lnTo>
                  <a:pt x="0" y="10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97200" y="6270480"/>
            <a:ext cx="1706760" cy="7920"/>
          </a:xfrm>
          <a:custGeom>
            <a:avLst/>
            <a:gdLst/>
            <a:ahLst/>
            <a:rect l="l" t="t" r="r" b="b"/>
            <a:pathLst>
              <a:path w="1075" h="12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8"/>
                </a:lnTo>
                <a:lnTo>
                  <a:pt x="107" y="10"/>
                </a:lnTo>
                <a:lnTo>
                  <a:pt x="105" y="11"/>
                </a:lnTo>
                <a:lnTo>
                  <a:pt x="102" y="12"/>
                </a:lnTo>
                <a:lnTo>
                  <a:pt x="6" y="12"/>
                </a:lnTo>
                <a:lnTo>
                  <a:pt x="4" y="11"/>
                </a:lnTo>
                <a:lnTo>
                  <a:pt x="1" y="10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8"/>
                </a:lnTo>
                <a:lnTo>
                  <a:pt x="272" y="10"/>
                </a:lnTo>
                <a:lnTo>
                  <a:pt x="270" y="11"/>
                </a:lnTo>
                <a:lnTo>
                  <a:pt x="267" y="12"/>
                </a:lnTo>
                <a:lnTo>
                  <a:pt x="171" y="12"/>
                </a:lnTo>
                <a:lnTo>
                  <a:pt x="168" y="11"/>
                </a:lnTo>
                <a:lnTo>
                  <a:pt x="166" y="10"/>
                </a:lnTo>
                <a:lnTo>
                  <a:pt x="165" y="8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8"/>
                </a:lnTo>
                <a:lnTo>
                  <a:pt x="437" y="10"/>
                </a:lnTo>
                <a:lnTo>
                  <a:pt x="435" y="11"/>
                </a:lnTo>
                <a:lnTo>
                  <a:pt x="432" y="12"/>
                </a:lnTo>
                <a:lnTo>
                  <a:pt x="336" y="12"/>
                </a:lnTo>
                <a:lnTo>
                  <a:pt x="333" y="11"/>
                </a:lnTo>
                <a:lnTo>
                  <a:pt x="331" y="10"/>
                </a:lnTo>
                <a:lnTo>
                  <a:pt x="329" y="8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8"/>
                </a:lnTo>
                <a:lnTo>
                  <a:pt x="602" y="10"/>
                </a:lnTo>
                <a:lnTo>
                  <a:pt x="600" y="11"/>
                </a:lnTo>
                <a:lnTo>
                  <a:pt x="597" y="12"/>
                </a:lnTo>
                <a:lnTo>
                  <a:pt x="501" y="12"/>
                </a:lnTo>
                <a:lnTo>
                  <a:pt x="498" y="11"/>
                </a:lnTo>
                <a:lnTo>
                  <a:pt x="496" y="10"/>
                </a:lnTo>
                <a:lnTo>
                  <a:pt x="494" y="8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8"/>
                </a:lnTo>
                <a:lnTo>
                  <a:pt x="767" y="10"/>
                </a:lnTo>
                <a:lnTo>
                  <a:pt x="764" y="11"/>
                </a:lnTo>
                <a:lnTo>
                  <a:pt x="762" y="12"/>
                </a:lnTo>
                <a:lnTo>
                  <a:pt x="666" y="12"/>
                </a:lnTo>
                <a:lnTo>
                  <a:pt x="663" y="11"/>
                </a:lnTo>
                <a:lnTo>
                  <a:pt x="661" y="10"/>
                </a:lnTo>
                <a:lnTo>
                  <a:pt x="659" y="8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8"/>
                </a:lnTo>
                <a:lnTo>
                  <a:pt x="932" y="10"/>
                </a:lnTo>
                <a:lnTo>
                  <a:pt x="929" y="11"/>
                </a:lnTo>
                <a:lnTo>
                  <a:pt x="927" y="12"/>
                </a:lnTo>
                <a:lnTo>
                  <a:pt x="831" y="12"/>
                </a:lnTo>
                <a:lnTo>
                  <a:pt x="828" y="11"/>
                </a:lnTo>
                <a:lnTo>
                  <a:pt x="825" y="10"/>
                </a:lnTo>
                <a:lnTo>
                  <a:pt x="824" y="8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8"/>
                </a:lnTo>
                <a:lnTo>
                  <a:pt x="1072" y="10"/>
                </a:lnTo>
                <a:lnTo>
                  <a:pt x="1071" y="11"/>
                </a:lnTo>
                <a:lnTo>
                  <a:pt x="1068" y="12"/>
                </a:lnTo>
                <a:lnTo>
                  <a:pt x="996" y="12"/>
                </a:lnTo>
                <a:lnTo>
                  <a:pt x="993" y="11"/>
                </a:lnTo>
                <a:lnTo>
                  <a:pt x="990" y="10"/>
                </a:lnTo>
                <a:lnTo>
                  <a:pt x="989" y="8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75160" y="6230880"/>
            <a:ext cx="135000" cy="8748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0"/>
                </a:moveTo>
                <a:lnTo>
                  <a:pt x="85" y="53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48080" y="3986280"/>
            <a:ext cx="977760" cy="666720"/>
          </a:xfrm>
          <a:custGeom>
            <a:avLst/>
            <a:gdLst/>
            <a:ahLst/>
            <a:rect l="l" t="t" r="r" b="b"/>
            <a:pathLst>
              <a:path w="616" h="839">
                <a:moveTo>
                  <a:pt x="616" y="0"/>
                </a:moveTo>
                <a:lnTo>
                  <a:pt x="616" y="486"/>
                </a:lnTo>
                <a:lnTo>
                  <a:pt x="0" y="486"/>
                </a:lnTo>
                <a:lnTo>
                  <a:pt x="0" y="83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96960" y="4643280"/>
            <a:ext cx="10188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2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89120" y="3224160"/>
            <a:ext cx="338400" cy="233280"/>
          </a:xfrm>
          <a:custGeom>
            <a:avLst/>
            <a:gdLst/>
            <a:ahLst/>
            <a:rect l="l" t="t" r="r" b="b"/>
            <a:pathLst>
              <a:path w="213" h="295">
                <a:moveTo>
                  <a:pt x="61" y="35"/>
                </a:moveTo>
                <a:lnTo>
                  <a:pt x="61" y="0"/>
                </a:lnTo>
                <a:lnTo>
                  <a:pt x="0" y="93"/>
                </a:lnTo>
                <a:lnTo>
                  <a:pt x="61" y="182"/>
                </a:lnTo>
                <a:lnTo>
                  <a:pt x="61" y="118"/>
                </a:lnTo>
                <a:lnTo>
                  <a:pt x="65" y="119"/>
                </a:lnTo>
                <a:lnTo>
                  <a:pt x="70" y="119"/>
                </a:lnTo>
                <a:lnTo>
                  <a:pt x="74" y="120"/>
                </a:lnTo>
                <a:lnTo>
                  <a:pt x="78" y="120"/>
                </a:lnTo>
                <a:lnTo>
                  <a:pt x="86" y="123"/>
                </a:lnTo>
                <a:lnTo>
                  <a:pt x="94" y="126"/>
                </a:lnTo>
                <a:lnTo>
                  <a:pt x="102" y="132"/>
                </a:lnTo>
                <a:lnTo>
                  <a:pt x="109" y="137"/>
                </a:lnTo>
                <a:lnTo>
                  <a:pt x="116" y="143"/>
                </a:lnTo>
                <a:lnTo>
                  <a:pt x="121" y="149"/>
                </a:lnTo>
                <a:lnTo>
                  <a:pt x="126" y="157"/>
                </a:lnTo>
                <a:lnTo>
                  <a:pt x="132" y="165"/>
                </a:lnTo>
                <a:lnTo>
                  <a:pt x="135" y="174"/>
                </a:lnTo>
                <a:lnTo>
                  <a:pt x="139" y="183"/>
                </a:lnTo>
                <a:lnTo>
                  <a:pt x="142" y="193"/>
                </a:lnTo>
                <a:lnTo>
                  <a:pt x="144" y="203"/>
                </a:lnTo>
                <a:lnTo>
                  <a:pt x="146" y="213"/>
                </a:lnTo>
                <a:lnTo>
                  <a:pt x="146" y="224"/>
                </a:lnTo>
                <a:lnTo>
                  <a:pt x="146" y="224"/>
                </a:lnTo>
                <a:lnTo>
                  <a:pt x="146" y="232"/>
                </a:lnTo>
                <a:lnTo>
                  <a:pt x="146" y="240"/>
                </a:lnTo>
                <a:lnTo>
                  <a:pt x="183" y="233"/>
                </a:lnTo>
                <a:lnTo>
                  <a:pt x="203" y="295"/>
                </a:lnTo>
                <a:lnTo>
                  <a:pt x="206" y="287"/>
                </a:lnTo>
                <a:lnTo>
                  <a:pt x="207" y="278"/>
                </a:lnTo>
                <a:lnTo>
                  <a:pt x="209" y="269"/>
                </a:lnTo>
                <a:lnTo>
                  <a:pt x="211" y="260"/>
                </a:lnTo>
                <a:lnTo>
                  <a:pt x="212" y="251"/>
                </a:lnTo>
                <a:lnTo>
                  <a:pt x="213" y="242"/>
                </a:lnTo>
                <a:lnTo>
                  <a:pt x="213" y="233"/>
                </a:lnTo>
                <a:lnTo>
                  <a:pt x="213" y="224"/>
                </a:lnTo>
                <a:lnTo>
                  <a:pt x="213" y="214"/>
                </a:lnTo>
                <a:lnTo>
                  <a:pt x="213" y="205"/>
                </a:lnTo>
                <a:lnTo>
                  <a:pt x="212" y="195"/>
                </a:lnTo>
                <a:lnTo>
                  <a:pt x="211" y="185"/>
                </a:lnTo>
                <a:lnTo>
                  <a:pt x="209" y="177"/>
                </a:lnTo>
                <a:lnTo>
                  <a:pt x="207" y="168"/>
                </a:lnTo>
                <a:lnTo>
                  <a:pt x="204" y="158"/>
                </a:lnTo>
                <a:lnTo>
                  <a:pt x="202" y="150"/>
                </a:lnTo>
                <a:lnTo>
                  <a:pt x="195" y="134"/>
                </a:lnTo>
                <a:lnTo>
                  <a:pt x="191" y="125"/>
                </a:lnTo>
                <a:lnTo>
                  <a:pt x="187" y="118"/>
                </a:lnTo>
                <a:lnTo>
                  <a:pt x="183" y="111"/>
                </a:lnTo>
                <a:lnTo>
                  <a:pt x="180" y="104"/>
                </a:lnTo>
                <a:lnTo>
                  <a:pt x="174" y="96"/>
                </a:lnTo>
                <a:lnTo>
                  <a:pt x="169" y="90"/>
                </a:lnTo>
                <a:lnTo>
                  <a:pt x="164" y="83"/>
                </a:lnTo>
                <a:lnTo>
                  <a:pt x="159" y="78"/>
                </a:lnTo>
                <a:lnTo>
                  <a:pt x="152" y="72"/>
                </a:lnTo>
                <a:lnTo>
                  <a:pt x="147" y="67"/>
                </a:lnTo>
                <a:lnTo>
                  <a:pt x="141" y="61"/>
                </a:lnTo>
                <a:lnTo>
                  <a:pt x="134" y="57"/>
                </a:lnTo>
                <a:lnTo>
                  <a:pt x="128" y="53"/>
                </a:lnTo>
                <a:lnTo>
                  <a:pt x="121" y="49"/>
                </a:lnTo>
                <a:lnTo>
                  <a:pt x="113" y="46"/>
                </a:lnTo>
                <a:lnTo>
                  <a:pt x="107" y="43"/>
                </a:lnTo>
                <a:lnTo>
                  <a:pt x="99" y="41"/>
                </a:lnTo>
                <a:lnTo>
                  <a:pt x="93" y="38"/>
                </a:lnTo>
                <a:lnTo>
                  <a:pt x="85" y="37"/>
                </a:lnTo>
                <a:lnTo>
                  <a:pt x="77" y="36"/>
                </a:lnTo>
                <a:lnTo>
                  <a:pt x="69" y="35"/>
                </a:lnTo>
                <a:lnTo>
                  <a:pt x="61" y="35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09920" y="3408480"/>
            <a:ext cx="423720" cy="142920"/>
          </a:xfrm>
          <a:custGeom>
            <a:avLst/>
            <a:gdLst/>
            <a:ahLst/>
            <a:rect l="l" t="t" r="r" b="b"/>
            <a:pathLst>
              <a:path w="267" h="181">
                <a:moveTo>
                  <a:pt x="241" y="90"/>
                </a:moveTo>
                <a:lnTo>
                  <a:pt x="267" y="109"/>
                </a:lnTo>
                <a:lnTo>
                  <a:pt x="233" y="0"/>
                </a:lnTo>
                <a:lnTo>
                  <a:pt x="145" y="16"/>
                </a:lnTo>
                <a:lnTo>
                  <a:pt x="184" y="45"/>
                </a:lnTo>
                <a:lnTo>
                  <a:pt x="179" y="55"/>
                </a:lnTo>
                <a:lnTo>
                  <a:pt x="174" y="63"/>
                </a:lnTo>
                <a:lnTo>
                  <a:pt x="167" y="70"/>
                </a:lnTo>
                <a:lnTo>
                  <a:pt x="161" y="76"/>
                </a:lnTo>
                <a:lnTo>
                  <a:pt x="154" y="83"/>
                </a:lnTo>
                <a:lnTo>
                  <a:pt x="146" y="87"/>
                </a:lnTo>
                <a:lnTo>
                  <a:pt x="140" y="91"/>
                </a:lnTo>
                <a:lnTo>
                  <a:pt x="132" y="94"/>
                </a:lnTo>
                <a:lnTo>
                  <a:pt x="124" y="95"/>
                </a:lnTo>
                <a:lnTo>
                  <a:pt x="115" y="96"/>
                </a:lnTo>
                <a:lnTo>
                  <a:pt x="107" y="96"/>
                </a:lnTo>
                <a:lnTo>
                  <a:pt x="100" y="95"/>
                </a:lnTo>
                <a:lnTo>
                  <a:pt x="91" y="94"/>
                </a:lnTo>
                <a:lnTo>
                  <a:pt x="87" y="92"/>
                </a:lnTo>
                <a:lnTo>
                  <a:pt x="83" y="91"/>
                </a:lnTo>
                <a:lnTo>
                  <a:pt x="79" y="89"/>
                </a:lnTo>
                <a:lnTo>
                  <a:pt x="75" y="87"/>
                </a:lnTo>
                <a:lnTo>
                  <a:pt x="71" y="84"/>
                </a:lnTo>
                <a:lnTo>
                  <a:pt x="67" y="81"/>
                </a:lnTo>
                <a:lnTo>
                  <a:pt x="61" y="75"/>
                </a:lnTo>
                <a:lnTo>
                  <a:pt x="54" y="69"/>
                </a:lnTo>
                <a:lnTo>
                  <a:pt x="37" y="126"/>
                </a:lnTo>
                <a:lnTo>
                  <a:pt x="0" y="120"/>
                </a:lnTo>
                <a:lnTo>
                  <a:pt x="5" y="126"/>
                </a:lnTo>
                <a:lnTo>
                  <a:pt x="10" y="133"/>
                </a:lnTo>
                <a:lnTo>
                  <a:pt x="17" y="139"/>
                </a:lnTo>
                <a:lnTo>
                  <a:pt x="22" y="144"/>
                </a:lnTo>
                <a:lnTo>
                  <a:pt x="28" y="150"/>
                </a:lnTo>
                <a:lnTo>
                  <a:pt x="35" y="155"/>
                </a:lnTo>
                <a:lnTo>
                  <a:pt x="41" y="160"/>
                </a:lnTo>
                <a:lnTo>
                  <a:pt x="48" y="163"/>
                </a:lnTo>
                <a:lnTo>
                  <a:pt x="56" y="167"/>
                </a:lnTo>
                <a:lnTo>
                  <a:pt x="62" y="170"/>
                </a:lnTo>
                <a:lnTo>
                  <a:pt x="69" y="173"/>
                </a:lnTo>
                <a:lnTo>
                  <a:pt x="76" y="175"/>
                </a:lnTo>
                <a:lnTo>
                  <a:pt x="83" y="178"/>
                </a:lnTo>
                <a:lnTo>
                  <a:pt x="91" y="179"/>
                </a:lnTo>
                <a:lnTo>
                  <a:pt x="97" y="180"/>
                </a:lnTo>
                <a:lnTo>
                  <a:pt x="105" y="181"/>
                </a:lnTo>
                <a:lnTo>
                  <a:pt x="113" y="181"/>
                </a:lnTo>
                <a:lnTo>
                  <a:pt x="119" y="181"/>
                </a:lnTo>
                <a:lnTo>
                  <a:pt x="127" y="180"/>
                </a:lnTo>
                <a:lnTo>
                  <a:pt x="133" y="179"/>
                </a:lnTo>
                <a:lnTo>
                  <a:pt x="141" y="178"/>
                </a:lnTo>
                <a:lnTo>
                  <a:pt x="149" y="175"/>
                </a:lnTo>
                <a:lnTo>
                  <a:pt x="156" y="172"/>
                </a:lnTo>
                <a:lnTo>
                  <a:pt x="162" y="170"/>
                </a:lnTo>
                <a:lnTo>
                  <a:pt x="170" y="166"/>
                </a:lnTo>
                <a:lnTo>
                  <a:pt x="176" y="163"/>
                </a:lnTo>
                <a:lnTo>
                  <a:pt x="183" y="159"/>
                </a:lnTo>
                <a:lnTo>
                  <a:pt x="189" y="154"/>
                </a:lnTo>
                <a:lnTo>
                  <a:pt x="196" y="149"/>
                </a:lnTo>
                <a:lnTo>
                  <a:pt x="202" y="143"/>
                </a:lnTo>
                <a:lnTo>
                  <a:pt x="209" y="137"/>
                </a:lnTo>
                <a:lnTo>
                  <a:pt x="214" y="131"/>
                </a:lnTo>
                <a:lnTo>
                  <a:pt x="222" y="122"/>
                </a:lnTo>
                <a:lnTo>
                  <a:pt x="230" y="111"/>
                </a:lnTo>
                <a:lnTo>
                  <a:pt x="236" y="101"/>
                </a:lnTo>
                <a:lnTo>
                  <a:pt x="241" y="90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19200" y="3252960"/>
            <a:ext cx="230400" cy="255240"/>
          </a:xfrm>
          <a:custGeom>
            <a:avLst/>
            <a:gdLst/>
            <a:ahLst/>
            <a:rect l="l" t="t" r="r" b="b"/>
            <a:pathLst>
              <a:path w="145" h="322">
                <a:moveTo>
                  <a:pt x="36" y="280"/>
                </a:moveTo>
                <a:lnTo>
                  <a:pt x="0" y="305"/>
                </a:lnTo>
                <a:lnTo>
                  <a:pt x="94" y="322"/>
                </a:lnTo>
                <a:lnTo>
                  <a:pt x="128" y="212"/>
                </a:lnTo>
                <a:lnTo>
                  <a:pt x="94" y="237"/>
                </a:lnTo>
                <a:lnTo>
                  <a:pt x="89" y="225"/>
                </a:lnTo>
                <a:lnTo>
                  <a:pt x="87" y="212"/>
                </a:lnTo>
                <a:lnTo>
                  <a:pt x="85" y="200"/>
                </a:lnTo>
                <a:lnTo>
                  <a:pt x="84" y="187"/>
                </a:lnTo>
                <a:lnTo>
                  <a:pt x="84" y="179"/>
                </a:lnTo>
                <a:lnTo>
                  <a:pt x="85" y="172"/>
                </a:lnTo>
                <a:lnTo>
                  <a:pt x="85" y="165"/>
                </a:lnTo>
                <a:lnTo>
                  <a:pt x="88" y="158"/>
                </a:lnTo>
                <a:lnTo>
                  <a:pt x="89" y="150"/>
                </a:lnTo>
                <a:lnTo>
                  <a:pt x="92" y="143"/>
                </a:lnTo>
                <a:lnTo>
                  <a:pt x="94" y="137"/>
                </a:lnTo>
                <a:lnTo>
                  <a:pt x="97" y="131"/>
                </a:lnTo>
                <a:lnTo>
                  <a:pt x="101" y="125"/>
                </a:lnTo>
                <a:lnTo>
                  <a:pt x="103" y="119"/>
                </a:lnTo>
                <a:lnTo>
                  <a:pt x="107" y="113"/>
                </a:lnTo>
                <a:lnTo>
                  <a:pt x="113" y="108"/>
                </a:lnTo>
                <a:lnTo>
                  <a:pt x="116" y="104"/>
                </a:lnTo>
                <a:lnTo>
                  <a:pt x="122" y="100"/>
                </a:lnTo>
                <a:lnTo>
                  <a:pt x="127" y="96"/>
                </a:lnTo>
                <a:lnTo>
                  <a:pt x="132" y="92"/>
                </a:lnTo>
                <a:lnTo>
                  <a:pt x="132" y="92"/>
                </a:lnTo>
                <a:lnTo>
                  <a:pt x="107" y="56"/>
                </a:lnTo>
                <a:lnTo>
                  <a:pt x="145" y="0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8" y="8"/>
                </a:lnTo>
                <a:lnTo>
                  <a:pt x="111" y="11"/>
                </a:lnTo>
                <a:lnTo>
                  <a:pt x="106" y="14"/>
                </a:lnTo>
                <a:lnTo>
                  <a:pt x="100" y="18"/>
                </a:lnTo>
                <a:lnTo>
                  <a:pt x="93" y="22"/>
                </a:lnTo>
                <a:lnTo>
                  <a:pt x="88" y="26"/>
                </a:lnTo>
                <a:lnTo>
                  <a:pt x="83" y="31"/>
                </a:lnTo>
                <a:lnTo>
                  <a:pt x="77" y="36"/>
                </a:lnTo>
                <a:lnTo>
                  <a:pt x="72" y="41"/>
                </a:lnTo>
                <a:lnTo>
                  <a:pt x="67" y="46"/>
                </a:lnTo>
                <a:lnTo>
                  <a:pt x="62" y="51"/>
                </a:lnTo>
                <a:lnTo>
                  <a:pt x="53" y="64"/>
                </a:lnTo>
                <a:lnTo>
                  <a:pt x="45" y="77"/>
                </a:lnTo>
                <a:lnTo>
                  <a:pt x="37" y="90"/>
                </a:lnTo>
                <a:lnTo>
                  <a:pt x="31" y="105"/>
                </a:lnTo>
                <a:lnTo>
                  <a:pt x="26" y="120"/>
                </a:lnTo>
                <a:lnTo>
                  <a:pt x="22" y="136"/>
                </a:lnTo>
                <a:lnTo>
                  <a:pt x="19" y="152"/>
                </a:lnTo>
                <a:lnTo>
                  <a:pt x="16" y="170"/>
                </a:lnTo>
                <a:lnTo>
                  <a:pt x="16" y="187"/>
                </a:lnTo>
                <a:lnTo>
                  <a:pt x="16" y="199"/>
                </a:lnTo>
                <a:lnTo>
                  <a:pt x="18" y="211"/>
                </a:lnTo>
                <a:lnTo>
                  <a:pt x="19" y="223"/>
                </a:lnTo>
                <a:lnTo>
                  <a:pt x="22" y="234"/>
                </a:lnTo>
                <a:lnTo>
                  <a:pt x="24" y="246"/>
                </a:lnTo>
                <a:lnTo>
                  <a:pt x="27" y="257"/>
                </a:lnTo>
                <a:lnTo>
                  <a:pt x="31" y="268"/>
                </a:lnTo>
                <a:lnTo>
                  <a:pt x="36" y="280"/>
                </a:lnTo>
              </a:path>
            </a:pathLst>
          </a:custGeom>
          <a:noFill/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30400" y="4708440"/>
            <a:ext cx="2833560" cy="1959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87440" y="2157480"/>
            <a:ext cx="2319480" cy="492120"/>
          </a:xfrm>
          <a:custGeom>
            <a:avLst/>
            <a:gdLst/>
            <a:ahLst/>
            <a:rect l="l" t="t" r="r" b="b"/>
            <a:pathLst>
              <a:path w="1461" h="620">
                <a:moveTo>
                  <a:pt x="98" y="620"/>
                </a:moveTo>
                <a:lnTo>
                  <a:pt x="1364" y="620"/>
                </a:lnTo>
                <a:lnTo>
                  <a:pt x="1369" y="620"/>
                </a:lnTo>
                <a:lnTo>
                  <a:pt x="1374" y="620"/>
                </a:lnTo>
                <a:lnTo>
                  <a:pt x="1378" y="619"/>
                </a:lnTo>
                <a:lnTo>
                  <a:pt x="1383" y="618"/>
                </a:lnTo>
                <a:lnTo>
                  <a:pt x="1388" y="616"/>
                </a:lnTo>
                <a:lnTo>
                  <a:pt x="1392" y="615"/>
                </a:lnTo>
                <a:lnTo>
                  <a:pt x="1398" y="613"/>
                </a:lnTo>
                <a:lnTo>
                  <a:pt x="1401" y="611"/>
                </a:lnTo>
                <a:lnTo>
                  <a:pt x="1405" y="608"/>
                </a:lnTo>
                <a:lnTo>
                  <a:pt x="1411" y="606"/>
                </a:lnTo>
                <a:lnTo>
                  <a:pt x="1418" y="600"/>
                </a:lnTo>
                <a:lnTo>
                  <a:pt x="1426" y="592"/>
                </a:lnTo>
                <a:lnTo>
                  <a:pt x="1433" y="584"/>
                </a:lnTo>
                <a:lnTo>
                  <a:pt x="1439" y="575"/>
                </a:lnTo>
                <a:lnTo>
                  <a:pt x="1444" y="566"/>
                </a:lnTo>
                <a:lnTo>
                  <a:pt x="1449" y="555"/>
                </a:lnTo>
                <a:lnTo>
                  <a:pt x="1453" y="545"/>
                </a:lnTo>
                <a:lnTo>
                  <a:pt x="1457" y="533"/>
                </a:lnTo>
                <a:lnTo>
                  <a:pt x="1459" y="521"/>
                </a:lnTo>
                <a:lnTo>
                  <a:pt x="1460" y="509"/>
                </a:lnTo>
                <a:lnTo>
                  <a:pt x="1461" y="496"/>
                </a:lnTo>
                <a:lnTo>
                  <a:pt x="1461" y="496"/>
                </a:lnTo>
                <a:lnTo>
                  <a:pt x="1461" y="496"/>
                </a:lnTo>
                <a:lnTo>
                  <a:pt x="1461" y="124"/>
                </a:lnTo>
                <a:lnTo>
                  <a:pt x="1461" y="112"/>
                </a:lnTo>
                <a:lnTo>
                  <a:pt x="1459" y="100"/>
                </a:lnTo>
                <a:lnTo>
                  <a:pt x="1457" y="87"/>
                </a:lnTo>
                <a:lnTo>
                  <a:pt x="1453" y="76"/>
                </a:lnTo>
                <a:lnTo>
                  <a:pt x="1449" y="66"/>
                </a:lnTo>
                <a:lnTo>
                  <a:pt x="1444" y="55"/>
                </a:lnTo>
                <a:lnTo>
                  <a:pt x="1439" y="46"/>
                </a:lnTo>
                <a:lnTo>
                  <a:pt x="1433" y="37"/>
                </a:lnTo>
                <a:lnTo>
                  <a:pt x="1426" y="29"/>
                </a:lnTo>
                <a:lnTo>
                  <a:pt x="1418" y="22"/>
                </a:lnTo>
                <a:lnTo>
                  <a:pt x="1411" y="16"/>
                </a:lnTo>
                <a:lnTo>
                  <a:pt x="1405" y="13"/>
                </a:lnTo>
                <a:lnTo>
                  <a:pt x="1401" y="11"/>
                </a:lnTo>
                <a:lnTo>
                  <a:pt x="1398" y="8"/>
                </a:lnTo>
                <a:lnTo>
                  <a:pt x="1392" y="7"/>
                </a:lnTo>
                <a:lnTo>
                  <a:pt x="1388" y="5"/>
                </a:lnTo>
                <a:lnTo>
                  <a:pt x="1383" y="4"/>
                </a:lnTo>
                <a:lnTo>
                  <a:pt x="1378" y="2"/>
                </a:lnTo>
                <a:lnTo>
                  <a:pt x="1374" y="1"/>
                </a:lnTo>
                <a:lnTo>
                  <a:pt x="1369" y="0"/>
                </a:lnTo>
                <a:lnTo>
                  <a:pt x="1364" y="0"/>
                </a:lnTo>
                <a:lnTo>
                  <a:pt x="98" y="0"/>
                </a:lnTo>
                <a:lnTo>
                  <a:pt x="93" y="0"/>
                </a:lnTo>
                <a:lnTo>
                  <a:pt x="87" y="1"/>
                </a:lnTo>
                <a:lnTo>
                  <a:pt x="82" y="2"/>
                </a:lnTo>
                <a:lnTo>
                  <a:pt x="78" y="4"/>
                </a:lnTo>
                <a:lnTo>
                  <a:pt x="73" y="5"/>
                </a:lnTo>
                <a:lnTo>
                  <a:pt x="69" y="7"/>
                </a:lnTo>
                <a:lnTo>
                  <a:pt x="64" y="8"/>
                </a:lnTo>
                <a:lnTo>
                  <a:pt x="60" y="11"/>
                </a:lnTo>
                <a:lnTo>
                  <a:pt x="55" y="13"/>
                </a:lnTo>
                <a:lnTo>
                  <a:pt x="51" y="16"/>
                </a:lnTo>
                <a:lnTo>
                  <a:pt x="43" y="22"/>
                </a:lnTo>
                <a:lnTo>
                  <a:pt x="35" y="29"/>
                </a:lnTo>
                <a:lnTo>
                  <a:pt x="29" y="37"/>
                </a:lnTo>
                <a:lnTo>
                  <a:pt x="22" y="46"/>
                </a:lnTo>
                <a:lnTo>
                  <a:pt x="17" y="55"/>
                </a:lnTo>
                <a:lnTo>
                  <a:pt x="12" y="66"/>
                </a:lnTo>
                <a:lnTo>
                  <a:pt x="8" y="76"/>
                </a:lnTo>
                <a:lnTo>
                  <a:pt x="4" y="87"/>
                </a:lnTo>
                <a:lnTo>
                  <a:pt x="2" y="100"/>
                </a:lnTo>
                <a:lnTo>
                  <a:pt x="0" y="112"/>
                </a:lnTo>
                <a:lnTo>
                  <a:pt x="0" y="124"/>
                </a:lnTo>
                <a:lnTo>
                  <a:pt x="0" y="124"/>
                </a:lnTo>
                <a:lnTo>
                  <a:pt x="0" y="496"/>
                </a:lnTo>
                <a:lnTo>
                  <a:pt x="0" y="509"/>
                </a:lnTo>
                <a:lnTo>
                  <a:pt x="2" y="521"/>
                </a:lnTo>
                <a:lnTo>
                  <a:pt x="4" y="533"/>
                </a:lnTo>
                <a:lnTo>
                  <a:pt x="8" y="545"/>
                </a:lnTo>
                <a:lnTo>
                  <a:pt x="12" y="555"/>
                </a:lnTo>
                <a:lnTo>
                  <a:pt x="17" y="566"/>
                </a:lnTo>
                <a:lnTo>
                  <a:pt x="22" y="575"/>
                </a:lnTo>
                <a:lnTo>
                  <a:pt x="29" y="584"/>
                </a:lnTo>
                <a:lnTo>
                  <a:pt x="35" y="592"/>
                </a:lnTo>
                <a:lnTo>
                  <a:pt x="43" y="600"/>
                </a:lnTo>
                <a:lnTo>
                  <a:pt x="51" y="606"/>
                </a:lnTo>
                <a:lnTo>
                  <a:pt x="55" y="608"/>
                </a:lnTo>
                <a:lnTo>
                  <a:pt x="60" y="611"/>
                </a:lnTo>
                <a:lnTo>
                  <a:pt x="64" y="613"/>
                </a:lnTo>
                <a:lnTo>
                  <a:pt x="69" y="615"/>
                </a:lnTo>
                <a:lnTo>
                  <a:pt x="73" y="616"/>
                </a:lnTo>
                <a:lnTo>
                  <a:pt x="78" y="618"/>
                </a:lnTo>
                <a:lnTo>
                  <a:pt x="82" y="619"/>
                </a:lnTo>
                <a:lnTo>
                  <a:pt x="87" y="620"/>
                </a:lnTo>
                <a:lnTo>
                  <a:pt x="93" y="620"/>
                </a:lnTo>
                <a:lnTo>
                  <a:pt x="98" y="620"/>
                </a:lnTo>
                <a:lnTo>
                  <a:pt x="98" y="62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73240" y="2157480"/>
            <a:ext cx="2712960" cy="492120"/>
          </a:xfrm>
          <a:custGeom>
            <a:avLst/>
            <a:gdLst/>
            <a:ahLst/>
            <a:rect l="l" t="t" r="r" b="b"/>
            <a:pathLst>
              <a:path w="1461" h="620">
                <a:moveTo>
                  <a:pt x="98" y="620"/>
                </a:moveTo>
                <a:lnTo>
                  <a:pt x="1364" y="620"/>
                </a:lnTo>
                <a:lnTo>
                  <a:pt x="1369" y="620"/>
                </a:lnTo>
                <a:lnTo>
                  <a:pt x="1374" y="620"/>
                </a:lnTo>
                <a:lnTo>
                  <a:pt x="1378" y="619"/>
                </a:lnTo>
                <a:lnTo>
                  <a:pt x="1383" y="618"/>
                </a:lnTo>
                <a:lnTo>
                  <a:pt x="1388" y="616"/>
                </a:lnTo>
                <a:lnTo>
                  <a:pt x="1392" y="615"/>
                </a:lnTo>
                <a:lnTo>
                  <a:pt x="1398" y="613"/>
                </a:lnTo>
                <a:lnTo>
                  <a:pt x="1401" y="611"/>
                </a:lnTo>
                <a:lnTo>
                  <a:pt x="1405" y="608"/>
                </a:lnTo>
                <a:lnTo>
                  <a:pt x="1411" y="606"/>
                </a:lnTo>
                <a:lnTo>
                  <a:pt x="1418" y="600"/>
                </a:lnTo>
                <a:lnTo>
                  <a:pt x="1426" y="592"/>
                </a:lnTo>
                <a:lnTo>
                  <a:pt x="1433" y="584"/>
                </a:lnTo>
                <a:lnTo>
                  <a:pt x="1439" y="575"/>
                </a:lnTo>
                <a:lnTo>
                  <a:pt x="1444" y="566"/>
                </a:lnTo>
                <a:lnTo>
                  <a:pt x="1449" y="555"/>
                </a:lnTo>
                <a:lnTo>
                  <a:pt x="1453" y="545"/>
                </a:lnTo>
                <a:lnTo>
                  <a:pt x="1457" y="533"/>
                </a:lnTo>
                <a:lnTo>
                  <a:pt x="1459" y="521"/>
                </a:lnTo>
                <a:lnTo>
                  <a:pt x="1460" y="509"/>
                </a:lnTo>
                <a:lnTo>
                  <a:pt x="1461" y="496"/>
                </a:lnTo>
                <a:lnTo>
                  <a:pt x="1461" y="496"/>
                </a:lnTo>
                <a:lnTo>
                  <a:pt x="1461" y="496"/>
                </a:lnTo>
                <a:lnTo>
                  <a:pt x="1461" y="124"/>
                </a:lnTo>
                <a:lnTo>
                  <a:pt x="1461" y="112"/>
                </a:lnTo>
                <a:lnTo>
                  <a:pt x="1459" y="100"/>
                </a:lnTo>
                <a:lnTo>
                  <a:pt x="1457" y="87"/>
                </a:lnTo>
                <a:lnTo>
                  <a:pt x="1453" y="76"/>
                </a:lnTo>
                <a:lnTo>
                  <a:pt x="1449" y="66"/>
                </a:lnTo>
                <a:lnTo>
                  <a:pt x="1444" y="55"/>
                </a:lnTo>
                <a:lnTo>
                  <a:pt x="1439" y="46"/>
                </a:lnTo>
                <a:lnTo>
                  <a:pt x="1433" y="37"/>
                </a:lnTo>
                <a:lnTo>
                  <a:pt x="1426" y="29"/>
                </a:lnTo>
                <a:lnTo>
                  <a:pt x="1418" y="22"/>
                </a:lnTo>
                <a:lnTo>
                  <a:pt x="1411" y="16"/>
                </a:lnTo>
                <a:lnTo>
                  <a:pt x="1405" y="13"/>
                </a:lnTo>
                <a:lnTo>
                  <a:pt x="1401" y="11"/>
                </a:lnTo>
                <a:lnTo>
                  <a:pt x="1398" y="8"/>
                </a:lnTo>
                <a:lnTo>
                  <a:pt x="1392" y="7"/>
                </a:lnTo>
                <a:lnTo>
                  <a:pt x="1388" y="5"/>
                </a:lnTo>
                <a:lnTo>
                  <a:pt x="1383" y="4"/>
                </a:lnTo>
                <a:lnTo>
                  <a:pt x="1378" y="2"/>
                </a:lnTo>
                <a:lnTo>
                  <a:pt x="1374" y="1"/>
                </a:lnTo>
                <a:lnTo>
                  <a:pt x="1369" y="0"/>
                </a:lnTo>
                <a:lnTo>
                  <a:pt x="1364" y="0"/>
                </a:lnTo>
                <a:lnTo>
                  <a:pt x="98" y="0"/>
                </a:lnTo>
                <a:lnTo>
                  <a:pt x="93" y="0"/>
                </a:lnTo>
                <a:lnTo>
                  <a:pt x="87" y="1"/>
                </a:lnTo>
                <a:lnTo>
                  <a:pt x="82" y="2"/>
                </a:lnTo>
                <a:lnTo>
                  <a:pt x="78" y="4"/>
                </a:lnTo>
                <a:lnTo>
                  <a:pt x="73" y="5"/>
                </a:lnTo>
                <a:lnTo>
                  <a:pt x="69" y="7"/>
                </a:lnTo>
                <a:lnTo>
                  <a:pt x="64" y="8"/>
                </a:lnTo>
                <a:lnTo>
                  <a:pt x="60" y="11"/>
                </a:lnTo>
                <a:lnTo>
                  <a:pt x="55" y="13"/>
                </a:lnTo>
                <a:lnTo>
                  <a:pt x="51" y="16"/>
                </a:lnTo>
                <a:lnTo>
                  <a:pt x="43" y="22"/>
                </a:lnTo>
                <a:lnTo>
                  <a:pt x="35" y="29"/>
                </a:lnTo>
                <a:lnTo>
                  <a:pt x="29" y="37"/>
                </a:lnTo>
                <a:lnTo>
                  <a:pt x="22" y="46"/>
                </a:lnTo>
                <a:lnTo>
                  <a:pt x="17" y="55"/>
                </a:lnTo>
                <a:lnTo>
                  <a:pt x="12" y="66"/>
                </a:lnTo>
                <a:lnTo>
                  <a:pt x="8" y="76"/>
                </a:lnTo>
                <a:lnTo>
                  <a:pt x="4" y="87"/>
                </a:lnTo>
                <a:lnTo>
                  <a:pt x="2" y="100"/>
                </a:lnTo>
                <a:lnTo>
                  <a:pt x="0" y="112"/>
                </a:lnTo>
                <a:lnTo>
                  <a:pt x="0" y="124"/>
                </a:lnTo>
                <a:lnTo>
                  <a:pt x="0" y="124"/>
                </a:lnTo>
                <a:lnTo>
                  <a:pt x="0" y="496"/>
                </a:lnTo>
                <a:lnTo>
                  <a:pt x="0" y="509"/>
                </a:lnTo>
                <a:lnTo>
                  <a:pt x="2" y="521"/>
                </a:lnTo>
                <a:lnTo>
                  <a:pt x="4" y="533"/>
                </a:lnTo>
                <a:lnTo>
                  <a:pt x="8" y="545"/>
                </a:lnTo>
                <a:lnTo>
                  <a:pt x="12" y="555"/>
                </a:lnTo>
                <a:lnTo>
                  <a:pt x="17" y="566"/>
                </a:lnTo>
                <a:lnTo>
                  <a:pt x="22" y="575"/>
                </a:lnTo>
                <a:lnTo>
                  <a:pt x="29" y="584"/>
                </a:lnTo>
                <a:lnTo>
                  <a:pt x="35" y="592"/>
                </a:lnTo>
                <a:lnTo>
                  <a:pt x="43" y="600"/>
                </a:lnTo>
                <a:lnTo>
                  <a:pt x="51" y="606"/>
                </a:lnTo>
                <a:lnTo>
                  <a:pt x="55" y="608"/>
                </a:lnTo>
                <a:lnTo>
                  <a:pt x="60" y="611"/>
                </a:lnTo>
                <a:lnTo>
                  <a:pt x="64" y="613"/>
                </a:lnTo>
                <a:lnTo>
                  <a:pt x="69" y="615"/>
                </a:lnTo>
                <a:lnTo>
                  <a:pt x="73" y="616"/>
                </a:lnTo>
                <a:lnTo>
                  <a:pt x="78" y="618"/>
                </a:lnTo>
                <a:lnTo>
                  <a:pt x="82" y="619"/>
                </a:lnTo>
                <a:lnTo>
                  <a:pt x="87" y="620"/>
                </a:lnTo>
                <a:lnTo>
                  <a:pt x="93" y="620"/>
                </a:lnTo>
                <a:lnTo>
                  <a:pt x="98" y="620"/>
                </a:lnTo>
                <a:lnTo>
                  <a:pt x="98" y="620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73040" y="2209680"/>
            <a:ext cx="24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eliminary interest for developing a project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46280" y="1911240"/>
            <a:ext cx="1800" cy="190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96960" y="2093760"/>
            <a:ext cx="101880" cy="6372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1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3360" y="2649600"/>
            <a:ext cx="772920" cy="527040"/>
          </a:xfrm>
          <a:custGeom>
            <a:avLst/>
            <a:gdLst/>
            <a:ahLst/>
            <a:rect l="l" t="t" r="r" b="b"/>
            <a:pathLst>
              <a:path w="487" h="643">
                <a:moveTo>
                  <a:pt x="487" y="0"/>
                </a:moveTo>
                <a:lnTo>
                  <a:pt x="487" y="310"/>
                </a:lnTo>
                <a:lnTo>
                  <a:pt x="0" y="310"/>
                </a:lnTo>
                <a:lnTo>
                  <a:pt x="0" y="64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4040" y="3151080"/>
            <a:ext cx="101520" cy="651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1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46280" y="2649600"/>
            <a:ext cx="979560" cy="542880"/>
          </a:xfrm>
          <a:custGeom>
            <a:avLst/>
            <a:gdLst/>
            <a:ahLst/>
            <a:rect l="l" t="t" r="r" b="b"/>
            <a:pathLst>
              <a:path w="617" h="684">
                <a:moveTo>
                  <a:pt x="0" y="0"/>
                </a:moveTo>
                <a:lnTo>
                  <a:pt x="0" y="310"/>
                </a:lnTo>
                <a:lnTo>
                  <a:pt x="617" y="310"/>
                </a:lnTo>
                <a:lnTo>
                  <a:pt x="617" y="68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73280" y="3156120"/>
            <a:ext cx="101880" cy="6336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0"/>
                </a:moveTo>
                <a:lnTo>
                  <a:pt x="33" y="80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10160" y="215748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3"/>
                </a:moveTo>
                <a:lnTo>
                  <a:pt x="0" y="0"/>
                </a:lnTo>
                <a:lnTo>
                  <a:pt x="1137" y="0"/>
                </a:lnTo>
                <a:lnTo>
                  <a:pt x="1137" y="543"/>
                </a:lnTo>
                <a:lnTo>
                  <a:pt x="1120" y="533"/>
                </a:lnTo>
                <a:lnTo>
                  <a:pt x="1103" y="525"/>
                </a:lnTo>
                <a:lnTo>
                  <a:pt x="1085" y="517"/>
                </a:lnTo>
                <a:lnTo>
                  <a:pt x="1068" y="509"/>
                </a:lnTo>
                <a:lnTo>
                  <a:pt x="1050" y="502"/>
                </a:lnTo>
                <a:lnTo>
                  <a:pt x="1033" y="495"/>
                </a:lnTo>
                <a:lnTo>
                  <a:pt x="1014" y="490"/>
                </a:lnTo>
                <a:lnTo>
                  <a:pt x="996" y="485"/>
                </a:lnTo>
                <a:lnTo>
                  <a:pt x="979" y="481"/>
                </a:lnTo>
                <a:lnTo>
                  <a:pt x="961" y="477"/>
                </a:lnTo>
                <a:lnTo>
                  <a:pt x="943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5"/>
                </a:lnTo>
                <a:lnTo>
                  <a:pt x="852" y="465"/>
                </a:lnTo>
                <a:lnTo>
                  <a:pt x="834" y="465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7"/>
                </a:lnTo>
                <a:lnTo>
                  <a:pt x="726" y="481"/>
                </a:lnTo>
                <a:lnTo>
                  <a:pt x="708" y="485"/>
                </a:lnTo>
                <a:lnTo>
                  <a:pt x="690" y="490"/>
                </a:lnTo>
                <a:lnTo>
                  <a:pt x="673" y="495"/>
                </a:lnTo>
                <a:lnTo>
                  <a:pt x="655" y="502"/>
                </a:lnTo>
                <a:lnTo>
                  <a:pt x="637" y="509"/>
                </a:lnTo>
                <a:lnTo>
                  <a:pt x="620" y="517"/>
                </a:lnTo>
                <a:lnTo>
                  <a:pt x="603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7" y="570"/>
                </a:lnTo>
                <a:lnTo>
                  <a:pt x="499" y="577"/>
                </a:lnTo>
                <a:lnTo>
                  <a:pt x="482" y="584"/>
                </a:lnTo>
                <a:lnTo>
                  <a:pt x="464" y="590"/>
                </a:lnTo>
                <a:lnTo>
                  <a:pt x="447" y="595"/>
                </a:lnTo>
                <a:lnTo>
                  <a:pt x="429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3" y="620"/>
                </a:lnTo>
                <a:lnTo>
                  <a:pt x="285" y="620"/>
                </a:lnTo>
                <a:lnTo>
                  <a:pt x="267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4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2" y="595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2" y="570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10160" y="2157480"/>
            <a:ext cx="1805040" cy="492120"/>
          </a:xfrm>
          <a:custGeom>
            <a:avLst/>
            <a:gdLst/>
            <a:ahLst/>
            <a:rect l="l" t="t" r="r" b="b"/>
            <a:pathLst>
              <a:path w="1137" h="620">
                <a:moveTo>
                  <a:pt x="0" y="543"/>
                </a:moveTo>
                <a:lnTo>
                  <a:pt x="0" y="0"/>
                </a:lnTo>
                <a:lnTo>
                  <a:pt x="1137" y="0"/>
                </a:lnTo>
                <a:lnTo>
                  <a:pt x="1137" y="543"/>
                </a:lnTo>
                <a:lnTo>
                  <a:pt x="1120" y="533"/>
                </a:lnTo>
                <a:lnTo>
                  <a:pt x="1103" y="525"/>
                </a:lnTo>
                <a:lnTo>
                  <a:pt x="1085" y="517"/>
                </a:lnTo>
                <a:lnTo>
                  <a:pt x="1068" y="509"/>
                </a:lnTo>
                <a:lnTo>
                  <a:pt x="1050" y="502"/>
                </a:lnTo>
                <a:lnTo>
                  <a:pt x="1033" y="495"/>
                </a:lnTo>
                <a:lnTo>
                  <a:pt x="1014" y="490"/>
                </a:lnTo>
                <a:lnTo>
                  <a:pt x="996" y="485"/>
                </a:lnTo>
                <a:lnTo>
                  <a:pt x="979" y="481"/>
                </a:lnTo>
                <a:lnTo>
                  <a:pt x="961" y="477"/>
                </a:lnTo>
                <a:lnTo>
                  <a:pt x="943" y="473"/>
                </a:lnTo>
                <a:lnTo>
                  <a:pt x="925" y="470"/>
                </a:lnTo>
                <a:lnTo>
                  <a:pt x="907" y="468"/>
                </a:lnTo>
                <a:lnTo>
                  <a:pt x="889" y="466"/>
                </a:lnTo>
                <a:lnTo>
                  <a:pt x="870" y="465"/>
                </a:lnTo>
                <a:lnTo>
                  <a:pt x="852" y="465"/>
                </a:lnTo>
                <a:lnTo>
                  <a:pt x="834" y="465"/>
                </a:lnTo>
                <a:lnTo>
                  <a:pt x="816" y="466"/>
                </a:lnTo>
                <a:lnTo>
                  <a:pt x="798" y="468"/>
                </a:lnTo>
                <a:lnTo>
                  <a:pt x="779" y="470"/>
                </a:lnTo>
                <a:lnTo>
                  <a:pt x="761" y="473"/>
                </a:lnTo>
                <a:lnTo>
                  <a:pt x="743" y="477"/>
                </a:lnTo>
                <a:lnTo>
                  <a:pt x="726" y="481"/>
                </a:lnTo>
                <a:lnTo>
                  <a:pt x="708" y="485"/>
                </a:lnTo>
                <a:lnTo>
                  <a:pt x="690" y="490"/>
                </a:lnTo>
                <a:lnTo>
                  <a:pt x="673" y="495"/>
                </a:lnTo>
                <a:lnTo>
                  <a:pt x="655" y="502"/>
                </a:lnTo>
                <a:lnTo>
                  <a:pt x="637" y="509"/>
                </a:lnTo>
                <a:lnTo>
                  <a:pt x="620" y="517"/>
                </a:lnTo>
                <a:lnTo>
                  <a:pt x="603" y="525"/>
                </a:lnTo>
                <a:lnTo>
                  <a:pt x="585" y="533"/>
                </a:lnTo>
                <a:lnTo>
                  <a:pt x="568" y="543"/>
                </a:lnTo>
                <a:lnTo>
                  <a:pt x="551" y="552"/>
                </a:lnTo>
                <a:lnTo>
                  <a:pt x="534" y="561"/>
                </a:lnTo>
                <a:lnTo>
                  <a:pt x="517" y="570"/>
                </a:lnTo>
                <a:lnTo>
                  <a:pt x="499" y="577"/>
                </a:lnTo>
                <a:lnTo>
                  <a:pt x="482" y="584"/>
                </a:lnTo>
                <a:lnTo>
                  <a:pt x="464" y="590"/>
                </a:lnTo>
                <a:lnTo>
                  <a:pt x="447" y="595"/>
                </a:lnTo>
                <a:lnTo>
                  <a:pt x="429" y="601"/>
                </a:lnTo>
                <a:lnTo>
                  <a:pt x="411" y="606"/>
                </a:lnTo>
                <a:lnTo>
                  <a:pt x="392" y="610"/>
                </a:lnTo>
                <a:lnTo>
                  <a:pt x="374" y="613"/>
                </a:lnTo>
                <a:lnTo>
                  <a:pt x="357" y="615"/>
                </a:lnTo>
                <a:lnTo>
                  <a:pt x="339" y="618"/>
                </a:lnTo>
                <a:lnTo>
                  <a:pt x="321" y="619"/>
                </a:lnTo>
                <a:lnTo>
                  <a:pt x="303" y="620"/>
                </a:lnTo>
                <a:lnTo>
                  <a:pt x="285" y="620"/>
                </a:lnTo>
                <a:lnTo>
                  <a:pt x="267" y="620"/>
                </a:lnTo>
                <a:lnTo>
                  <a:pt x="248" y="619"/>
                </a:lnTo>
                <a:lnTo>
                  <a:pt x="230" y="618"/>
                </a:lnTo>
                <a:lnTo>
                  <a:pt x="212" y="615"/>
                </a:lnTo>
                <a:lnTo>
                  <a:pt x="194" y="613"/>
                </a:lnTo>
                <a:lnTo>
                  <a:pt x="176" y="610"/>
                </a:lnTo>
                <a:lnTo>
                  <a:pt x="157" y="606"/>
                </a:lnTo>
                <a:lnTo>
                  <a:pt x="139" y="601"/>
                </a:lnTo>
                <a:lnTo>
                  <a:pt x="122" y="595"/>
                </a:lnTo>
                <a:lnTo>
                  <a:pt x="104" y="590"/>
                </a:lnTo>
                <a:lnTo>
                  <a:pt x="86" y="584"/>
                </a:lnTo>
                <a:lnTo>
                  <a:pt x="69" y="577"/>
                </a:lnTo>
                <a:lnTo>
                  <a:pt x="52" y="570"/>
                </a:lnTo>
                <a:lnTo>
                  <a:pt x="34" y="561"/>
                </a:lnTo>
                <a:lnTo>
                  <a:pt x="17" y="552"/>
                </a:lnTo>
                <a:lnTo>
                  <a:pt x="0" y="543"/>
                </a:lnTo>
                <a:lnTo>
                  <a:pt x="0" y="543"/>
                </a:lnTo>
              </a:path>
            </a:pathLst>
          </a:custGeom>
          <a:solidFill>
            <a:srgbClr val="ff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85120" y="2270160"/>
            <a:ext cx="11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4120" y="2400480"/>
            <a:ext cx="1446120" cy="42840"/>
          </a:xfrm>
          <a:custGeom>
            <a:avLst/>
            <a:gdLst/>
            <a:ahLst/>
            <a:rect l="l" t="t" r="r" b="b"/>
            <a:pathLst>
              <a:path w="1075" h="11">
                <a:moveTo>
                  <a:pt x="6" y="0"/>
                </a:moveTo>
                <a:lnTo>
                  <a:pt x="102" y="0"/>
                </a:lnTo>
                <a:lnTo>
                  <a:pt x="105" y="0"/>
                </a:lnTo>
                <a:lnTo>
                  <a:pt x="107" y="1"/>
                </a:lnTo>
                <a:lnTo>
                  <a:pt x="109" y="3"/>
                </a:lnTo>
                <a:lnTo>
                  <a:pt x="109" y="5"/>
                </a:lnTo>
                <a:lnTo>
                  <a:pt x="109" y="7"/>
                </a:lnTo>
                <a:lnTo>
                  <a:pt x="107" y="9"/>
                </a:lnTo>
                <a:lnTo>
                  <a:pt x="105" y="11"/>
                </a:lnTo>
                <a:lnTo>
                  <a:pt x="102" y="11"/>
                </a:lnTo>
                <a:lnTo>
                  <a:pt x="6" y="11"/>
                </a:lnTo>
                <a:lnTo>
                  <a:pt x="4" y="11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close/>
                <a:moveTo>
                  <a:pt x="171" y="0"/>
                </a:moveTo>
                <a:lnTo>
                  <a:pt x="267" y="0"/>
                </a:lnTo>
                <a:lnTo>
                  <a:pt x="270" y="0"/>
                </a:lnTo>
                <a:lnTo>
                  <a:pt x="272" y="1"/>
                </a:lnTo>
                <a:lnTo>
                  <a:pt x="274" y="3"/>
                </a:lnTo>
                <a:lnTo>
                  <a:pt x="274" y="5"/>
                </a:lnTo>
                <a:lnTo>
                  <a:pt x="274" y="7"/>
                </a:lnTo>
                <a:lnTo>
                  <a:pt x="272" y="9"/>
                </a:lnTo>
                <a:lnTo>
                  <a:pt x="270" y="11"/>
                </a:lnTo>
                <a:lnTo>
                  <a:pt x="267" y="11"/>
                </a:lnTo>
                <a:lnTo>
                  <a:pt x="171" y="11"/>
                </a:lnTo>
                <a:lnTo>
                  <a:pt x="168" y="11"/>
                </a:lnTo>
                <a:lnTo>
                  <a:pt x="166" y="9"/>
                </a:lnTo>
                <a:lnTo>
                  <a:pt x="165" y="7"/>
                </a:lnTo>
                <a:lnTo>
                  <a:pt x="165" y="5"/>
                </a:lnTo>
                <a:lnTo>
                  <a:pt x="165" y="3"/>
                </a:lnTo>
                <a:lnTo>
                  <a:pt x="166" y="1"/>
                </a:lnTo>
                <a:lnTo>
                  <a:pt x="168" y="0"/>
                </a:lnTo>
                <a:lnTo>
                  <a:pt x="171" y="0"/>
                </a:lnTo>
                <a:lnTo>
                  <a:pt x="171" y="0"/>
                </a:lnTo>
                <a:close/>
                <a:moveTo>
                  <a:pt x="336" y="0"/>
                </a:moveTo>
                <a:lnTo>
                  <a:pt x="432" y="0"/>
                </a:lnTo>
                <a:lnTo>
                  <a:pt x="435" y="0"/>
                </a:lnTo>
                <a:lnTo>
                  <a:pt x="437" y="1"/>
                </a:lnTo>
                <a:lnTo>
                  <a:pt x="439" y="3"/>
                </a:lnTo>
                <a:lnTo>
                  <a:pt x="439" y="5"/>
                </a:lnTo>
                <a:lnTo>
                  <a:pt x="439" y="7"/>
                </a:lnTo>
                <a:lnTo>
                  <a:pt x="437" y="9"/>
                </a:lnTo>
                <a:lnTo>
                  <a:pt x="435" y="11"/>
                </a:lnTo>
                <a:lnTo>
                  <a:pt x="432" y="11"/>
                </a:lnTo>
                <a:lnTo>
                  <a:pt x="336" y="11"/>
                </a:lnTo>
                <a:lnTo>
                  <a:pt x="333" y="11"/>
                </a:lnTo>
                <a:lnTo>
                  <a:pt x="331" y="9"/>
                </a:lnTo>
                <a:lnTo>
                  <a:pt x="329" y="7"/>
                </a:lnTo>
                <a:lnTo>
                  <a:pt x="329" y="5"/>
                </a:lnTo>
                <a:lnTo>
                  <a:pt x="329" y="3"/>
                </a:lnTo>
                <a:lnTo>
                  <a:pt x="331" y="1"/>
                </a:lnTo>
                <a:lnTo>
                  <a:pt x="333" y="0"/>
                </a:lnTo>
                <a:lnTo>
                  <a:pt x="336" y="0"/>
                </a:lnTo>
                <a:lnTo>
                  <a:pt x="336" y="0"/>
                </a:lnTo>
                <a:close/>
                <a:moveTo>
                  <a:pt x="501" y="0"/>
                </a:moveTo>
                <a:lnTo>
                  <a:pt x="597" y="0"/>
                </a:lnTo>
                <a:lnTo>
                  <a:pt x="600" y="0"/>
                </a:lnTo>
                <a:lnTo>
                  <a:pt x="602" y="1"/>
                </a:lnTo>
                <a:lnTo>
                  <a:pt x="603" y="3"/>
                </a:lnTo>
                <a:lnTo>
                  <a:pt x="603" y="5"/>
                </a:lnTo>
                <a:lnTo>
                  <a:pt x="603" y="7"/>
                </a:lnTo>
                <a:lnTo>
                  <a:pt x="602" y="9"/>
                </a:lnTo>
                <a:lnTo>
                  <a:pt x="600" y="11"/>
                </a:lnTo>
                <a:lnTo>
                  <a:pt x="597" y="11"/>
                </a:lnTo>
                <a:lnTo>
                  <a:pt x="501" y="11"/>
                </a:lnTo>
                <a:lnTo>
                  <a:pt x="498" y="11"/>
                </a:lnTo>
                <a:lnTo>
                  <a:pt x="496" y="9"/>
                </a:lnTo>
                <a:lnTo>
                  <a:pt x="494" y="7"/>
                </a:lnTo>
                <a:lnTo>
                  <a:pt x="494" y="5"/>
                </a:lnTo>
                <a:lnTo>
                  <a:pt x="494" y="3"/>
                </a:lnTo>
                <a:lnTo>
                  <a:pt x="496" y="1"/>
                </a:lnTo>
                <a:lnTo>
                  <a:pt x="498" y="0"/>
                </a:lnTo>
                <a:lnTo>
                  <a:pt x="501" y="0"/>
                </a:lnTo>
                <a:lnTo>
                  <a:pt x="501" y="0"/>
                </a:lnTo>
                <a:close/>
                <a:moveTo>
                  <a:pt x="666" y="0"/>
                </a:moveTo>
                <a:lnTo>
                  <a:pt x="762" y="0"/>
                </a:lnTo>
                <a:lnTo>
                  <a:pt x="764" y="0"/>
                </a:lnTo>
                <a:lnTo>
                  <a:pt x="767" y="1"/>
                </a:lnTo>
                <a:lnTo>
                  <a:pt x="768" y="3"/>
                </a:lnTo>
                <a:lnTo>
                  <a:pt x="768" y="5"/>
                </a:lnTo>
                <a:lnTo>
                  <a:pt x="768" y="7"/>
                </a:lnTo>
                <a:lnTo>
                  <a:pt x="767" y="9"/>
                </a:lnTo>
                <a:lnTo>
                  <a:pt x="764" y="11"/>
                </a:lnTo>
                <a:lnTo>
                  <a:pt x="762" y="11"/>
                </a:lnTo>
                <a:lnTo>
                  <a:pt x="666" y="11"/>
                </a:lnTo>
                <a:lnTo>
                  <a:pt x="663" y="11"/>
                </a:lnTo>
                <a:lnTo>
                  <a:pt x="661" y="9"/>
                </a:lnTo>
                <a:lnTo>
                  <a:pt x="659" y="7"/>
                </a:lnTo>
                <a:lnTo>
                  <a:pt x="659" y="5"/>
                </a:lnTo>
                <a:lnTo>
                  <a:pt x="659" y="3"/>
                </a:lnTo>
                <a:lnTo>
                  <a:pt x="661" y="1"/>
                </a:lnTo>
                <a:lnTo>
                  <a:pt x="663" y="0"/>
                </a:lnTo>
                <a:lnTo>
                  <a:pt x="666" y="0"/>
                </a:lnTo>
                <a:lnTo>
                  <a:pt x="666" y="0"/>
                </a:lnTo>
                <a:close/>
                <a:moveTo>
                  <a:pt x="831" y="0"/>
                </a:moveTo>
                <a:lnTo>
                  <a:pt x="927" y="0"/>
                </a:lnTo>
                <a:lnTo>
                  <a:pt x="929" y="0"/>
                </a:lnTo>
                <a:lnTo>
                  <a:pt x="932" y="1"/>
                </a:lnTo>
                <a:lnTo>
                  <a:pt x="933" y="3"/>
                </a:lnTo>
                <a:lnTo>
                  <a:pt x="933" y="5"/>
                </a:lnTo>
                <a:lnTo>
                  <a:pt x="933" y="7"/>
                </a:lnTo>
                <a:lnTo>
                  <a:pt x="932" y="9"/>
                </a:lnTo>
                <a:lnTo>
                  <a:pt x="929" y="11"/>
                </a:lnTo>
                <a:lnTo>
                  <a:pt x="927" y="11"/>
                </a:lnTo>
                <a:lnTo>
                  <a:pt x="831" y="11"/>
                </a:lnTo>
                <a:lnTo>
                  <a:pt x="828" y="11"/>
                </a:lnTo>
                <a:lnTo>
                  <a:pt x="825" y="9"/>
                </a:lnTo>
                <a:lnTo>
                  <a:pt x="824" y="7"/>
                </a:lnTo>
                <a:lnTo>
                  <a:pt x="824" y="5"/>
                </a:lnTo>
                <a:lnTo>
                  <a:pt x="824" y="3"/>
                </a:lnTo>
                <a:lnTo>
                  <a:pt x="825" y="1"/>
                </a:lnTo>
                <a:lnTo>
                  <a:pt x="828" y="0"/>
                </a:lnTo>
                <a:lnTo>
                  <a:pt x="831" y="0"/>
                </a:lnTo>
                <a:lnTo>
                  <a:pt x="831" y="0"/>
                </a:lnTo>
                <a:close/>
                <a:moveTo>
                  <a:pt x="996" y="0"/>
                </a:moveTo>
                <a:lnTo>
                  <a:pt x="1068" y="0"/>
                </a:lnTo>
                <a:lnTo>
                  <a:pt x="1071" y="0"/>
                </a:lnTo>
                <a:lnTo>
                  <a:pt x="1072" y="1"/>
                </a:lnTo>
                <a:lnTo>
                  <a:pt x="1074" y="3"/>
                </a:lnTo>
                <a:lnTo>
                  <a:pt x="1075" y="5"/>
                </a:lnTo>
                <a:lnTo>
                  <a:pt x="1074" y="7"/>
                </a:lnTo>
                <a:lnTo>
                  <a:pt x="1072" y="9"/>
                </a:lnTo>
                <a:lnTo>
                  <a:pt x="1071" y="11"/>
                </a:lnTo>
                <a:lnTo>
                  <a:pt x="1068" y="11"/>
                </a:lnTo>
                <a:lnTo>
                  <a:pt x="996" y="11"/>
                </a:lnTo>
                <a:lnTo>
                  <a:pt x="993" y="11"/>
                </a:lnTo>
                <a:lnTo>
                  <a:pt x="990" y="9"/>
                </a:lnTo>
                <a:lnTo>
                  <a:pt x="989" y="7"/>
                </a:lnTo>
                <a:lnTo>
                  <a:pt x="989" y="5"/>
                </a:lnTo>
                <a:lnTo>
                  <a:pt x="989" y="3"/>
                </a:lnTo>
                <a:lnTo>
                  <a:pt x="990" y="1"/>
                </a:lnTo>
                <a:lnTo>
                  <a:pt x="993" y="0"/>
                </a:lnTo>
                <a:lnTo>
                  <a:pt x="996" y="0"/>
                </a:lnTo>
                <a:lnTo>
                  <a:pt x="99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5160" y="2360520"/>
            <a:ext cx="135000" cy="8748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0"/>
                </a:moveTo>
                <a:lnTo>
                  <a:pt x="85" y="53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 rot="10800000">
            <a:off x="2948040" y="3254760"/>
            <a:ext cx="1100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3. Preparing the full project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0800000">
            <a:off x="5675040" y="3179520"/>
            <a:ext cx="1579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ject document (Pro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 rot="10800000">
            <a:off x="5660640" y="3830400"/>
            <a:ext cx="16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emorandum of Understanding (Mo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 rot="10800000">
            <a:off x="5680080" y="471528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mplementation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10800000">
            <a:off x="5662440" y="5397120"/>
            <a:ext cx="167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rogress of work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0800000">
            <a:off x="5625720" y="6040800"/>
            <a:ext cx="16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mpact analys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477800" y="4797000"/>
            <a:ext cx="219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hase 4.  Implementing th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0800000">
            <a:off x="1906200" y="5522760"/>
            <a:ext cx="167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 rot="10800000">
            <a:off x="1871280" y="6185880"/>
            <a:ext cx="167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84472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Implementation Modality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4440" y="264960"/>
            <a:ext cx="873144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Role of different stakeholders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2225520"/>
            <a:ext cx="2362320" cy="2270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96040" y="2654280"/>
            <a:ext cx="189216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International /regional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&amp;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1560" y="1339920"/>
            <a:ext cx="2180880" cy="208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27440" y="2154240"/>
            <a:ext cx="168264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4114800"/>
            <a:ext cx="2271600" cy="2316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7080" y="4924440"/>
            <a:ext cx="19303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ature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Private sector)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114800"/>
            <a:ext cx="2280960" cy="223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6840" y="4776840"/>
            <a:ext cx="175572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Banks and donor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2324160"/>
            <a:ext cx="2286000" cy="2209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5040" y="2959200"/>
            <a:ext cx="17586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educational sector)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493040" y="2060640"/>
            <a:ext cx="1089000" cy="460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328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264960"/>
            <a:ext cx="7772400" cy="4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Suggested Modality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04840" y="992160"/>
            <a:ext cx="5878440" cy="78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04840" y="982800"/>
            <a:ext cx="5878440" cy="79200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26800" y="1231920"/>
            <a:ext cx="219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egic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7320" y="2060640"/>
            <a:ext cx="651528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7320" y="2060640"/>
            <a:ext cx="6515280" cy="460836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05640" y="2060640"/>
            <a:ext cx="1077840" cy="460836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30960" y="265572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eering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59200" y="3968640"/>
            <a:ext cx="6368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96800" y="42800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90880" y="2441520"/>
            <a:ext cx="381312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90880" y="2441520"/>
            <a:ext cx="3813120" cy="6364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0960" y="25131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eering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6840" y="26845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06840" y="2835360"/>
            <a:ext cx="92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ret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0080" y="3968640"/>
            <a:ext cx="12700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00080" y="3968640"/>
            <a:ext cx="127008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67120" y="429912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28920" y="3968640"/>
            <a:ext cx="12715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28920" y="3968640"/>
            <a:ext cx="127152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44920" y="429912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54800" y="3968640"/>
            <a:ext cx="12697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54800" y="3968640"/>
            <a:ext cx="1269720" cy="793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60720" y="429912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008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008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564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020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9388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9388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1908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4724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8920" y="5398920"/>
            <a:ext cx="4780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28920" y="5398920"/>
            <a:ext cx="4780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412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7904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2416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2416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4972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76080" y="5894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5480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5480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8000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05280" y="5894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n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48240" y="5398920"/>
            <a:ext cx="4762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48240" y="5398920"/>
            <a:ext cx="476280" cy="952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73800" y="57405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01960" y="5894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n.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31760" y="4278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90160" y="4451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36720" y="58086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roj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03640" y="415908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78360" y="4332240"/>
            <a:ext cx="94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8520" y="4495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535120" y="3078000"/>
            <a:ext cx="1462320" cy="88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97440" y="3078000"/>
            <a:ext cx="219240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36600" y="4762440"/>
            <a:ext cx="79560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1" y="0"/>
                </a:lnTo>
                <a:lnTo>
                  <a:pt x="0" y="80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67240" y="4762440"/>
            <a:ext cx="79524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2" y="0"/>
                </a:lnTo>
                <a:lnTo>
                  <a:pt x="0" y="8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1320" y="4762440"/>
            <a:ext cx="795240" cy="636480"/>
          </a:xfrm>
          <a:custGeom>
            <a:avLst/>
            <a:gdLst/>
            <a:ahLst/>
            <a:rect l="l" t="t" r="r" b="b"/>
            <a:pathLst>
              <a:path w="1001" h="801">
                <a:moveTo>
                  <a:pt x="1001" y="801"/>
                </a:moveTo>
                <a:lnTo>
                  <a:pt x="501" y="0"/>
                </a:lnTo>
                <a:lnTo>
                  <a:pt x="0" y="8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965040" y="3078000"/>
            <a:ext cx="32040" cy="88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4720" y="2052720"/>
            <a:ext cx="6539040" cy="3035160"/>
          </a:xfrm>
          <a:custGeom>
            <a:avLst/>
            <a:gdLst/>
            <a:ahLst/>
            <a:rect l="l" t="t" r="r" b="b"/>
            <a:pathLst>
              <a:path w="8238" h="3823">
                <a:moveTo>
                  <a:pt x="16" y="3804"/>
                </a:moveTo>
                <a:lnTo>
                  <a:pt x="229" y="3804"/>
                </a:lnTo>
                <a:lnTo>
                  <a:pt x="232" y="3804"/>
                </a:lnTo>
                <a:lnTo>
                  <a:pt x="235" y="3805"/>
                </a:lnTo>
                <a:lnTo>
                  <a:pt x="237" y="3806"/>
                </a:lnTo>
                <a:lnTo>
                  <a:pt x="240" y="3807"/>
                </a:lnTo>
                <a:lnTo>
                  <a:pt x="242" y="3808"/>
                </a:lnTo>
                <a:lnTo>
                  <a:pt x="243" y="3810"/>
                </a:lnTo>
                <a:lnTo>
                  <a:pt x="243" y="3812"/>
                </a:lnTo>
                <a:lnTo>
                  <a:pt x="245" y="3814"/>
                </a:lnTo>
                <a:lnTo>
                  <a:pt x="243" y="3815"/>
                </a:lnTo>
                <a:lnTo>
                  <a:pt x="243" y="3817"/>
                </a:lnTo>
                <a:lnTo>
                  <a:pt x="242" y="3819"/>
                </a:lnTo>
                <a:lnTo>
                  <a:pt x="240" y="3820"/>
                </a:lnTo>
                <a:lnTo>
                  <a:pt x="237" y="3821"/>
                </a:lnTo>
                <a:lnTo>
                  <a:pt x="235" y="3822"/>
                </a:lnTo>
                <a:lnTo>
                  <a:pt x="232" y="3823"/>
                </a:lnTo>
                <a:lnTo>
                  <a:pt x="229" y="3823"/>
                </a:lnTo>
                <a:lnTo>
                  <a:pt x="16" y="3823"/>
                </a:lnTo>
                <a:lnTo>
                  <a:pt x="13" y="3823"/>
                </a:lnTo>
                <a:lnTo>
                  <a:pt x="10" y="3822"/>
                </a:lnTo>
                <a:lnTo>
                  <a:pt x="6" y="3821"/>
                </a:lnTo>
                <a:lnTo>
                  <a:pt x="5" y="3820"/>
                </a:lnTo>
                <a:lnTo>
                  <a:pt x="3" y="3819"/>
                </a:lnTo>
                <a:lnTo>
                  <a:pt x="2" y="3817"/>
                </a:lnTo>
                <a:lnTo>
                  <a:pt x="0" y="3815"/>
                </a:lnTo>
                <a:lnTo>
                  <a:pt x="0" y="3814"/>
                </a:lnTo>
                <a:lnTo>
                  <a:pt x="0" y="3812"/>
                </a:lnTo>
                <a:lnTo>
                  <a:pt x="2" y="3810"/>
                </a:lnTo>
                <a:lnTo>
                  <a:pt x="3" y="3808"/>
                </a:lnTo>
                <a:lnTo>
                  <a:pt x="5" y="3807"/>
                </a:lnTo>
                <a:lnTo>
                  <a:pt x="6" y="3806"/>
                </a:lnTo>
                <a:lnTo>
                  <a:pt x="10" y="3805"/>
                </a:lnTo>
                <a:lnTo>
                  <a:pt x="13" y="3804"/>
                </a:lnTo>
                <a:lnTo>
                  <a:pt x="16" y="3804"/>
                </a:lnTo>
                <a:lnTo>
                  <a:pt x="16" y="3804"/>
                </a:lnTo>
                <a:close/>
                <a:moveTo>
                  <a:pt x="381" y="3804"/>
                </a:moveTo>
                <a:lnTo>
                  <a:pt x="596" y="3804"/>
                </a:lnTo>
                <a:lnTo>
                  <a:pt x="597" y="3804"/>
                </a:lnTo>
                <a:lnTo>
                  <a:pt x="601" y="3805"/>
                </a:lnTo>
                <a:lnTo>
                  <a:pt x="604" y="3806"/>
                </a:lnTo>
                <a:lnTo>
                  <a:pt x="605" y="3807"/>
                </a:lnTo>
                <a:lnTo>
                  <a:pt x="607" y="3808"/>
                </a:lnTo>
                <a:lnTo>
                  <a:pt x="609" y="3810"/>
                </a:lnTo>
                <a:lnTo>
                  <a:pt x="610" y="3812"/>
                </a:lnTo>
                <a:lnTo>
                  <a:pt x="610" y="3814"/>
                </a:lnTo>
                <a:lnTo>
                  <a:pt x="610" y="3815"/>
                </a:lnTo>
                <a:lnTo>
                  <a:pt x="609" y="3817"/>
                </a:lnTo>
                <a:lnTo>
                  <a:pt x="607" y="3819"/>
                </a:lnTo>
                <a:lnTo>
                  <a:pt x="605" y="3820"/>
                </a:lnTo>
                <a:lnTo>
                  <a:pt x="604" y="3821"/>
                </a:lnTo>
                <a:lnTo>
                  <a:pt x="601" y="3822"/>
                </a:lnTo>
                <a:lnTo>
                  <a:pt x="597" y="3823"/>
                </a:lnTo>
                <a:lnTo>
                  <a:pt x="596" y="3823"/>
                </a:lnTo>
                <a:lnTo>
                  <a:pt x="381" y="3823"/>
                </a:lnTo>
                <a:lnTo>
                  <a:pt x="378" y="3823"/>
                </a:lnTo>
                <a:lnTo>
                  <a:pt x="376" y="3822"/>
                </a:lnTo>
                <a:lnTo>
                  <a:pt x="373" y="3821"/>
                </a:lnTo>
                <a:lnTo>
                  <a:pt x="372" y="3820"/>
                </a:lnTo>
                <a:lnTo>
                  <a:pt x="368" y="3819"/>
                </a:lnTo>
                <a:lnTo>
                  <a:pt x="368" y="3817"/>
                </a:lnTo>
                <a:lnTo>
                  <a:pt x="367" y="3815"/>
                </a:lnTo>
                <a:lnTo>
                  <a:pt x="367" y="3814"/>
                </a:lnTo>
                <a:lnTo>
                  <a:pt x="367" y="3812"/>
                </a:lnTo>
                <a:lnTo>
                  <a:pt x="368" y="3810"/>
                </a:lnTo>
                <a:lnTo>
                  <a:pt x="368" y="3808"/>
                </a:lnTo>
                <a:lnTo>
                  <a:pt x="372" y="3807"/>
                </a:lnTo>
                <a:lnTo>
                  <a:pt x="373" y="3806"/>
                </a:lnTo>
                <a:lnTo>
                  <a:pt x="376" y="3805"/>
                </a:lnTo>
                <a:lnTo>
                  <a:pt x="378" y="3804"/>
                </a:lnTo>
                <a:lnTo>
                  <a:pt x="381" y="3804"/>
                </a:lnTo>
                <a:lnTo>
                  <a:pt x="381" y="3804"/>
                </a:lnTo>
                <a:close/>
                <a:moveTo>
                  <a:pt x="748" y="3804"/>
                </a:moveTo>
                <a:lnTo>
                  <a:pt x="961" y="3804"/>
                </a:lnTo>
                <a:lnTo>
                  <a:pt x="964" y="3804"/>
                </a:lnTo>
                <a:lnTo>
                  <a:pt x="967" y="3805"/>
                </a:lnTo>
                <a:lnTo>
                  <a:pt x="969" y="3806"/>
                </a:lnTo>
                <a:lnTo>
                  <a:pt x="972" y="3807"/>
                </a:lnTo>
                <a:lnTo>
                  <a:pt x="974" y="3808"/>
                </a:lnTo>
                <a:lnTo>
                  <a:pt x="975" y="3810"/>
                </a:lnTo>
                <a:lnTo>
                  <a:pt x="977" y="3812"/>
                </a:lnTo>
                <a:lnTo>
                  <a:pt x="977" y="3814"/>
                </a:lnTo>
                <a:lnTo>
                  <a:pt x="977" y="3815"/>
                </a:lnTo>
                <a:lnTo>
                  <a:pt x="975" y="3817"/>
                </a:lnTo>
                <a:lnTo>
                  <a:pt x="974" y="3819"/>
                </a:lnTo>
                <a:lnTo>
                  <a:pt x="972" y="3820"/>
                </a:lnTo>
                <a:lnTo>
                  <a:pt x="969" y="3821"/>
                </a:lnTo>
                <a:lnTo>
                  <a:pt x="967" y="3822"/>
                </a:lnTo>
                <a:lnTo>
                  <a:pt x="964" y="3823"/>
                </a:lnTo>
                <a:lnTo>
                  <a:pt x="961" y="3823"/>
                </a:lnTo>
                <a:lnTo>
                  <a:pt x="748" y="3823"/>
                </a:lnTo>
                <a:lnTo>
                  <a:pt x="745" y="3823"/>
                </a:lnTo>
                <a:lnTo>
                  <a:pt x="741" y="3822"/>
                </a:lnTo>
                <a:lnTo>
                  <a:pt x="738" y="3821"/>
                </a:lnTo>
                <a:lnTo>
                  <a:pt x="737" y="3820"/>
                </a:lnTo>
                <a:lnTo>
                  <a:pt x="735" y="3819"/>
                </a:lnTo>
                <a:lnTo>
                  <a:pt x="733" y="3817"/>
                </a:lnTo>
                <a:lnTo>
                  <a:pt x="732" y="3815"/>
                </a:lnTo>
                <a:lnTo>
                  <a:pt x="732" y="3814"/>
                </a:lnTo>
                <a:lnTo>
                  <a:pt x="732" y="3812"/>
                </a:lnTo>
                <a:lnTo>
                  <a:pt x="733" y="3810"/>
                </a:lnTo>
                <a:lnTo>
                  <a:pt x="735" y="3808"/>
                </a:lnTo>
                <a:lnTo>
                  <a:pt x="737" y="3807"/>
                </a:lnTo>
                <a:lnTo>
                  <a:pt x="738" y="3806"/>
                </a:lnTo>
                <a:lnTo>
                  <a:pt x="741" y="3805"/>
                </a:lnTo>
                <a:lnTo>
                  <a:pt x="745" y="3804"/>
                </a:lnTo>
                <a:lnTo>
                  <a:pt x="748" y="3804"/>
                </a:lnTo>
                <a:lnTo>
                  <a:pt x="748" y="3804"/>
                </a:lnTo>
                <a:close/>
                <a:moveTo>
                  <a:pt x="1113" y="3804"/>
                </a:moveTo>
                <a:lnTo>
                  <a:pt x="1328" y="3804"/>
                </a:lnTo>
                <a:lnTo>
                  <a:pt x="1331" y="3804"/>
                </a:lnTo>
                <a:lnTo>
                  <a:pt x="1332" y="3805"/>
                </a:lnTo>
                <a:lnTo>
                  <a:pt x="1336" y="3806"/>
                </a:lnTo>
                <a:lnTo>
                  <a:pt x="1337" y="3807"/>
                </a:lnTo>
                <a:lnTo>
                  <a:pt x="1340" y="3808"/>
                </a:lnTo>
                <a:lnTo>
                  <a:pt x="1342" y="3810"/>
                </a:lnTo>
                <a:lnTo>
                  <a:pt x="1342" y="3812"/>
                </a:lnTo>
                <a:lnTo>
                  <a:pt x="1342" y="3814"/>
                </a:lnTo>
                <a:lnTo>
                  <a:pt x="1342" y="3815"/>
                </a:lnTo>
                <a:lnTo>
                  <a:pt x="1342" y="3817"/>
                </a:lnTo>
                <a:lnTo>
                  <a:pt x="1340" y="3819"/>
                </a:lnTo>
                <a:lnTo>
                  <a:pt x="1337" y="3820"/>
                </a:lnTo>
                <a:lnTo>
                  <a:pt x="1336" y="3821"/>
                </a:lnTo>
                <a:lnTo>
                  <a:pt x="1332" y="3822"/>
                </a:lnTo>
                <a:lnTo>
                  <a:pt x="1331" y="3823"/>
                </a:lnTo>
                <a:lnTo>
                  <a:pt x="1328" y="3823"/>
                </a:lnTo>
                <a:lnTo>
                  <a:pt x="1113" y="3823"/>
                </a:lnTo>
                <a:lnTo>
                  <a:pt x="1110" y="3823"/>
                </a:lnTo>
                <a:lnTo>
                  <a:pt x="1108" y="3822"/>
                </a:lnTo>
                <a:lnTo>
                  <a:pt x="1105" y="3821"/>
                </a:lnTo>
                <a:lnTo>
                  <a:pt x="1103" y="3820"/>
                </a:lnTo>
                <a:lnTo>
                  <a:pt x="1100" y="3819"/>
                </a:lnTo>
                <a:lnTo>
                  <a:pt x="1100" y="3817"/>
                </a:lnTo>
                <a:lnTo>
                  <a:pt x="1099" y="3815"/>
                </a:lnTo>
                <a:lnTo>
                  <a:pt x="1099" y="3814"/>
                </a:lnTo>
                <a:lnTo>
                  <a:pt x="1099" y="3812"/>
                </a:lnTo>
                <a:lnTo>
                  <a:pt x="1100" y="3810"/>
                </a:lnTo>
                <a:lnTo>
                  <a:pt x="1100" y="3808"/>
                </a:lnTo>
                <a:lnTo>
                  <a:pt x="1103" y="3807"/>
                </a:lnTo>
                <a:lnTo>
                  <a:pt x="1105" y="3806"/>
                </a:lnTo>
                <a:lnTo>
                  <a:pt x="1108" y="3805"/>
                </a:lnTo>
                <a:lnTo>
                  <a:pt x="1110" y="3804"/>
                </a:lnTo>
                <a:lnTo>
                  <a:pt x="1113" y="3804"/>
                </a:lnTo>
                <a:lnTo>
                  <a:pt x="1113" y="3804"/>
                </a:lnTo>
                <a:close/>
                <a:moveTo>
                  <a:pt x="1480" y="3804"/>
                </a:moveTo>
                <a:lnTo>
                  <a:pt x="1693" y="3804"/>
                </a:lnTo>
                <a:lnTo>
                  <a:pt x="1696" y="3804"/>
                </a:lnTo>
                <a:lnTo>
                  <a:pt x="1699" y="3805"/>
                </a:lnTo>
                <a:lnTo>
                  <a:pt x="1702" y="3806"/>
                </a:lnTo>
                <a:lnTo>
                  <a:pt x="1704" y="3807"/>
                </a:lnTo>
                <a:lnTo>
                  <a:pt x="1705" y="3808"/>
                </a:lnTo>
                <a:lnTo>
                  <a:pt x="1707" y="3810"/>
                </a:lnTo>
                <a:lnTo>
                  <a:pt x="1709" y="3812"/>
                </a:lnTo>
                <a:lnTo>
                  <a:pt x="1709" y="3814"/>
                </a:lnTo>
                <a:lnTo>
                  <a:pt x="1709" y="3815"/>
                </a:lnTo>
                <a:lnTo>
                  <a:pt x="1707" y="3817"/>
                </a:lnTo>
                <a:lnTo>
                  <a:pt x="1705" y="3819"/>
                </a:lnTo>
                <a:lnTo>
                  <a:pt x="1704" y="3820"/>
                </a:lnTo>
                <a:lnTo>
                  <a:pt x="1702" y="3821"/>
                </a:lnTo>
                <a:lnTo>
                  <a:pt x="1699" y="3822"/>
                </a:lnTo>
                <a:lnTo>
                  <a:pt x="1696" y="3823"/>
                </a:lnTo>
                <a:lnTo>
                  <a:pt x="1693" y="3823"/>
                </a:lnTo>
                <a:lnTo>
                  <a:pt x="1480" y="3823"/>
                </a:lnTo>
                <a:lnTo>
                  <a:pt x="1476" y="3823"/>
                </a:lnTo>
                <a:lnTo>
                  <a:pt x="1473" y="3822"/>
                </a:lnTo>
                <a:lnTo>
                  <a:pt x="1472" y="3821"/>
                </a:lnTo>
                <a:lnTo>
                  <a:pt x="1468" y="3820"/>
                </a:lnTo>
                <a:lnTo>
                  <a:pt x="1467" y="3819"/>
                </a:lnTo>
                <a:lnTo>
                  <a:pt x="1465" y="3817"/>
                </a:lnTo>
                <a:lnTo>
                  <a:pt x="1465" y="3815"/>
                </a:lnTo>
                <a:lnTo>
                  <a:pt x="1465" y="3814"/>
                </a:lnTo>
                <a:lnTo>
                  <a:pt x="1465" y="3812"/>
                </a:lnTo>
                <a:lnTo>
                  <a:pt x="1465" y="3810"/>
                </a:lnTo>
                <a:lnTo>
                  <a:pt x="1467" y="3808"/>
                </a:lnTo>
                <a:lnTo>
                  <a:pt x="1468" y="3807"/>
                </a:lnTo>
                <a:lnTo>
                  <a:pt x="1472" y="3806"/>
                </a:lnTo>
                <a:lnTo>
                  <a:pt x="1473" y="3805"/>
                </a:lnTo>
                <a:lnTo>
                  <a:pt x="1476" y="3804"/>
                </a:lnTo>
                <a:lnTo>
                  <a:pt x="1480" y="3804"/>
                </a:lnTo>
                <a:lnTo>
                  <a:pt x="1480" y="3804"/>
                </a:lnTo>
                <a:close/>
                <a:moveTo>
                  <a:pt x="1846" y="3804"/>
                </a:moveTo>
                <a:lnTo>
                  <a:pt x="2059" y="3804"/>
                </a:lnTo>
                <a:lnTo>
                  <a:pt x="2063" y="3804"/>
                </a:lnTo>
                <a:lnTo>
                  <a:pt x="2066" y="3805"/>
                </a:lnTo>
                <a:lnTo>
                  <a:pt x="2067" y="3806"/>
                </a:lnTo>
                <a:lnTo>
                  <a:pt x="2071" y="3807"/>
                </a:lnTo>
                <a:lnTo>
                  <a:pt x="2072" y="3808"/>
                </a:lnTo>
                <a:lnTo>
                  <a:pt x="2074" y="3810"/>
                </a:lnTo>
                <a:lnTo>
                  <a:pt x="2074" y="3812"/>
                </a:lnTo>
                <a:lnTo>
                  <a:pt x="2075" y="3814"/>
                </a:lnTo>
                <a:lnTo>
                  <a:pt x="2074" y="3815"/>
                </a:lnTo>
                <a:lnTo>
                  <a:pt x="2074" y="3817"/>
                </a:lnTo>
                <a:lnTo>
                  <a:pt x="2072" y="3819"/>
                </a:lnTo>
                <a:lnTo>
                  <a:pt x="2071" y="3820"/>
                </a:lnTo>
                <a:lnTo>
                  <a:pt x="2067" y="3821"/>
                </a:lnTo>
                <a:lnTo>
                  <a:pt x="2066" y="3822"/>
                </a:lnTo>
                <a:lnTo>
                  <a:pt x="2063" y="3823"/>
                </a:lnTo>
                <a:lnTo>
                  <a:pt x="2059" y="3823"/>
                </a:lnTo>
                <a:lnTo>
                  <a:pt x="1846" y="3823"/>
                </a:lnTo>
                <a:lnTo>
                  <a:pt x="1843" y="3823"/>
                </a:lnTo>
                <a:lnTo>
                  <a:pt x="1840" y="3822"/>
                </a:lnTo>
                <a:lnTo>
                  <a:pt x="1837" y="3821"/>
                </a:lnTo>
                <a:lnTo>
                  <a:pt x="1835" y="3820"/>
                </a:lnTo>
                <a:lnTo>
                  <a:pt x="1834" y="3819"/>
                </a:lnTo>
                <a:lnTo>
                  <a:pt x="1832" y="3817"/>
                </a:lnTo>
                <a:lnTo>
                  <a:pt x="1830" y="3815"/>
                </a:lnTo>
                <a:lnTo>
                  <a:pt x="1830" y="3814"/>
                </a:lnTo>
                <a:lnTo>
                  <a:pt x="1830" y="3812"/>
                </a:lnTo>
                <a:lnTo>
                  <a:pt x="1832" y="3810"/>
                </a:lnTo>
                <a:lnTo>
                  <a:pt x="1834" y="3808"/>
                </a:lnTo>
                <a:lnTo>
                  <a:pt x="1835" y="3807"/>
                </a:lnTo>
                <a:lnTo>
                  <a:pt x="1837" y="3806"/>
                </a:lnTo>
                <a:lnTo>
                  <a:pt x="1840" y="3805"/>
                </a:lnTo>
                <a:lnTo>
                  <a:pt x="1843" y="3804"/>
                </a:lnTo>
                <a:lnTo>
                  <a:pt x="1846" y="3804"/>
                </a:lnTo>
                <a:lnTo>
                  <a:pt x="1846" y="3804"/>
                </a:lnTo>
                <a:close/>
                <a:moveTo>
                  <a:pt x="2212" y="3804"/>
                </a:moveTo>
                <a:lnTo>
                  <a:pt x="2426" y="3804"/>
                </a:lnTo>
                <a:lnTo>
                  <a:pt x="2428" y="3804"/>
                </a:lnTo>
                <a:lnTo>
                  <a:pt x="2431" y="3805"/>
                </a:lnTo>
                <a:lnTo>
                  <a:pt x="2434" y="3806"/>
                </a:lnTo>
                <a:lnTo>
                  <a:pt x="2436" y="3807"/>
                </a:lnTo>
                <a:lnTo>
                  <a:pt x="2437" y="3808"/>
                </a:lnTo>
                <a:lnTo>
                  <a:pt x="2439" y="3810"/>
                </a:lnTo>
                <a:lnTo>
                  <a:pt x="2441" y="3812"/>
                </a:lnTo>
                <a:lnTo>
                  <a:pt x="2441" y="3814"/>
                </a:lnTo>
                <a:lnTo>
                  <a:pt x="2441" y="3815"/>
                </a:lnTo>
                <a:lnTo>
                  <a:pt x="2439" y="3817"/>
                </a:lnTo>
                <a:lnTo>
                  <a:pt x="2437" y="3819"/>
                </a:lnTo>
                <a:lnTo>
                  <a:pt x="2436" y="3820"/>
                </a:lnTo>
                <a:lnTo>
                  <a:pt x="2434" y="3821"/>
                </a:lnTo>
                <a:lnTo>
                  <a:pt x="2431" y="3822"/>
                </a:lnTo>
                <a:lnTo>
                  <a:pt x="2428" y="3823"/>
                </a:lnTo>
                <a:lnTo>
                  <a:pt x="2426" y="3823"/>
                </a:lnTo>
                <a:lnTo>
                  <a:pt x="2212" y="3823"/>
                </a:lnTo>
                <a:lnTo>
                  <a:pt x="2208" y="3823"/>
                </a:lnTo>
                <a:lnTo>
                  <a:pt x="2207" y="3822"/>
                </a:lnTo>
                <a:lnTo>
                  <a:pt x="2204" y="3821"/>
                </a:lnTo>
                <a:lnTo>
                  <a:pt x="2202" y="3820"/>
                </a:lnTo>
                <a:lnTo>
                  <a:pt x="2199" y="3819"/>
                </a:lnTo>
                <a:lnTo>
                  <a:pt x="2199" y="3817"/>
                </a:lnTo>
                <a:lnTo>
                  <a:pt x="2197" y="3815"/>
                </a:lnTo>
                <a:lnTo>
                  <a:pt x="2197" y="3814"/>
                </a:lnTo>
                <a:lnTo>
                  <a:pt x="2197" y="3812"/>
                </a:lnTo>
                <a:lnTo>
                  <a:pt x="2199" y="3810"/>
                </a:lnTo>
                <a:lnTo>
                  <a:pt x="2199" y="3808"/>
                </a:lnTo>
                <a:lnTo>
                  <a:pt x="2202" y="3807"/>
                </a:lnTo>
                <a:lnTo>
                  <a:pt x="2204" y="3806"/>
                </a:lnTo>
                <a:lnTo>
                  <a:pt x="2207" y="3805"/>
                </a:lnTo>
                <a:lnTo>
                  <a:pt x="2208" y="3804"/>
                </a:lnTo>
                <a:lnTo>
                  <a:pt x="2212" y="3804"/>
                </a:lnTo>
                <a:lnTo>
                  <a:pt x="2212" y="3804"/>
                </a:lnTo>
                <a:close/>
                <a:moveTo>
                  <a:pt x="2578" y="3804"/>
                </a:moveTo>
                <a:lnTo>
                  <a:pt x="2791" y="3804"/>
                </a:lnTo>
                <a:lnTo>
                  <a:pt x="2794" y="3804"/>
                </a:lnTo>
                <a:lnTo>
                  <a:pt x="2798" y="3805"/>
                </a:lnTo>
                <a:lnTo>
                  <a:pt x="2799" y="3806"/>
                </a:lnTo>
                <a:lnTo>
                  <a:pt x="2802" y="3807"/>
                </a:lnTo>
                <a:lnTo>
                  <a:pt x="2804" y="3808"/>
                </a:lnTo>
                <a:lnTo>
                  <a:pt x="2806" y="3810"/>
                </a:lnTo>
                <a:lnTo>
                  <a:pt x="2807" y="3812"/>
                </a:lnTo>
                <a:lnTo>
                  <a:pt x="2807" y="3814"/>
                </a:lnTo>
                <a:lnTo>
                  <a:pt x="2807" y="3815"/>
                </a:lnTo>
                <a:lnTo>
                  <a:pt x="2806" y="3817"/>
                </a:lnTo>
                <a:lnTo>
                  <a:pt x="2804" y="3819"/>
                </a:lnTo>
                <a:lnTo>
                  <a:pt x="2802" y="3820"/>
                </a:lnTo>
                <a:lnTo>
                  <a:pt x="2799" y="3821"/>
                </a:lnTo>
                <a:lnTo>
                  <a:pt x="2798" y="3822"/>
                </a:lnTo>
                <a:lnTo>
                  <a:pt x="2794" y="3823"/>
                </a:lnTo>
                <a:lnTo>
                  <a:pt x="2791" y="3823"/>
                </a:lnTo>
                <a:lnTo>
                  <a:pt x="2578" y="3823"/>
                </a:lnTo>
                <a:lnTo>
                  <a:pt x="2575" y="3823"/>
                </a:lnTo>
                <a:lnTo>
                  <a:pt x="2572" y="3822"/>
                </a:lnTo>
                <a:lnTo>
                  <a:pt x="2569" y="3821"/>
                </a:lnTo>
                <a:lnTo>
                  <a:pt x="2567" y="3820"/>
                </a:lnTo>
                <a:lnTo>
                  <a:pt x="2565" y="3819"/>
                </a:lnTo>
                <a:lnTo>
                  <a:pt x="2564" y="3817"/>
                </a:lnTo>
                <a:lnTo>
                  <a:pt x="2562" y="3815"/>
                </a:lnTo>
                <a:lnTo>
                  <a:pt x="2562" y="3814"/>
                </a:lnTo>
                <a:lnTo>
                  <a:pt x="2562" y="3812"/>
                </a:lnTo>
                <a:lnTo>
                  <a:pt x="2564" y="3810"/>
                </a:lnTo>
                <a:lnTo>
                  <a:pt x="2565" y="3808"/>
                </a:lnTo>
                <a:lnTo>
                  <a:pt x="2567" y="3807"/>
                </a:lnTo>
                <a:lnTo>
                  <a:pt x="2569" y="3806"/>
                </a:lnTo>
                <a:lnTo>
                  <a:pt x="2572" y="3805"/>
                </a:lnTo>
                <a:lnTo>
                  <a:pt x="2575" y="3804"/>
                </a:lnTo>
                <a:lnTo>
                  <a:pt x="2578" y="3804"/>
                </a:lnTo>
                <a:lnTo>
                  <a:pt x="2578" y="3804"/>
                </a:lnTo>
                <a:close/>
                <a:moveTo>
                  <a:pt x="2943" y="3804"/>
                </a:moveTo>
                <a:lnTo>
                  <a:pt x="3158" y="3804"/>
                </a:lnTo>
                <a:lnTo>
                  <a:pt x="3161" y="3804"/>
                </a:lnTo>
                <a:lnTo>
                  <a:pt x="3163" y="3805"/>
                </a:lnTo>
                <a:lnTo>
                  <a:pt x="3166" y="3806"/>
                </a:lnTo>
                <a:lnTo>
                  <a:pt x="3168" y="3807"/>
                </a:lnTo>
                <a:lnTo>
                  <a:pt x="3171" y="3808"/>
                </a:lnTo>
                <a:lnTo>
                  <a:pt x="3172" y="3810"/>
                </a:lnTo>
                <a:lnTo>
                  <a:pt x="3172" y="3812"/>
                </a:lnTo>
                <a:lnTo>
                  <a:pt x="3172" y="3814"/>
                </a:lnTo>
                <a:lnTo>
                  <a:pt x="3172" y="3815"/>
                </a:lnTo>
                <a:lnTo>
                  <a:pt x="3172" y="3817"/>
                </a:lnTo>
                <a:lnTo>
                  <a:pt x="3171" y="3819"/>
                </a:lnTo>
                <a:lnTo>
                  <a:pt x="3168" y="3820"/>
                </a:lnTo>
                <a:lnTo>
                  <a:pt x="3166" y="3821"/>
                </a:lnTo>
                <a:lnTo>
                  <a:pt x="3163" y="3822"/>
                </a:lnTo>
                <a:lnTo>
                  <a:pt x="3161" y="3823"/>
                </a:lnTo>
                <a:lnTo>
                  <a:pt x="3158" y="3823"/>
                </a:lnTo>
                <a:lnTo>
                  <a:pt x="2943" y="3823"/>
                </a:lnTo>
                <a:lnTo>
                  <a:pt x="2940" y="3823"/>
                </a:lnTo>
                <a:lnTo>
                  <a:pt x="2939" y="3822"/>
                </a:lnTo>
                <a:lnTo>
                  <a:pt x="2935" y="3821"/>
                </a:lnTo>
                <a:lnTo>
                  <a:pt x="2934" y="3820"/>
                </a:lnTo>
                <a:lnTo>
                  <a:pt x="2931" y="3819"/>
                </a:lnTo>
                <a:lnTo>
                  <a:pt x="2931" y="3817"/>
                </a:lnTo>
                <a:lnTo>
                  <a:pt x="2929" y="3815"/>
                </a:lnTo>
                <a:lnTo>
                  <a:pt x="2929" y="3814"/>
                </a:lnTo>
                <a:lnTo>
                  <a:pt x="2929" y="3812"/>
                </a:lnTo>
                <a:lnTo>
                  <a:pt x="2931" y="3810"/>
                </a:lnTo>
                <a:lnTo>
                  <a:pt x="2931" y="3808"/>
                </a:lnTo>
                <a:lnTo>
                  <a:pt x="2934" y="3807"/>
                </a:lnTo>
                <a:lnTo>
                  <a:pt x="2935" y="3806"/>
                </a:lnTo>
                <a:lnTo>
                  <a:pt x="2939" y="3805"/>
                </a:lnTo>
                <a:lnTo>
                  <a:pt x="2940" y="3804"/>
                </a:lnTo>
                <a:lnTo>
                  <a:pt x="2943" y="3804"/>
                </a:lnTo>
                <a:lnTo>
                  <a:pt x="2943" y="3804"/>
                </a:lnTo>
                <a:close/>
                <a:moveTo>
                  <a:pt x="3310" y="3804"/>
                </a:moveTo>
                <a:lnTo>
                  <a:pt x="3523" y="3804"/>
                </a:lnTo>
                <a:lnTo>
                  <a:pt x="3526" y="3804"/>
                </a:lnTo>
                <a:lnTo>
                  <a:pt x="3529" y="3805"/>
                </a:lnTo>
                <a:lnTo>
                  <a:pt x="3533" y="3806"/>
                </a:lnTo>
                <a:lnTo>
                  <a:pt x="3534" y="3807"/>
                </a:lnTo>
                <a:lnTo>
                  <a:pt x="3536" y="3808"/>
                </a:lnTo>
                <a:lnTo>
                  <a:pt x="3537" y="3810"/>
                </a:lnTo>
                <a:lnTo>
                  <a:pt x="3539" y="3812"/>
                </a:lnTo>
                <a:lnTo>
                  <a:pt x="3539" y="3814"/>
                </a:lnTo>
                <a:lnTo>
                  <a:pt x="3539" y="3815"/>
                </a:lnTo>
                <a:lnTo>
                  <a:pt x="3537" y="3817"/>
                </a:lnTo>
                <a:lnTo>
                  <a:pt x="3536" y="3819"/>
                </a:lnTo>
                <a:lnTo>
                  <a:pt x="3534" y="3820"/>
                </a:lnTo>
                <a:lnTo>
                  <a:pt x="3533" y="3821"/>
                </a:lnTo>
                <a:lnTo>
                  <a:pt x="3529" y="3822"/>
                </a:lnTo>
                <a:lnTo>
                  <a:pt x="3526" y="3823"/>
                </a:lnTo>
                <a:lnTo>
                  <a:pt x="3523" y="3823"/>
                </a:lnTo>
                <a:lnTo>
                  <a:pt x="3310" y="3823"/>
                </a:lnTo>
                <a:lnTo>
                  <a:pt x="3307" y="3823"/>
                </a:lnTo>
                <a:lnTo>
                  <a:pt x="3304" y="3822"/>
                </a:lnTo>
                <a:lnTo>
                  <a:pt x="3302" y="3821"/>
                </a:lnTo>
                <a:lnTo>
                  <a:pt x="3299" y="3820"/>
                </a:lnTo>
                <a:lnTo>
                  <a:pt x="3297" y="3819"/>
                </a:lnTo>
                <a:lnTo>
                  <a:pt x="3296" y="3817"/>
                </a:lnTo>
                <a:lnTo>
                  <a:pt x="3296" y="3815"/>
                </a:lnTo>
                <a:lnTo>
                  <a:pt x="3296" y="3814"/>
                </a:lnTo>
                <a:lnTo>
                  <a:pt x="3296" y="3812"/>
                </a:lnTo>
                <a:lnTo>
                  <a:pt x="3296" y="3810"/>
                </a:lnTo>
                <a:lnTo>
                  <a:pt x="3297" y="3808"/>
                </a:lnTo>
                <a:lnTo>
                  <a:pt x="3299" y="3807"/>
                </a:lnTo>
                <a:lnTo>
                  <a:pt x="3302" y="3806"/>
                </a:lnTo>
                <a:lnTo>
                  <a:pt x="3304" y="3805"/>
                </a:lnTo>
                <a:lnTo>
                  <a:pt x="3307" y="3804"/>
                </a:lnTo>
                <a:lnTo>
                  <a:pt x="3310" y="3804"/>
                </a:lnTo>
                <a:lnTo>
                  <a:pt x="3310" y="3804"/>
                </a:lnTo>
                <a:close/>
                <a:moveTo>
                  <a:pt x="3677" y="3804"/>
                </a:moveTo>
                <a:lnTo>
                  <a:pt x="3890" y="3804"/>
                </a:lnTo>
                <a:lnTo>
                  <a:pt x="3893" y="3804"/>
                </a:lnTo>
                <a:lnTo>
                  <a:pt x="3896" y="3805"/>
                </a:lnTo>
                <a:lnTo>
                  <a:pt x="3898" y="3806"/>
                </a:lnTo>
                <a:lnTo>
                  <a:pt x="3901" y="3807"/>
                </a:lnTo>
                <a:lnTo>
                  <a:pt x="3903" y="3808"/>
                </a:lnTo>
                <a:lnTo>
                  <a:pt x="3904" y="3810"/>
                </a:lnTo>
                <a:lnTo>
                  <a:pt x="3904" y="3812"/>
                </a:lnTo>
                <a:lnTo>
                  <a:pt x="3906" y="3814"/>
                </a:lnTo>
                <a:lnTo>
                  <a:pt x="3904" y="3815"/>
                </a:lnTo>
                <a:lnTo>
                  <a:pt x="3904" y="3817"/>
                </a:lnTo>
                <a:lnTo>
                  <a:pt x="3903" y="3819"/>
                </a:lnTo>
                <a:lnTo>
                  <a:pt x="3901" y="3820"/>
                </a:lnTo>
                <a:lnTo>
                  <a:pt x="3898" y="3821"/>
                </a:lnTo>
                <a:lnTo>
                  <a:pt x="3896" y="3822"/>
                </a:lnTo>
                <a:lnTo>
                  <a:pt x="3893" y="3823"/>
                </a:lnTo>
                <a:lnTo>
                  <a:pt x="3890" y="3823"/>
                </a:lnTo>
                <a:lnTo>
                  <a:pt x="3677" y="3823"/>
                </a:lnTo>
                <a:lnTo>
                  <a:pt x="3674" y="3823"/>
                </a:lnTo>
                <a:lnTo>
                  <a:pt x="3670" y="3822"/>
                </a:lnTo>
                <a:lnTo>
                  <a:pt x="3667" y="3821"/>
                </a:lnTo>
                <a:lnTo>
                  <a:pt x="3666" y="3820"/>
                </a:lnTo>
                <a:lnTo>
                  <a:pt x="3664" y="3819"/>
                </a:lnTo>
                <a:lnTo>
                  <a:pt x="3662" y="3817"/>
                </a:lnTo>
                <a:lnTo>
                  <a:pt x="3661" y="3815"/>
                </a:lnTo>
                <a:lnTo>
                  <a:pt x="3661" y="3814"/>
                </a:lnTo>
                <a:lnTo>
                  <a:pt x="3661" y="3812"/>
                </a:lnTo>
                <a:lnTo>
                  <a:pt x="3662" y="3810"/>
                </a:lnTo>
                <a:lnTo>
                  <a:pt x="3664" y="3808"/>
                </a:lnTo>
                <a:lnTo>
                  <a:pt x="3666" y="3807"/>
                </a:lnTo>
                <a:lnTo>
                  <a:pt x="3667" y="3806"/>
                </a:lnTo>
                <a:lnTo>
                  <a:pt x="3670" y="3805"/>
                </a:lnTo>
                <a:lnTo>
                  <a:pt x="3674" y="3804"/>
                </a:lnTo>
                <a:lnTo>
                  <a:pt x="3677" y="3804"/>
                </a:lnTo>
                <a:lnTo>
                  <a:pt x="3677" y="3804"/>
                </a:lnTo>
                <a:close/>
                <a:moveTo>
                  <a:pt x="4042" y="3804"/>
                </a:moveTo>
                <a:lnTo>
                  <a:pt x="4257" y="3804"/>
                </a:lnTo>
                <a:lnTo>
                  <a:pt x="4258" y="3804"/>
                </a:lnTo>
                <a:lnTo>
                  <a:pt x="4261" y="3805"/>
                </a:lnTo>
                <a:lnTo>
                  <a:pt x="4265" y="3806"/>
                </a:lnTo>
                <a:lnTo>
                  <a:pt x="4266" y="3807"/>
                </a:lnTo>
                <a:lnTo>
                  <a:pt x="4268" y="3808"/>
                </a:lnTo>
                <a:lnTo>
                  <a:pt x="4269" y="3810"/>
                </a:lnTo>
                <a:lnTo>
                  <a:pt x="4271" y="3812"/>
                </a:lnTo>
                <a:lnTo>
                  <a:pt x="4271" y="3814"/>
                </a:lnTo>
                <a:lnTo>
                  <a:pt x="4271" y="3815"/>
                </a:lnTo>
                <a:lnTo>
                  <a:pt x="4269" y="3817"/>
                </a:lnTo>
                <a:lnTo>
                  <a:pt x="4268" y="3819"/>
                </a:lnTo>
                <a:lnTo>
                  <a:pt x="4266" y="3820"/>
                </a:lnTo>
                <a:lnTo>
                  <a:pt x="4265" y="3821"/>
                </a:lnTo>
                <a:lnTo>
                  <a:pt x="4261" y="3822"/>
                </a:lnTo>
                <a:lnTo>
                  <a:pt x="4258" y="3823"/>
                </a:lnTo>
                <a:lnTo>
                  <a:pt x="4257" y="3823"/>
                </a:lnTo>
                <a:lnTo>
                  <a:pt x="4042" y="3823"/>
                </a:lnTo>
                <a:lnTo>
                  <a:pt x="4039" y="3823"/>
                </a:lnTo>
                <a:lnTo>
                  <a:pt x="4037" y="3822"/>
                </a:lnTo>
                <a:lnTo>
                  <a:pt x="4034" y="3821"/>
                </a:lnTo>
                <a:lnTo>
                  <a:pt x="4032" y="3820"/>
                </a:lnTo>
                <a:lnTo>
                  <a:pt x="4029" y="3819"/>
                </a:lnTo>
                <a:lnTo>
                  <a:pt x="4029" y="3817"/>
                </a:lnTo>
                <a:lnTo>
                  <a:pt x="4028" y="3815"/>
                </a:lnTo>
                <a:lnTo>
                  <a:pt x="4028" y="3814"/>
                </a:lnTo>
                <a:lnTo>
                  <a:pt x="4028" y="3812"/>
                </a:lnTo>
                <a:lnTo>
                  <a:pt x="4029" y="3810"/>
                </a:lnTo>
                <a:lnTo>
                  <a:pt x="4029" y="3808"/>
                </a:lnTo>
                <a:lnTo>
                  <a:pt x="4032" y="3807"/>
                </a:lnTo>
                <a:lnTo>
                  <a:pt x="4034" y="3806"/>
                </a:lnTo>
                <a:lnTo>
                  <a:pt x="4037" y="3805"/>
                </a:lnTo>
                <a:lnTo>
                  <a:pt x="4039" y="3804"/>
                </a:lnTo>
                <a:lnTo>
                  <a:pt x="4042" y="3804"/>
                </a:lnTo>
                <a:lnTo>
                  <a:pt x="4042" y="3804"/>
                </a:lnTo>
                <a:close/>
                <a:moveTo>
                  <a:pt x="4409" y="3804"/>
                </a:moveTo>
                <a:lnTo>
                  <a:pt x="4622" y="3804"/>
                </a:lnTo>
                <a:lnTo>
                  <a:pt x="4625" y="3804"/>
                </a:lnTo>
                <a:lnTo>
                  <a:pt x="4628" y="3805"/>
                </a:lnTo>
                <a:lnTo>
                  <a:pt x="4630" y="3806"/>
                </a:lnTo>
                <a:lnTo>
                  <a:pt x="4633" y="3807"/>
                </a:lnTo>
                <a:lnTo>
                  <a:pt x="4634" y="3808"/>
                </a:lnTo>
                <a:lnTo>
                  <a:pt x="4636" y="3810"/>
                </a:lnTo>
                <a:lnTo>
                  <a:pt x="4638" y="3812"/>
                </a:lnTo>
                <a:lnTo>
                  <a:pt x="4638" y="3814"/>
                </a:lnTo>
                <a:lnTo>
                  <a:pt x="4638" y="3815"/>
                </a:lnTo>
                <a:lnTo>
                  <a:pt x="4636" y="3817"/>
                </a:lnTo>
                <a:lnTo>
                  <a:pt x="4634" y="3819"/>
                </a:lnTo>
                <a:lnTo>
                  <a:pt x="4633" y="3820"/>
                </a:lnTo>
                <a:lnTo>
                  <a:pt x="4630" y="3821"/>
                </a:lnTo>
                <a:lnTo>
                  <a:pt x="4628" y="3822"/>
                </a:lnTo>
                <a:lnTo>
                  <a:pt x="4625" y="3823"/>
                </a:lnTo>
                <a:lnTo>
                  <a:pt x="4622" y="3823"/>
                </a:lnTo>
                <a:lnTo>
                  <a:pt x="4409" y="3823"/>
                </a:lnTo>
                <a:lnTo>
                  <a:pt x="4405" y="3823"/>
                </a:lnTo>
                <a:lnTo>
                  <a:pt x="4402" y="3822"/>
                </a:lnTo>
                <a:lnTo>
                  <a:pt x="4399" y="3821"/>
                </a:lnTo>
                <a:lnTo>
                  <a:pt x="4397" y="3820"/>
                </a:lnTo>
                <a:lnTo>
                  <a:pt x="4396" y="3819"/>
                </a:lnTo>
                <a:lnTo>
                  <a:pt x="4394" y="3817"/>
                </a:lnTo>
                <a:lnTo>
                  <a:pt x="4393" y="3815"/>
                </a:lnTo>
                <a:lnTo>
                  <a:pt x="4393" y="3814"/>
                </a:lnTo>
                <a:lnTo>
                  <a:pt x="4393" y="3812"/>
                </a:lnTo>
                <a:lnTo>
                  <a:pt x="4394" y="3810"/>
                </a:lnTo>
                <a:lnTo>
                  <a:pt x="4396" y="3808"/>
                </a:lnTo>
                <a:lnTo>
                  <a:pt x="4397" y="3807"/>
                </a:lnTo>
                <a:lnTo>
                  <a:pt x="4399" y="3806"/>
                </a:lnTo>
                <a:lnTo>
                  <a:pt x="4402" y="3805"/>
                </a:lnTo>
                <a:lnTo>
                  <a:pt x="4405" y="3804"/>
                </a:lnTo>
                <a:lnTo>
                  <a:pt x="4409" y="3804"/>
                </a:lnTo>
                <a:lnTo>
                  <a:pt x="4409" y="3804"/>
                </a:lnTo>
                <a:close/>
                <a:moveTo>
                  <a:pt x="4774" y="3804"/>
                </a:moveTo>
                <a:lnTo>
                  <a:pt x="4988" y="3804"/>
                </a:lnTo>
                <a:lnTo>
                  <a:pt x="4992" y="3804"/>
                </a:lnTo>
                <a:lnTo>
                  <a:pt x="4993" y="3805"/>
                </a:lnTo>
                <a:lnTo>
                  <a:pt x="4996" y="3806"/>
                </a:lnTo>
                <a:lnTo>
                  <a:pt x="4998" y="3807"/>
                </a:lnTo>
                <a:lnTo>
                  <a:pt x="5001" y="3808"/>
                </a:lnTo>
                <a:lnTo>
                  <a:pt x="5003" y="3810"/>
                </a:lnTo>
                <a:lnTo>
                  <a:pt x="5003" y="3812"/>
                </a:lnTo>
                <a:lnTo>
                  <a:pt x="5003" y="3814"/>
                </a:lnTo>
                <a:lnTo>
                  <a:pt x="5003" y="3815"/>
                </a:lnTo>
                <a:lnTo>
                  <a:pt x="5003" y="3817"/>
                </a:lnTo>
                <a:lnTo>
                  <a:pt x="5001" y="3819"/>
                </a:lnTo>
                <a:lnTo>
                  <a:pt x="4998" y="3820"/>
                </a:lnTo>
                <a:lnTo>
                  <a:pt x="4996" y="3821"/>
                </a:lnTo>
                <a:lnTo>
                  <a:pt x="4993" y="3822"/>
                </a:lnTo>
                <a:lnTo>
                  <a:pt x="4992" y="3823"/>
                </a:lnTo>
                <a:lnTo>
                  <a:pt x="4988" y="3823"/>
                </a:lnTo>
                <a:lnTo>
                  <a:pt x="4774" y="3823"/>
                </a:lnTo>
                <a:lnTo>
                  <a:pt x="4771" y="3823"/>
                </a:lnTo>
                <a:lnTo>
                  <a:pt x="4769" y="3822"/>
                </a:lnTo>
                <a:lnTo>
                  <a:pt x="4766" y="3821"/>
                </a:lnTo>
                <a:lnTo>
                  <a:pt x="4764" y="3820"/>
                </a:lnTo>
                <a:lnTo>
                  <a:pt x="4761" y="3819"/>
                </a:lnTo>
                <a:lnTo>
                  <a:pt x="4761" y="3817"/>
                </a:lnTo>
                <a:lnTo>
                  <a:pt x="4759" y="3815"/>
                </a:lnTo>
                <a:lnTo>
                  <a:pt x="4759" y="3814"/>
                </a:lnTo>
                <a:lnTo>
                  <a:pt x="4759" y="3812"/>
                </a:lnTo>
                <a:lnTo>
                  <a:pt x="4761" y="3810"/>
                </a:lnTo>
                <a:lnTo>
                  <a:pt x="4761" y="3808"/>
                </a:lnTo>
                <a:lnTo>
                  <a:pt x="4764" y="3807"/>
                </a:lnTo>
                <a:lnTo>
                  <a:pt x="4766" y="3806"/>
                </a:lnTo>
                <a:lnTo>
                  <a:pt x="4769" y="3805"/>
                </a:lnTo>
                <a:lnTo>
                  <a:pt x="4771" y="3804"/>
                </a:lnTo>
                <a:lnTo>
                  <a:pt x="4774" y="3804"/>
                </a:lnTo>
                <a:lnTo>
                  <a:pt x="4774" y="3804"/>
                </a:lnTo>
                <a:close/>
                <a:moveTo>
                  <a:pt x="5140" y="3804"/>
                </a:moveTo>
                <a:lnTo>
                  <a:pt x="5353" y="3804"/>
                </a:lnTo>
                <a:lnTo>
                  <a:pt x="5357" y="3804"/>
                </a:lnTo>
                <a:lnTo>
                  <a:pt x="5360" y="3805"/>
                </a:lnTo>
                <a:lnTo>
                  <a:pt x="5363" y="3806"/>
                </a:lnTo>
                <a:lnTo>
                  <a:pt x="5365" y="3807"/>
                </a:lnTo>
                <a:lnTo>
                  <a:pt x="5366" y="3808"/>
                </a:lnTo>
                <a:lnTo>
                  <a:pt x="5368" y="3810"/>
                </a:lnTo>
                <a:lnTo>
                  <a:pt x="5369" y="3812"/>
                </a:lnTo>
                <a:lnTo>
                  <a:pt x="5369" y="3814"/>
                </a:lnTo>
                <a:lnTo>
                  <a:pt x="5369" y="3815"/>
                </a:lnTo>
                <a:lnTo>
                  <a:pt x="5368" y="3817"/>
                </a:lnTo>
                <a:lnTo>
                  <a:pt x="5366" y="3819"/>
                </a:lnTo>
                <a:lnTo>
                  <a:pt x="5365" y="3820"/>
                </a:lnTo>
                <a:lnTo>
                  <a:pt x="5363" y="3821"/>
                </a:lnTo>
                <a:lnTo>
                  <a:pt x="5360" y="3822"/>
                </a:lnTo>
                <a:lnTo>
                  <a:pt x="5357" y="3823"/>
                </a:lnTo>
                <a:lnTo>
                  <a:pt x="5353" y="3823"/>
                </a:lnTo>
                <a:lnTo>
                  <a:pt x="5140" y="3823"/>
                </a:lnTo>
                <a:lnTo>
                  <a:pt x="5137" y="3823"/>
                </a:lnTo>
                <a:lnTo>
                  <a:pt x="5134" y="3822"/>
                </a:lnTo>
                <a:lnTo>
                  <a:pt x="5132" y="3821"/>
                </a:lnTo>
                <a:lnTo>
                  <a:pt x="5129" y="3820"/>
                </a:lnTo>
                <a:lnTo>
                  <a:pt x="5128" y="3819"/>
                </a:lnTo>
                <a:lnTo>
                  <a:pt x="5126" y="3817"/>
                </a:lnTo>
                <a:lnTo>
                  <a:pt x="5126" y="3815"/>
                </a:lnTo>
                <a:lnTo>
                  <a:pt x="5126" y="3814"/>
                </a:lnTo>
                <a:lnTo>
                  <a:pt x="5126" y="3812"/>
                </a:lnTo>
                <a:lnTo>
                  <a:pt x="5126" y="3810"/>
                </a:lnTo>
                <a:lnTo>
                  <a:pt x="5128" y="3808"/>
                </a:lnTo>
                <a:lnTo>
                  <a:pt x="5129" y="3807"/>
                </a:lnTo>
                <a:lnTo>
                  <a:pt x="5132" y="3806"/>
                </a:lnTo>
                <a:lnTo>
                  <a:pt x="5134" y="3805"/>
                </a:lnTo>
                <a:lnTo>
                  <a:pt x="5137" y="3804"/>
                </a:lnTo>
                <a:lnTo>
                  <a:pt x="5140" y="3804"/>
                </a:lnTo>
                <a:lnTo>
                  <a:pt x="5140" y="3804"/>
                </a:lnTo>
                <a:close/>
                <a:moveTo>
                  <a:pt x="5507" y="3804"/>
                </a:moveTo>
                <a:lnTo>
                  <a:pt x="5720" y="3804"/>
                </a:lnTo>
                <a:lnTo>
                  <a:pt x="5723" y="3804"/>
                </a:lnTo>
                <a:lnTo>
                  <a:pt x="5727" y="3805"/>
                </a:lnTo>
                <a:lnTo>
                  <a:pt x="5728" y="3806"/>
                </a:lnTo>
                <a:lnTo>
                  <a:pt x="5731" y="3807"/>
                </a:lnTo>
                <a:lnTo>
                  <a:pt x="5733" y="3808"/>
                </a:lnTo>
                <a:lnTo>
                  <a:pt x="5735" y="3810"/>
                </a:lnTo>
                <a:lnTo>
                  <a:pt x="5735" y="3812"/>
                </a:lnTo>
                <a:lnTo>
                  <a:pt x="5736" y="3814"/>
                </a:lnTo>
                <a:lnTo>
                  <a:pt x="5735" y="3815"/>
                </a:lnTo>
                <a:lnTo>
                  <a:pt x="5735" y="3817"/>
                </a:lnTo>
                <a:lnTo>
                  <a:pt x="5733" y="3819"/>
                </a:lnTo>
                <a:lnTo>
                  <a:pt x="5731" y="3820"/>
                </a:lnTo>
                <a:lnTo>
                  <a:pt x="5728" y="3821"/>
                </a:lnTo>
                <a:lnTo>
                  <a:pt x="5727" y="3822"/>
                </a:lnTo>
                <a:lnTo>
                  <a:pt x="5723" y="3823"/>
                </a:lnTo>
                <a:lnTo>
                  <a:pt x="5720" y="3823"/>
                </a:lnTo>
                <a:lnTo>
                  <a:pt x="5507" y="3823"/>
                </a:lnTo>
                <a:lnTo>
                  <a:pt x="5504" y="3823"/>
                </a:lnTo>
                <a:lnTo>
                  <a:pt x="5501" y="3822"/>
                </a:lnTo>
                <a:lnTo>
                  <a:pt x="5498" y="3821"/>
                </a:lnTo>
                <a:lnTo>
                  <a:pt x="5496" y="3820"/>
                </a:lnTo>
                <a:lnTo>
                  <a:pt x="5494" y="3819"/>
                </a:lnTo>
                <a:lnTo>
                  <a:pt x="5493" y="3817"/>
                </a:lnTo>
                <a:lnTo>
                  <a:pt x="5491" y="3815"/>
                </a:lnTo>
                <a:lnTo>
                  <a:pt x="5491" y="3814"/>
                </a:lnTo>
                <a:lnTo>
                  <a:pt x="5491" y="3812"/>
                </a:lnTo>
                <a:lnTo>
                  <a:pt x="5493" y="3810"/>
                </a:lnTo>
                <a:lnTo>
                  <a:pt x="5494" y="3808"/>
                </a:lnTo>
                <a:lnTo>
                  <a:pt x="5496" y="3807"/>
                </a:lnTo>
                <a:lnTo>
                  <a:pt x="5498" y="3806"/>
                </a:lnTo>
                <a:lnTo>
                  <a:pt x="5501" y="3805"/>
                </a:lnTo>
                <a:lnTo>
                  <a:pt x="5504" y="3804"/>
                </a:lnTo>
                <a:lnTo>
                  <a:pt x="5507" y="3804"/>
                </a:lnTo>
                <a:lnTo>
                  <a:pt x="5507" y="3804"/>
                </a:lnTo>
                <a:close/>
                <a:moveTo>
                  <a:pt x="5872" y="3804"/>
                </a:moveTo>
                <a:lnTo>
                  <a:pt x="6087" y="3804"/>
                </a:lnTo>
                <a:lnTo>
                  <a:pt x="6089" y="3804"/>
                </a:lnTo>
                <a:lnTo>
                  <a:pt x="6092" y="3805"/>
                </a:lnTo>
                <a:lnTo>
                  <a:pt x="6095" y="3806"/>
                </a:lnTo>
                <a:lnTo>
                  <a:pt x="6097" y="3807"/>
                </a:lnTo>
                <a:lnTo>
                  <a:pt x="6098" y="3808"/>
                </a:lnTo>
                <a:lnTo>
                  <a:pt x="6100" y="3810"/>
                </a:lnTo>
                <a:lnTo>
                  <a:pt x="6101" y="3812"/>
                </a:lnTo>
                <a:lnTo>
                  <a:pt x="6101" y="3814"/>
                </a:lnTo>
                <a:lnTo>
                  <a:pt x="6101" y="3815"/>
                </a:lnTo>
                <a:lnTo>
                  <a:pt x="6100" y="3817"/>
                </a:lnTo>
                <a:lnTo>
                  <a:pt x="6098" y="3819"/>
                </a:lnTo>
                <a:lnTo>
                  <a:pt x="6097" y="3820"/>
                </a:lnTo>
                <a:lnTo>
                  <a:pt x="6095" y="3821"/>
                </a:lnTo>
                <a:lnTo>
                  <a:pt x="6092" y="3822"/>
                </a:lnTo>
                <a:lnTo>
                  <a:pt x="6089" y="3823"/>
                </a:lnTo>
                <a:lnTo>
                  <a:pt x="6087" y="3823"/>
                </a:lnTo>
                <a:lnTo>
                  <a:pt x="5872" y="3823"/>
                </a:lnTo>
                <a:lnTo>
                  <a:pt x="5869" y="3823"/>
                </a:lnTo>
                <a:lnTo>
                  <a:pt x="5868" y="3822"/>
                </a:lnTo>
                <a:lnTo>
                  <a:pt x="5864" y="3821"/>
                </a:lnTo>
                <a:lnTo>
                  <a:pt x="5863" y="3820"/>
                </a:lnTo>
                <a:lnTo>
                  <a:pt x="5860" y="3819"/>
                </a:lnTo>
                <a:lnTo>
                  <a:pt x="5860" y="3817"/>
                </a:lnTo>
                <a:lnTo>
                  <a:pt x="5858" y="3815"/>
                </a:lnTo>
                <a:lnTo>
                  <a:pt x="5858" y="3814"/>
                </a:lnTo>
                <a:lnTo>
                  <a:pt x="5858" y="3812"/>
                </a:lnTo>
                <a:lnTo>
                  <a:pt x="5860" y="3810"/>
                </a:lnTo>
                <a:lnTo>
                  <a:pt x="5860" y="3808"/>
                </a:lnTo>
                <a:lnTo>
                  <a:pt x="5863" y="3807"/>
                </a:lnTo>
                <a:lnTo>
                  <a:pt x="5864" y="3806"/>
                </a:lnTo>
                <a:lnTo>
                  <a:pt x="5868" y="3805"/>
                </a:lnTo>
                <a:lnTo>
                  <a:pt x="5869" y="3804"/>
                </a:lnTo>
                <a:lnTo>
                  <a:pt x="5872" y="3804"/>
                </a:lnTo>
                <a:lnTo>
                  <a:pt x="5872" y="3804"/>
                </a:lnTo>
                <a:close/>
                <a:moveTo>
                  <a:pt x="6239" y="3804"/>
                </a:moveTo>
                <a:lnTo>
                  <a:pt x="6452" y="3804"/>
                </a:lnTo>
                <a:lnTo>
                  <a:pt x="6455" y="3804"/>
                </a:lnTo>
                <a:lnTo>
                  <a:pt x="6458" y="3805"/>
                </a:lnTo>
                <a:lnTo>
                  <a:pt x="6460" y="3806"/>
                </a:lnTo>
                <a:lnTo>
                  <a:pt x="6463" y="3807"/>
                </a:lnTo>
                <a:lnTo>
                  <a:pt x="6465" y="3808"/>
                </a:lnTo>
                <a:lnTo>
                  <a:pt x="6466" y="3810"/>
                </a:lnTo>
                <a:lnTo>
                  <a:pt x="6468" y="3812"/>
                </a:lnTo>
                <a:lnTo>
                  <a:pt x="6468" y="3814"/>
                </a:lnTo>
                <a:lnTo>
                  <a:pt x="6468" y="3815"/>
                </a:lnTo>
                <a:lnTo>
                  <a:pt x="6466" y="3817"/>
                </a:lnTo>
                <a:lnTo>
                  <a:pt x="6465" y="3819"/>
                </a:lnTo>
                <a:lnTo>
                  <a:pt x="6463" y="3820"/>
                </a:lnTo>
                <a:lnTo>
                  <a:pt x="6460" y="3821"/>
                </a:lnTo>
                <a:lnTo>
                  <a:pt x="6458" y="3822"/>
                </a:lnTo>
                <a:lnTo>
                  <a:pt x="6455" y="3823"/>
                </a:lnTo>
                <a:lnTo>
                  <a:pt x="6452" y="3823"/>
                </a:lnTo>
                <a:lnTo>
                  <a:pt x="6239" y="3823"/>
                </a:lnTo>
                <a:lnTo>
                  <a:pt x="6236" y="3823"/>
                </a:lnTo>
                <a:lnTo>
                  <a:pt x="6233" y="3822"/>
                </a:lnTo>
                <a:lnTo>
                  <a:pt x="6229" y="3821"/>
                </a:lnTo>
                <a:lnTo>
                  <a:pt x="6228" y="3820"/>
                </a:lnTo>
                <a:lnTo>
                  <a:pt x="6226" y="3819"/>
                </a:lnTo>
                <a:lnTo>
                  <a:pt x="6225" y="3817"/>
                </a:lnTo>
                <a:lnTo>
                  <a:pt x="6223" y="3815"/>
                </a:lnTo>
                <a:lnTo>
                  <a:pt x="6223" y="3814"/>
                </a:lnTo>
                <a:lnTo>
                  <a:pt x="6223" y="3812"/>
                </a:lnTo>
                <a:lnTo>
                  <a:pt x="6225" y="3810"/>
                </a:lnTo>
                <a:lnTo>
                  <a:pt x="6226" y="3808"/>
                </a:lnTo>
                <a:lnTo>
                  <a:pt x="6228" y="3807"/>
                </a:lnTo>
                <a:lnTo>
                  <a:pt x="6229" y="3806"/>
                </a:lnTo>
                <a:lnTo>
                  <a:pt x="6233" y="3805"/>
                </a:lnTo>
                <a:lnTo>
                  <a:pt x="6236" y="3804"/>
                </a:lnTo>
                <a:lnTo>
                  <a:pt x="6239" y="3804"/>
                </a:lnTo>
                <a:lnTo>
                  <a:pt x="6239" y="3804"/>
                </a:lnTo>
                <a:close/>
                <a:moveTo>
                  <a:pt x="6604" y="3804"/>
                </a:moveTo>
                <a:lnTo>
                  <a:pt x="6819" y="3804"/>
                </a:lnTo>
                <a:lnTo>
                  <a:pt x="6822" y="3804"/>
                </a:lnTo>
                <a:lnTo>
                  <a:pt x="6824" y="3805"/>
                </a:lnTo>
                <a:lnTo>
                  <a:pt x="6827" y="3806"/>
                </a:lnTo>
                <a:lnTo>
                  <a:pt x="6828" y="3807"/>
                </a:lnTo>
                <a:lnTo>
                  <a:pt x="6832" y="3808"/>
                </a:lnTo>
                <a:lnTo>
                  <a:pt x="6833" y="3810"/>
                </a:lnTo>
                <a:lnTo>
                  <a:pt x="6833" y="3812"/>
                </a:lnTo>
                <a:lnTo>
                  <a:pt x="6833" y="3814"/>
                </a:lnTo>
                <a:lnTo>
                  <a:pt x="6833" y="3815"/>
                </a:lnTo>
                <a:lnTo>
                  <a:pt x="6833" y="3817"/>
                </a:lnTo>
                <a:lnTo>
                  <a:pt x="6832" y="3819"/>
                </a:lnTo>
                <a:lnTo>
                  <a:pt x="6828" y="3820"/>
                </a:lnTo>
                <a:lnTo>
                  <a:pt x="6827" y="3821"/>
                </a:lnTo>
                <a:lnTo>
                  <a:pt x="6824" y="3822"/>
                </a:lnTo>
                <a:lnTo>
                  <a:pt x="6822" y="3823"/>
                </a:lnTo>
                <a:lnTo>
                  <a:pt x="6819" y="3823"/>
                </a:lnTo>
                <a:lnTo>
                  <a:pt x="6604" y="3823"/>
                </a:lnTo>
                <a:lnTo>
                  <a:pt x="6601" y="3823"/>
                </a:lnTo>
                <a:lnTo>
                  <a:pt x="6599" y="3822"/>
                </a:lnTo>
                <a:lnTo>
                  <a:pt x="6596" y="3821"/>
                </a:lnTo>
                <a:lnTo>
                  <a:pt x="6595" y="3820"/>
                </a:lnTo>
                <a:lnTo>
                  <a:pt x="6591" y="3819"/>
                </a:lnTo>
                <a:lnTo>
                  <a:pt x="6591" y="3817"/>
                </a:lnTo>
                <a:lnTo>
                  <a:pt x="6590" y="3815"/>
                </a:lnTo>
                <a:lnTo>
                  <a:pt x="6590" y="3814"/>
                </a:lnTo>
                <a:lnTo>
                  <a:pt x="6590" y="3812"/>
                </a:lnTo>
                <a:lnTo>
                  <a:pt x="6591" y="3810"/>
                </a:lnTo>
                <a:lnTo>
                  <a:pt x="6591" y="3808"/>
                </a:lnTo>
                <a:lnTo>
                  <a:pt x="6595" y="3807"/>
                </a:lnTo>
                <a:lnTo>
                  <a:pt x="6596" y="3806"/>
                </a:lnTo>
                <a:lnTo>
                  <a:pt x="6599" y="3805"/>
                </a:lnTo>
                <a:lnTo>
                  <a:pt x="6601" y="3804"/>
                </a:lnTo>
                <a:lnTo>
                  <a:pt x="6604" y="3804"/>
                </a:lnTo>
                <a:lnTo>
                  <a:pt x="6604" y="3804"/>
                </a:lnTo>
                <a:close/>
                <a:moveTo>
                  <a:pt x="6971" y="3804"/>
                </a:moveTo>
                <a:lnTo>
                  <a:pt x="7184" y="3804"/>
                </a:lnTo>
                <a:lnTo>
                  <a:pt x="7187" y="3804"/>
                </a:lnTo>
                <a:lnTo>
                  <a:pt x="7190" y="3805"/>
                </a:lnTo>
                <a:lnTo>
                  <a:pt x="7193" y="3806"/>
                </a:lnTo>
                <a:lnTo>
                  <a:pt x="7195" y="3807"/>
                </a:lnTo>
                <a:lnTo>
                  <a:pt x="7197" y="3808"/>
                </a:lnTo>
                <a:lnTo>
                  <a:pt x="7198" y="3810"/>
                </a:lnTo>
                <a:lnTo>
                  <a:pt x="7200" y="3812"/>
                </a:lnTo>
                <a:lnTo>
                  <a:pt x="7200" y="3814"/>
                </a:lnTo>
                <a:lnTo>
                  <a:pt x="7200" y="3815"/>
                </a:lnTo>
                <a:lnTo>
                  <a:pt x="7198" y="3817"/>
                </a:lnTo>
                <a:lnTo>
                  <a:pt x="7197" y="3819"/>
                </a:lnTo>
                <a:lnTo>
                  <a:pt x="7195" y="3820"/>
                </a:lnTo>
                <a:lnTo>
                  <a:pt x="7193" y="3821"/>
                </a:lnTo>
                <a:lnTo>
                  <a:pt x="7190" y="3822"/>
                </a:lnTo>
                <a:lnTo>
                  <a:pt x="7187" y="3823"/>
                </a:lnTo>
                <a:lnTo>
                  <a:pt x="7184" y="3823"/>
                </a:lnTo>
                <a:lnTo>
                  <a:pt x="6971" y="3823"/>
                </a:lnTo>
                <a:lnTo>
                  <a:pt x="6968" y="3823"/>
                </a:lnTo>
                <a:lnTo>
                  <a:pt x="6964" y="3822"/>
                </a:lnTo>
                <a:lnTo>
                  <a:pt x="6963" y="3821"/>
                </a:lnTo>
                <a:lnTo>
                  <a:pt x="6960" y="3820"/>
                </a:lnTo>
                <a:lnTo>
                  <a:pt x="6958" y="3819"/>
                </a:lnTo>
                <a:lnTo>
                  <a:pt x="6956" y="3817"/>
                </a:lnTo>
                <a:lnTo>
                  <a:pt x="6956" y="3815"/>
                </a:lnTo>
                <a:lnTo>
                  <a:pt x="6956" y="3814"/>
                </a:lnTo>
                <a:lnTo>
                  <a:pt x="6956" y="3812"/>
                </a:lnTo>
                <a:lnTo>
                  <a:pt x="6956" y="3810"/>
                </a:lnTo>
                <a:lnTo>
                  <a:pt x="6958" y="3808"/>
                </a:lnTo>
                <a:lnTo>
                  <a:pt x="6960" y="3807"/>
                </a:lnTo>
                <a:lnTo>
                  <a:pt x="6963" y="3806"/>
                </a:lnTo>
                <a:lnTo>
                  <a:pt x="6964" y="3805"/>
                </a:lnTo>
                <a:lnTo>
                  <a:pt x="6968" y="3804"/>
                </a:lnTo>
                <a:lnTo>
                  <a:pt x="6971" y="3804"/>
                </a:lnTo>
                <a:lnTo>
                  <a:pt x="6971" y="3804"/>
                </a:lnTo>
                <a:close/>
                <a:moveTo>
                  <a:pt x="7338" y="3804"/>
                </a:moveTo>
                <a:lnTo>
                  <a:pt x="7551" y="3804"/>
                </a:lnTo>
                <a:lnTo>
                  <a:pt x="7554" y="3804"/>
                </a:lnTo>
                <a:lnTo>
                  <a:pt x="7557" y="3805"/>
                </a:lnTo>
                <a:lnTo>
                  <a:pt x="7559" y="3806"/>
                </a:lnTo>
                <a:lnTo>
                  <a:pt x="7562" y="3807"/>
                </a:lnTo>
                <a:lnTo>
                  <a:pt x="7563" y="3808"/>
                </a:lnTo>
                <a:lnTo>
                  <a:pt x="7565" y="3810"/>
                </a:lnTo>
                <a:lnTo>
                  <a:pt x="7565" y="3812"/>
                </a:lnTo>
                <a:lnTo>
                  <a:pt x="7567" y="3814"/>
                </a:lnTo>
                <a:lnTo>
                  <a:pt x="7565" y="3815"/>
                </a:lnTo>
                <a:lnTo>
                  <a:pt x="7565" y="3817"/>
                </a:lnTo>
                <a:lnTo>
                  <a:pt x="7563" y="3819"/>
                </a:lnTo>
                <a:lnTo>
                  <a:pt x="7562" y="3820"/>
                </a:lnTo>
                <a:lnTo>
                  <a:pt x="7559" y="3821"/>
                </a:lnTo>
                <a:lnTo>
                  <a:pt x="7557" y="3822"/>
                </a:lnTo>
                <a:lnTo>
                  <a:pt x="7554" y="3823"/>
                </a:lnTo>
                <a:lnTo>
                  <a:pt x="7551" y="3823"/>
                </a:lnTo>
                <a:lnTo>
                  <a:pt x="7338" y="3823"/>
                </a:lnTo>
                <a:lnTo>
                  <a:pt x="7334" y="3823"/>
                </a:lnTo>
                <a:lnTo>
                  <a:pt x="7331" y="3822"/>
                </a:lnTo>
                <a:lnTo>
                  <a:pt x="7328" y="3821"/>
                </a:lnTo>
                <a:lnTo>
                  <a:pt x="7326" y="3820"/>
                </a:lnTo>
                <a:lnTo>
                  <a:pt x="7325" y="3819"/>
                </a:lnTo>
                <a:lnTo>
                  <a:pt x="7323" y="3817"/>
                </a:lnTo>
                <a:lnTo>
                  <a:pt x="7322" y="3815"/>
                </a:lnTo>
                <a:lnTo>
                  <a:pt x="7322" y="3814"/>
                </a:lnTo>
                <a:lnTo>
                  <a:pt x="7322" y="3812"/>
                </a:lnTo>
                <a:lnTo>
                  <a:pt x="7323" y="3810"/>
                </a:lnTo>
                <a:lnTo>
                  <a:pt x="7325" y="3808"/>
                </a:lnTo>
                <a:lnTo>
                  <a:pt x="7326" y="3807"/>
                </a:lnTo>
                <a:lnTo>
                  <a:pt x="7328" y="3806"/>
                </a:lnTo>
                <a:lnTo>
                  <a:pt x="7331" y="3805"/>
                </a:lnTo>
                <a:lnTo>
                  <a:pt x="7334" y="3804"/>
                </a:lnTo>
                <a:lnTo>
                  <a:pt x="7338" y="3804"/>
                </a:lnTo>
                <a:lnTo>
                  <a:pt x="7338" y="3804"/>
                </a:lnTo>
                <a:close/>
                <a:moveTo>
                  <a:pt x="7703" y="3804"/>
                </a:moveTo>
                <a:lnTo>
                  <a:pt x="7917" y="3804"/>
                </a:lnTo>
                <a:lnTo>
                  <a:pt x="7919" y="3804"/>
                </a:lnTo>
                <a:lnTo>
                  <a:pt x="7922" y="3805"/>
                </a:lnTo>
                <a:lnTo>
                  <a:pt x="7925" y="3806"/>
                </a:lnTo>
                <a:lnTo>
                  <a:pt x="7927" y="3807"/>
                </a:lnTo>
                <a:lnTo>
                  <a:pt x="7929" y="3808"/>
                </a:lnTo>
                <a:lnTo>
                  <a:pt x="7930" y="3810"/>
                </a:lnTo>
                <a:lnTo>
                  <a:pt x="7932" y="3812"/>
                </a:lnTo>
                <a:lnTo>
                  <a:pt x="7932" y="3814"/>
                </a:lnTo>
                <a:lnTo>
                  <a:pt x="7932" y="3815"/>
                </a:lnTo>
                <a:lnTo>
                  <a:pt x="7930" y="3817"/>
                </a:lnTo>
                <a:lnTo>
                  <a:pt x="7929" y="3819"/>
                </a:lnTo>
                <a:lnTo>
                  <a:pt x="7927" y="3820"/>
                </a:lnTo>
                <a:lnTo>
                  <a:pt x="7925" y="3821"/>
                </a:lnTo>
                <a:lnTo>
                  <a:pt x="7922" y="3822"/>
                </a:lnTo>
                <a:lnTo>
                  <a:pt x="7919" y="3823"/>
                </a:lnTo>
                <a:lnTo>
                  <a:pt x="7917" y="3823"/>
                </a:lnTo>
                <a:lnTo>
                  <a:pt x="7703" y="3823"/>
                </a:lnTo>
                <a:lnTo>
                  <a:pt x="7700" y="3823"/>
                </a:lnTo>
                <a:lnTo>
                  <a:pt x="7698" y="3822"/>
                </a:lnTo>
                <a:lnTo>
                  <a:pt x="7695" y="3821"/>
                </a:lnTo>
                <a:lnTo>
                  <a:pt x="7693" y="3820"/>
                </a:lnTo>
                <a:lnTo>
                  <a:pt x="7690" y="3819"/>
                </a:lnTo>
                <a:lnTo>
                  <a:pt x="7690" y="3817"/>
                </a:lnTo>
                <a:lnTo>
                  <a:pt x="7688" y="3815"/>
                </a:lnTo>
                <a:lnTo>
                  <a:pt x="7688" y="3814"/>
                </a:lnTo>
                <a:lnTo>
                  <a:pt x="7688" y="3812"/>
                </a:lnTo>
                <a:lnTo>
                  <a:pt x="7690" y="3810"/>
                </a:lnTo>
                <a:lnTo>
                  <a:pt x="7690" y="3808"/>
                </a:lnTo>
                <a:lnTo>
                  <a:pt x="7693" y="3807"/>
                </a:lnTo>
                <a:lnTo>
                  <a:pt x="7695" y="3806"/>
                </a:lnTo>
                <a:lnTo>
                  <a:pt x="7698" y="3805"/>
                </a:lnTo>
                <a:lnTo>
                  <a:pt x="7700" y="3804"/>
                </a:lnTo>
                <a:lnTo>
                  <a:pt x="7703" y="3804"/>
                </a:lnTo>
                <a:lnTo>
                  <a:pt x="7703" y="3804"/>
                </a:lnTo>
                <a:close/>
                <a:moveTo>
                  <a:pt x="8069" y="3804"/>
                </a:moveTo>
                <a:lnTo>
                  <a:pt x="8223" y="3804"/>
                </a:lnTo>
                <a:lnTo>
                  <a:pt x="8207" y="3814"/>
                </a:lnTo>
                <a:lnTo>
                  <a:pt x="8207" y="3776"/>
                </a:lnTo>
                <a:lnTo>
                  <a:pt x="8207" y="3774"/>
                </a:lnTo>
                <a:lnTo>
                  <a:pt x="8209" y="3772"/>
                </a:lnTo>
                <a:lnTo>
                  <a:pt x="8210" y="3771"/>
                </a:lnTo>
                <a:lnTo>
                  <a:pt x="8212" y="3769"/>
                </a:lnTo>
                <a:lnTo>
                  <a:pt x="8214" y="3768"/>
                </a:lnTo>
                <a:lnTo>
                  <a:pt x="8217" y="3767"/>
                </a:lnTo>
                <a:lnTo>
                  <a:pt x="8220" y="3767"/>
                </a:lnTo>
                <a:lnTo>
                  <a:pt x="8223" y="3767"/>
                </a:lnTo>
                <a:lnTo>
                  <a:pt x="8225" y="3767"/>
                </a:lnTo>
                <a:lnTo>
                  <a:pt x="8228" y="3767"/>
                </a:lnTo>
                <a:lnTo>
                  <a:pt x="8231" y="3768"/>
                </a:lnTo>
                <a:lnTo>
                  <a:pt x="8233" y="3769"/>
                </a:lnTo>
                <a:lnTo>
                  <a:pt x="8234" y="3771"/>
                </a:lnTo>
                <a:lnTo>
                  <a:pt x="8236" y="3772"/>
                </a:lnTo>
                <a:lnTo>
                  <a:pt x="8238" y="3774"/>
                </a:lnTo>
                <a:lnTo>
                  <a:pt x="8238" y="3776"/>
                </a:lnTo>
                <a:lnTo>
                  <a:pt x="8238" y="3814"/>
                </a:lnTo>
                <a:lnTo>
                  <a:pt x="8238" y="3815"/>
                </a:lnTo>
                <a:lnTo>
                  <a:pt x="8236" y="3817"/>
                </a:lnTo>
                <a:lnTo>
                  <a:pt x="8234" y="3819"/>
                </a:lnTo>
                <a:lnTo>
                  <a:pt x="8233" y="3820"/>
                </a:lnTo>
                <a:lnTo>
                  <a:pt x="8231" y="3821"/>
                </a:lnTo>
                <a:lnTo>
                  <a:pt x="8228" y="3822"/>
                </a:lnTo>
                <a:lnTo>
                  <a:pt x="8225" y="3823"/>
                </a:lnTo>
                <a:lnTo>
                  <a:pt x="8223" y="3823"/>
                </a:lnTo>
                <a:lnTo>
                  <a:pt x="8069" y="3823"/>
                </a:lnTo>
                <a:lnTo>
                  <a:pt x="8066" y="3823"/>
                </a:lnTo>
                <a:lnTo>
                  <a:pt x="8063" y="3822"/>
                </a:lnTo>
                <a:lnTo>
                  <a:pt x="8060" y="3821"/>
                </a:lnTo>
                <a:lnTo>
                  <a:pt x="8058" y="3820"/>
                </a:lnTo>
                <a:lnTo>
                  <a:pt x="8057" y="3819"/>
                </a:lnTo>
                <a:lnTo>
                  <a:pt x="8055" y="3817"/>
                </a:lnTo>
                <a:lnTo>
                  <a:pt x="8053" y="3815"/>
                </a:lnTo>
                <a:lnTo>
                  <a:pt x="8053" y="3814"/>
                </a:lnTo>
                <a:lnTo>
                  <a:pt x="8053" y="3812"/>
                </a:lnTo>
                <a:lnTo>
                  <a:pt x="8055" y="3810"/>
                </a:lnTo>
                <a:lnTo>
                  <a:pt x="8057" y="3808"/>
                </a:lnTo>
                <a:lnTo>
                  <a:pt x="8058" y="3807"/>
                </a:lnTo>
                <a:lnTo>
                  <a:pt x="8060" y="3806"/>
                </a:lnTo>
                <a:lnTo>
                  <a:pt x="8063" y="3805"/>
                </a:lnTo>
                <a:lnTo>
                  <a:pt x="8066" y="3804"/>
                </a:lnTo>
                <a:lnTo>
                  <a:pt x="8069" y="3804"/>
                </a:lnTo>
                <a:lnTo>
                  <a:pt x="8069" y="3804"/>
                </a:lnTo>
                <a:close/>
                <a:moveTo>
                  <a:pt x="8207" y="3681"/>
                </a:moveTo>
                <a:lnTo>
                  <a:pt x="8207" y="3547"/>
                </a:lnTo>
                <a:lnTo>
                  <a:pt x="8207" y="3545"/>
                </a:lnTo>
                <a:lnTo>
                  <a:pt x="8209" y="3544"/>
                </a:lnTo>
                <a:lnTo>
                  <a:pt x="8210" y="3542"/>
                </a:lnTo>
                <a:lnTo>
                  <a:pt x="8212" y="3541"/>
                </a:lnTo>
                <a:lnTo>
                  <a:pt x="8214" y="3539"/>
                </a:lnTo>
                <a:lnTo>
                  <a:pt x="8217" y="3539"/>
                </a:lnTo>
                <a:lnTo>
                  <a:pt x="8220" y="3538"/>
                </a:lnTo>
                <a:lnTo>
                  <a:pt x="8223" y="3538"/>
                </a:lnTo>
                <a:lnTo>
                  <a:pt x="8225" y="3538"/>
                </a:lnTo>
                <a:lnTo>
                  <a:pt x="8228" y="3539"/>
                </a:lnTo>
                <a:lnTo>
                  <a:pt x="8231" y="3539"/>
                </a:lnTo>
                <a:lnTo>
                  <a:pt x="8233" y="3541"/>
                </a:lnTo>
                <a:lnTo>
                  <a:pt x="8234" y="3542"/>
                </a:lnTo>
                <a:lnTo>
                  <a:pt x="8236" y="3544"/>
                </a:lnTo>
                <a:lnTo>
                  <a:pt x="8238" y="3545"/>
                </a:lnTo>
                <a:lnTo>
                  <a:pt x="8238" y="3547"/>
                </a:lnTo>
                <a:lnTo>
                  <a:pt x="8238" y="3681"/>
                </a:lnTo>
                <a:lnTo>
                  <a:pt x="8238" y="3683"/>
                </a:lnTo>
                <a:lnTo>
                  <a:pt x="8236" y="3684"/>
                </a:lnTo>
                <a:lnTo>
                  <a:pt x="8234" y="3686"/>
                </a:lnTo>
                <a:lnTo>
                  <a:pt x="8233" y="3687"/>
                </a:lnTo>
                <a:lnTo>
                  <a:pt x="8231" y="3689"/>
                </a:lnTo>
                <a:lnTo>
                  <a:pt x="8228" y="3690"/>
                </a:lnTo>
                <a:lnTo>
                  <a:pt x="8225" y="3690"/>
                </a:lnTo>
                <a:lnTo>
                  <a:pt x="8223" y="3690"/>
                </a:lnTo>
                <a:lnTo>
                  <a:pt x="8220" y="3690"/>
                </a:lnTo>
                <a:lnTo>
                  <a:pt x="8217" y="3690"/>
                </a:lnTo>
                <a:lnTo>
                  <a:pt x="8214" y="3689"/>
                </a:lnTo>
                <a:lnTo>
                  <a:pt x="8212" y="3687"/>
                </a:lnTo>
                <a:lnTo>
                  <a:pt x="8210" y="3686"/>
                </a:lnTo>
                <a:lnTo>
                  <a:pt x="8209" y="3684"/>
                </a:lnTo>
                <a:lnTo>
                  <a:pt x="8207" y="3683"/>
                </a:lnTo>
                <a:lnTo>
                  <a:pt x="8207" y="3681"/>
                </a:lnTo>
                <a:lnTo>
                  <a:pt x="8207" y="3681"/>
                </a:lnTo>
                <a:close/>
                <a:moveTo>
                  <a:pt x="8207" y="3451"/>
                </a:moveTo>
                <a:lnTo>
                  <a:pt x="8207" y="3318"/>
                </a:lnTo>
                <a:lnTo>
                  <a:pt x="8207" y="3316"/>
                </a:lnTo>
                <a:lnTo>
                  <a:pt x="8209" y="3314"/>
                </a:lnTo>
                <a:lnTo>
                  <a:pt x="8210" y="3312"/>
                </a:lnTo>
                <a:lnTo>
                  <a:pt x="8212" y="3311"/>
                </a:lnTo>
                <a:lnTo>
                  <a:pt x="8214" y="3310"/>
                </a:lnTo>
                <a:lnTo>
                  <a:pt x="8217" y="3309"/>
                </a:lnTo>
                <a:lnTo>
                  <a:pt x="8220" y="3308"/>
                </a:lnTo>
                <a:lnTo>
                  <a:pt x="8223" y="3308"/>
                </a:lnTo>
                <a:lnTo>
                  <a:pt x="8225" y="3308"/>
                </a:lnTo>
                <a:lnTo>
                  <a:pt x="8228" y="3309"/>
                </a:lnTo>
                <a:lnTo>
                  <a:pt x="8231" y="3310"/>
                </a:lnTo>
                <a:lnTo>
                  <a:pt x="8233" y="3311"/>
                </a:lnTo>
                <a:lnTo>
                  <a:pt x="8234" y="3312"/>
                </a:lnTo>
                <a:lnTo>
                  <a:pt x="8236" y="3314"/>
                </a:lnTo>
                <a:lnTo>
                  <a:pt x="8238" y="3316"/>
                </a:lnTo>
                <a:lnTo>
                  <a:pt x="8238" y="3318"/>
                </a:lnTo>
                <a:lnTo>
                  <a:pt x="8238" y="3451"/>
                </a:lnTo>
                <a:lnTo>
                  <a:pt x="8238" y="3453"/>
                </a:lnTo>
                <a:lnTo>
                  <a:pt x="8236" y="3455"/>
                </a:lnTo>
                <a:lnTo>
                  <a:pt x="8234" y="3456"/>
                </a:lnTo>
                <a:lnTo>
                  <a:pt x="8233" y="3458"/>
                </a:lnTo>
                <a:lnTo>
                  <a:pt x="8231" y="3459"/>
                </a:lnTo>
                <a:lnTo>
                  <a:pt x="8228" y="3460"/>
                </a:lnTo>
                <a:lnTo>
                  <a:pt x="8225" y="3460"/>
                </a:lnTo>
                <a:lnTo>
                  <a:pt x="8223" y="3461"/>
                </a:lnTo>
                <a:lnTo>
                  <a:pt x="8220" y="3460"/>
                </a:lnTo>
                <a:lnTo>
                  <a:pt x="8217" y="3460"/>
                </a:lnTo>
                <a:lnTo>
                  <a:pt x="8214" y="3459"/>
                </a:lnTo>
                <a:lnTo>
                  <a:pt x="8212" y="3458"/>
                </a:lnTo>
                <a:lnTo>
                  <a:pt x="8210" y="3456"/>
                </a:lnTo>
                <a:lnTo>
                  <a:pt x="8209" y="3455"/>
                </a:lnTo>
                <a:lnTo>
                  <a:pt x="8207" y="3453"/>
                </a:lnTo>
                <a:lnTo>
                  <a:pt x="8207" y="3451"/>
                </a:lnTo>
                <a:lnTo>
                  <a:pt x="8207" y="3451"/>
                </a:lnTo>
                <a:close/>
                <a:moveTo>
                  <a:pt x="8207" y="3223"/>
                </a:moveTo>
                <a:lnTo>
                  <a:pt x="8207" y="3089"/>
                </a:lnTo>
                <a:lnTo>
                  <a:pt x="8207" y="3087"/>
                </a:lnTo>
                <a:lnTo>
                  <a:pt x="8209" y="3085"/>
                </a:lnTo>
                <a:lnTo>
                  <a:pt x="8210" y="3084"/>
                </a:lnTo>
                <a:lnTo>
                  <a:pt x="8212" y="3082"/>
                </a:lnTo>
                <a:lnTo>
                  <a:pt x="8214" y="3081"/>
                </a:lnTo>
                <a:lnTo>
                  <a:pt x="8217" y="3080"/>
                </a:lnTo>
                <a:lnTo>
                  <a:pt x="8220" y="3080"/>
                </a:lnTo>
                <a:lnTo>
                  <a:pt x="8223" y="3080"/>
                </a:lnTo>
                <a:lnTo>
                  <a:pt x="8225" y="3080"/>
                </a:lnTo>
                <a:lnTo>
                  <a:pt x="8228" y="3080"/>
                </a:lnTo>
                <a:lnTo>
                  <a:pt x="8231" y="3081"/>
                </a:lnTo>
                <a:lnTo>
                  <a:pt x="8233" y="3082"/>
                </a:lnTo>
                <a:lnTo>
                  <a:pt x="8234" y="3084"/>
                </a:lnTo>
                <a:lnTo>
                  <a:pt x="8236" y="3085"/>
                </a:lnTo>
                <a:lnTo>
                  <a:pt x="8238" y="3087"/>
                </a:lnTo>
                <a:lnTo>
                  <a:pt x="8238" y="3089"/>
                </a:lnTo>
                <a:lnTo>
                  <a:pt x="8238" y="3223"/>
                </a:lnTo>
                <a:lnTo>
                  <a:pt x="8238" y="3224"/>
                </a:lnTo>
                <a:lnTo>
                  <a:pt x="8236" y="3226"/>
                </a:lnTo>
                <a:lnTo>
                  <a:pt x="8234" y="3228"/>
                </a:lnTo>
                <a:lnTo>
                  <a:pt x="8233" y="3229"/>
                </a:lnTo>
                <a:lnTo>
                  <a:pt x="8231" y="3230"/>
                </a:lnTo>
                <a:lnTo>
                  <a:pt x="8228" y="3231"/>
                </a:lnTo>
                <a:lnTo>
                  <a:pt x="8225" y="3232"/>
                </a:lnTo>
                <a:lnTo>
                  <a:pt x="8223" y="3232"/>
                </a:lnTo>
                <a:lnTo>
                  <a:pt x="8220" y="3232"/>
                </a:lnTo>
                <a:lnTo>
                  <a:pt x="8217" y="3231"/>
                </a:lnTo>
                <a:lnTo>
                  <a:pt x="8214" y="3230"/>
                </a:lnTo>
                <a:lnTo>
                  <a:pt x="8212" y="3229"/>
                </a:lnTo>
                <a:lnTo>
                  <a:pt x="8210" y="3228"/>
                </a:lnTo>
                <a:lnTo>
                  <a:pt x="8209" y="3226"/>
                </a:lnTo>
                <a:lnTo>
                  <a:pt x="8207" y="3224"/>
                </a:lnTo>
                <a:lnTo>
                  <a:pt x="8207" y="3223"/>
                </a:lnTo>
                <a:lnTo>
                  <a:pt x="8207" y="3223"/>
                </a:lnTo>
                <a:close/>
                <a:moveTo>
                  <a:pt x="8207" y="2994"/>
                </a:moveTo>
                <a:lnTo>
                  <a:pt x="8207" y="2861"/>
                </a:lnTo>
                <a:lnTo>
                  <a:pt x="8207" y="2859"/>
                </a:lnTo>
                <a:lnTo>
                  <a:pt x="8209" y="2857"/>
                </a:lnTo>
                <a:lnTo>
                  <a:pt x="8210" y="2855"/>
                </a:lnTo>
                <a:lnTo>
                  <a:pt x="8212" y="2854"/>
                </a:lnTo>
                <a:lnTo>
                  <a:pt x="8214" y="2853"/>
                </a:lnTo>
                <a:lnTo>
                  <a:pt x="8217" y="2852"/>
                </a:lnTo>
                <a:lnTo>
                  <a:pt x="8220" y="2851"/>
                </a:lnTo>
                <a:lnTo>
                  <a:pt x="8223" y="2851"/>
                </a:lnTo>
                <a:lnTo>
                  <a:pt x="8225" y="2851"/>
                </a:lnTo>
                <a:lnTo>
                  <a:pt x="8228" y="2852"/>
                </a:lnTo>
                <a:lnTo>
                  <a:pt x="8231" y="2853"/>
                </a:lnTo>
                <a:lnTo>
                  <a:pt x="8233" y="2854"/>
                </a:lnTo>
                <a:lnTo>
                  <a:pt x="8234" y="2855"/>
                </a:lnTo>
                <a:lnTo>
                  <a:pt x="8236" y="2857"/>
                </a:lnTo>
                <a:lnTo>
                  <a:pt x="8238" y="2859"/>
                </a:lnTo>
                <a:lnTo>
                  <a:pt x="8238" y="2861"/>
                </a:lnTo>
                <a:lnTo>
                  <a:pt x="8238" y="2994"/>
                </a:lnTo>
                <a:lnTo>
                  <a:pt x="8238" y="2996"/>
                </a:lnTo>
                <a:lnTo>
                  <a:pt x="8236" y="2998"/>
                </a:lnTo>
                <a:lnTo>
                  <a:pt x="8234" y="2999"/>
                </a:lnTo>
                <a:lnTo>
                  <a:pt x="8233" y="3001"/>
                </a:lnTo>
                <a:lnTo>
                  <a:pt x="8231" y="3002"/>
                </a:lnTo>
                <a:lnTo>
                  <a:pt x="8228" y="3003"/>
                </a:lnTo>
                <a:lnTo>
                  <a:pt x="8225" y="3003"/>
                </a:lnTo>
                <a:lnTo>
                  <a:pt x="8223" y="3004"/>
                </a:lnTo>
                <a:lnTo>
                  <a:pt x="8220" y="3003"/>
                </a:lnTo>
                <a:lnTo>
                  <a:pt x="8217" y="3003"/>
                </a:lnTo>
                <a:lnTo>
                  <a:pt x="8214" y="3002"/>
                </a:lnTo>
                <a:lnTo>
                  <a:pt x="8212" y="3001"/>
                </a:lnTo>
                <a:lnTo>
                  <a:pt x="8210" y="2999"/>
                </a:lnTo>
                <a:lnTo>
                  <a:pt x="8209" y="2998"/>
                </a:lnTo>
                <a:lnTo>
                  <a:pt x="8207" y="2996"/>
                </a:lnTo>
                <a:lnTo>
                  <a:pt x="8207" y="2994"/>
                </a:lnTo>
                <a:lnTo>
                  <a:pt x="8207" y="2994"/>
                </a:lnTo>
                <a:close/>
                <a:moveTo>
                  <a:pt x="8207" y="2765"/>
                </a:moveTo>
                <a:lnTo>
                  <a:pt x="8207" y="2632"/>
                </a:lnTo>
                <a:lnTo>
                  <a:pt x="8207" y="2630"/>
                </a:lnTo>
                <a:lnTo>
                  <a:pt x="8209" y="2628"/>
                </a:lnTo>
                <a:lnTo>
                  <a:pt x="8210" y="2627"/>
                </a:lnTo>
                <a:lnTo>
                  <a:pt x="8212" y="2625"/>
                </a:lnTo>
                <a:lnTo>
                  <a:pt x="8214" y="2624"/>
                </a:lnTo>
                <a:lnTo>
                  <a:pt x="8217" y="2623"/>
                </a:lnTo>
                <a:lnTo>
                  <a:pt x="8220" y="2623"/>
                </a:lnTo>
                <a:lnTo>
                  <a:pt x="8223" y="2623"/>
                </a:lnTo>
                <a:lnTo>
                  <a:pt x="8225" y="2623"/>
                </a:lnTo>
                <a:lnTo>
                  <a:pt x="8228" y="2623"/>
                </a:lnTo>
                <a:lnTo>
                  <a:pt x="8231" y="2624"/>
                </a:lnTo>
                <a:lnTo>
                  <a:pt x="8233" y="2625"/>
                </a:lnTo>
                <a:lnTo>
                  <a:pt x="8234" y="2627"/>
                </a:lnTo>
                <a:lnTo>
                  <a:pt x="8236" y="2628"/>
                </a:lnTo>
                <a:lnTo>
                  <a:pt x="8238" y="2630"/>
                </a:lnTo>
                <a:lnTo>
                  <a:pt x="8238" y="2632"/>
                </a:lnTo>
                <a:lnTo>
                  <a:pt x="8238" y="2765"/>
                </a:lnTo>
                <a:lnTo>
                  <a:pt x="8238" y="2767"/>
                </a:lnTo>
                <a:lnTo>
                  <a:pt x="8236" y="2769"/>
                </a:lnTo>
                <a:lnTo>
                  <a:pt x="8234" y="2771"/>
                </a:lnTo>
                <a:lnTo>
                  <a:pt x="8233" y="2772"/>
                </a:lnTo>
                <a:lnTo>
                  <a:pt x="8231" y="2773"/>
                </a:lnTo>
                <a:lnTo>
                  <a:pt x="8228" y="2774"/>
                </a:lnTo>
                <a:lnTo>
                  <a:pt x="8225" y="2775"/>
                </a:lnTo>
                <a:lnTo>
                  <a:pt x="8223" y="2775"/>
                </a:lnTo>
                <a:lnTo>
                  <a:pt x="8220" y="2775"/>
                </a:lnTo>
                <a:lnTo>
                  <a:pt x="8217" y="2774"/>
                </a:lnTo>
                <a:lnTo>
                  <a:pt x="8214" y="2773"/>
                </a:lnTo>
                <a:lnTo>
                  <a:pt x="8212" y="2772"/>
                </a:lnTo>
                <a:lnTo>
                  <a:pt x="8210" y="2771"/>
                </a:lnTo>
                <a:lnTo>
                  <a:pt x="8209" y="2769"/>
                </a:lnTo>
                <a:lnTo>
                  <a:pt x="8207" y="2767"/>
                </a:lnTo>
                <a:lnTo>
                  <a:pt x="8207" y="2765"/>
                </a:lnTo>
                <a:lnTo>
                  <a:pt x="8207" y="2765"/>
                </a:lnTo>
                <a:close/>
                <a:moveTo>
                  <a:pt x="8207" y="2536"/>
                </a:moveTo>
                <a:lnTo>
                  <a:pt x="8207" y="2402"/>
                </a:lnTo>
                <a:lnTo>
                  <a:pt x="8207" y="2400"/>
                </a:lnTo>
                <a:lnTo>
                  <a:pt x="8209" y="2399"/>
                </a:lnTo>
                <a:lnTo>
                  <a:pt x="8210" y="2397"/>
                </a:lnTo>
                <a:lnTo>
                  <a:pt x="8212" y="2396"/>
                </a:lnTo>
                <a:lnTo>
                  <a:pt x="8214" y="2394"/>
                </a:lnTo>
                <a:lnTo>
                  <a:pt x="8217" y="2394"/>
                </a:lnTo>
                <a:lnTo>
                  <a:pt x="8220" y="2393"/>
                </a:lnTo>
                <a:lnTo>
                  <a:pt x="8223" y="2393"/>
                </a:lnTo>
                <a:lnTo>
                  <a:pt x="8225" y="2393"/>
                </a:lnTo>
                <a:lnTo>
                  <a:pt x="8228" y="2394"/>
                </a:lnTo>
                <a:lnTo>
                  <a:pt x="8231" y="2394"/>
                </a:lnTo>
                <a:lnTo>
                  <a:pt x="8233" y="2396"/>
                </a:lnTo>
                <a:lnTo>
                  <a:pt x="8234" y="2397"/>
                </a:lnTo>
                <a:lnTo>
                  <a:pt x="8236" y="2399"/>
                </a:lnTo>
                <a:lnTo>
                  <a:pt x="8238" y="2400"/>
                </a:lnTo>
                <a:lnTo>
                  <a:pt x="8238" y="2402"/>
                </a:lnTo>
                <a:lnTo>
                  <a:pt x="8238" y="2536"/>
                </a:lnTo>
                <a:lnTo>
                  <a:pt x="8238" y="2538"/>
                </a:lnTo>
                <a:lnTo>
                  <a:pt x="8236" y="2539"/>
                </a:lnTo>
                <a:lnTo>
                  <a:pt x="8234" y="2541"/>
                </a:lnTo>
                <a:lnTo>
                  <a:pt x="8233" y="2542"/>
                </a:lnTo>
                <a:lnTo>
                  <a:pt x="8231" y="2544"/>
                </a:lnTo>
                <a:lnTo>
                  <a:pt x="8228" y="2545"/>
                </a:lnTo>
                <a:lnTo>
                  <a:pt x="8225" y="2545"/>
                </a:lnTo>
                <a:lnTo>
                  <a:pt x="8223" y="2545"/>
                </a:lnTo>
                <a:lnTo>
                  <a:pt x="8220" y="2545"/>
                </a:lnTo>
                <a:lnTo>
                  <a:pt x="8217" y="2545"/>
                </a:lnTo>
                <a:lnTo>
                  <a:pt x="8214" y="2544"/>
                </a:lnTo>
                <a:lnTo>
                  <a:pt x="8212" y="2542"/>
                </a:lnTo>
                <a:lnTo>
                  <a:pt x="8210" y="2541"/>
                </a:lnTo>
                <a:lnTo>
                  <a:pt x="8209" y="2539"/>
                </a:lnTo>
                <a:lnTo>
                  <a:pt x="8207" y="2538"/>
                </a:lnTo>
                <a:lnTo>
                  <a:pt x="8207" y="2536"/>
                </a:lnTo>
                <a:lnTo>
                  <a:pt x="8207" y="2536"/>
                </a:lnTo>
                <a:close/>
                <a:moveTo>
                  <a:pt x="8207" y="2307"/>
                </a:moveTo>
                <a:lnTo>
                  <a:pt x="8207" y="2174"/>
                </a:lnTo>
                <a:lnTo>
                  <a:pt x="8207" y="2172"/>
                </a:lnTo>
                <a:lnTo>
                  <a:pt x="8209" y="2170"/>
                </a:lnTo>
                <a:lnTo>
                  <a:pt x="8210" y="2168"/>
                </a:lnTo>
                <a:lnTo>
                  <a:pt x="8212" y="2167"/>
                </a:lnTo>
                <a:lnTo>
                  <a:pt x="8214" y="2166"/>
                </a:lnTo>
                <a:lnTo>
                  <a:pt x="8217" y="2165"/>
                </a:lnTo>
                <a:lnTo>
                  <a:pt x="8220" y="2164"/>
                </a:lnTo>
                <a:lnTo>
                  <a:pt x="8223" y="2164"/>
                </a:lnTo>
                <a:lnTo>
                  <a:pt x="8225" y="2164"/>
                </a:lnTo>
                <a:lnTo>
                  <a:pt x="8228" y="2165"/>
                </a:lnTo>
                <a:lnTo>
                  <a:pt x="8231" y="2166"/>
                </a:lnTo>
                <a:lnTo>
                  <a:pt x="8233" y="2167"/>
                </a:lnTo>
                <a:lnTo>
                  <a:pt x="8234" y="2168"/>
                </a:lnTo>
                <a:lnTo>
                  <a:pt x="8236" y="2170"/>
                </a:lnTo>
                <a:lnTo>
                  <a:pt x="8238" y="2172"/>
                </a:lnTo>
                <a:lnTo>
                  <a:pt x="8238" y="2174"/>
                </a:lnTo>
                <a:lnTo>
                  <a:pt x="8238" y="2307"/>
                </a:lnTo>
                <a:lnTo>
                  <a:pt x="8238" y="2309"/>
                </a:lnTo>
                <a:lnTo>
                  <a:pt x="8236" y="2311"/>
                </a:lnTo>
                <a:lnTo>
                  <a:pt x="8234" y="2312"/>
                </a:lnTo>
                <a:lnTo>
                  <a:pt x="8233" y="2314"/>
                </a:lnTo>
                <a:lnTo>
                  <a:pt x="8231" y="2315"/>
                </a:lnTo>
                <a:lnTo>
                  <a:pt x="8228" y="2316"/>
                </a:lnTo>
                <a:lnTo>
                  <a:pt x="8225" y="2316"/>
                </a:lnTo>
                <a:lnTo>
                  <a:pt x="8223" y="2317"/>
                </a:lnTo>
                <a:lnTo>
                  <a:pt x="8220" y="2316"/>
                </a:lnTo>
                <a:lnTo>
                  <a:pt x="8217" y="2316"/>
                </a:lnTo>
                <a:lnTo>
                  <a:pt x="8214" y="2315"/>
                </a:lnTo>
                <a:lnTo>
                  <a:pt x="8212" y="2314"/>
                </a:lnTo>
                <a:lnTo>
                  <a:pt x="8210" y="2312"/>
                </a:lnTo>
                <a:lnTo>
                  <a:pt x="8209" y="2311"/>
                </a:lnTo>
                <a:lnTo>
                  <a:pt x="8207" y="2309"/>
                </a:lnTo>
                <a:lnTo>
                  <a:pt x="8207" y="2307"/>
                </a:lnTo>
                <a:lnTo>
                  <a:pt x="8207" y="2307"/>
                </a:lnTo>
                <a:close/>
                <a:moveTo>
                  <a:pt x="8207" y="2079"/>
                </a:moveTo>
                <a:lnTo>
                  <a:pt x="8207" y="1945"/>
                </a:lnTo>
                <a:lnTo>
                  <a:pt x="8207" y="1943"/>
                </a:lnTo>
                <a:lnTo>
                  <a:pt x="8209" y="1941"/>
                </a:lnTo>
                <a:lnTo>
                  <a:pt x="8210" y="1940"/>
                </a:lnTo>
                <a:lnTo>
                  <a:pt x="8212" y="1938"/>
                </a:lnTo>
                <a:lnTo>
                  <a:pt x="8214" y="1937"/>
                </a:lnTo>
                <a:lnTo>
                  <a:pt x="8217" y="1936"/>
                </a:lnTo>
                <a:lnTo>
                  <a:pt x="8220" y="1936"/>
                </a:lnTo>
                <a:lnTo>
                  <a:pt x="8223" y="1936"/>
                </a:lnTo>
                <a:lnTo>
                  <a:pt x="8225" y="1936"/>
                </a:lnTo>
                <a:lnTo>
                  <a:pt x="8228" y="1936"/>
                </a:lnTo>
                <a:lnTo>
                  <a:pt x="8231" y="1937"/>
                </a:lnTo>
                <a:lnTo>
                  <a:pt x="8233" y="1938"/>
                </a:lnTo>
                <a:lnTo>
                  <a:pt x="8234" y="1940"/>
                </a:lnTo>
                <a:lnTo>
                  <a:pt x="8236" y="1941"/>
                </a:lnTo>
                <a:lnTo>
                  <a:pt x="8238" y="1943"/>
                </a:lnTo>
                <a:lnTo>
                  <a:pt x="8238" y="1945"/>
                </a:lnTo>
                <a:lnTo>
                  <a:pt x="8238" y="2079"/>
                </a:lnTo>
                <a:lnTo>
                  <a:pt x="8238" y="2080"/>
                </a:lnTo>
                <a:lnTo>
                  <a:pt x="8236" y="2082"/>
                </a:lnTo>
                <a:lnTo>
                  <a:pt x="8234" y="2084"/>
                </a:lnTo>
                <a:lnTo>
                  <a:pt x="8233" y="2085"/>
                </a:lnTo>
                <a:lnTo>
                  <a:pt x="8231" y="2086"/>
                </a:lnTo>
                <a:lnTo>
                  <a:pt x="8228" y="2087"/>
                </a:lnTo>
                <a:lnTo>
                  <a:pt x="8225" y="2088"/>
                </a:lnTo>
                <a:lnTo>
                  <a:pt x="8223" y="2088"/>
                </a:lnTo>
                <a:lnTo>
                  <a:pt x="8220" y="2088"/>
                </a:lnTo>
                <a:lnTo>
                  <a:pt x="8217" y="2087"/>
                </a:lnTo>
                <a:lnTo>
                  <a:pt x="8214" y="2086"/>
                </a:lnTo>
                <a:lnTo>
                  <a:pt x="8212" y="2085"/>
                </a:lnTo>
                <a:lnTo>
                  <a:pt x="8210" y="2084"/>
                </a:lnTo>
                <a:lnTo>
                  <a:pt x="8209" y="2082"/>
                </a:lnTo>
                <a:lnTo>
                  <a:pt x="8207" y="2080"/>
                </a:lnTo>
                <a:lnTo>
                  <a:pt x="8207" y="2079"/>
                </a:lnTo>
                <a:lnTo>
                  <a:pt x="8207" y="2079"/>
                </a:lnTo>
                <a:close/>
                <a:moveTo>
                  <a:pt x="8207" y="1850"/>
                </a:moveTo>
                <a:lnTo>
                  <a:pt x="8207" y="1717"/>
                </a:lnTo>
                <a:lnTo>
                  <a:pt x="8207" y="1715"/>
                </a:lnTo>
                <a:lnTo>
                  <a:pt x="8209" y="1713"/>
                </a:lnTo>
                <a:lnTo>
                  <a:pt x="8210" y="1711"/>
                </a:lnTo>
                <a:lnTo>
                  <a:pt x="8212" y="1710"/>
                </a:lnTo>
                <a:lnTo>
                  <a:pt x="8214" y="1709"/>
                </a:lnTo>
                <a:lnTo>
                  <a:pt x="8217" y="1708"/>
                </a:lnTo>
                <a:lnTo>
                  <a:pt x="8220" y="1707"/>
                </a:lnTo>
                <a:lnTo>
                  <a:pt x="8223" y="1707"/>
                </a:lnTo>
                <a:lnTo>
                  <a:pt x="8225" y="1707"/>
                </a:lnTo>
                <a:lnTo>
                  <a:pt x="8228" y="1708"/>
                </a:lnTo>
                <a:lnTo>
                  <a:pt x="8231" y="1709"/>
                </a:lnTo>
                <a:lnTo>
                  <a:pt x="8233" y="1710"/>
                </a:lnTo>
                <a:lnTo>
                  <a:pt x="8234" y="1711"/>
                </a:lnTo>
                <a:lnTo>
                  <a:pt x="8236" y="1713"/>
                </a:lnTo>
                <a:lnTo>
                  <a:pt x="8238" y="1715"/>
                </a:lnTo>
                <a:lnTo>
                  <a:pt x="8238" y="1717"/>
                </a:lnTo>
                <a:lnTo>
                  <a:pt x="8238" y="1850"/>
                </a:lnTo>
                <a:lnTo>
                  <a:pt x="8238" y="1852"/>
                </a:lnTo>
                <a:lnTo>
                  <a:pt x="8236" y="1854"/>
                </a:lnTo>
                <a:lnTo>
                  <a:pt x="8234" y="1855"/>
                </a:lnTo>
                <a:lnTo>
                  <a:pt x="8233" y="1857"/>
                </a:lnTo>
                <a:lnTo>
                  <a:pt x="8231" y="1858"/>
                </a:lnTo>
                <a:lnTo>
                  <a:pt x="8228" y="1859"/>
                </a:lnTo>
                <a:lnTo>
                  <a:pt x="8225" y="1859"/>
                </a:lnTo>
                <a:lnTo>
                  <a:pt x="8223" y="1860"/>
                </a:lnTo>
                <a:lnTo>
                  <a:pt x="8220" y="1859"/>
                </a:lnTo>
                <a:lnTo>
                  <a:pt x="8217" y="1859"/>
                </a:lnTo>
                <a:lnTo>
                  <a:pt x="8214" y="1858"/>
                </a:lnTo>
                <a:lnTo>
                  <a:pt x="8212" y="1857"/>
                </a:lnTo>
                <a:lnTo>
                  <a:pt x="8210" y="1855"/>
                </a:lnTo>
                <a:lnTo>
                  <a:pt x="8209" y="1854"/>
                </a:lnTo>
                <a:lnTo>
                  <a:pt x="8207" y="1852"/>
                </a:lnTo>
                <a:lnTo>
                  <a:pt x="8207" y="1850"/>
                </a:lnTo>
                <a:lnTo>
                  <a:pt x="8207" y="1850"/>
                </a:lnTo>
                <a:close/>
                <a:moveTo>
                  <a:pt x="8207" y="1620"/>
                </a:moveTo>
                <a:lnTo>
                  <a:pt x="8207" y="1487"/>
                </a:lnTo>
                <a:lnTo>
                  <a:pt x="8207" y="1485"/>
                </a:lnTo>
                <a:lnTo>
                  <a:pt x="8209" y="1483"/>
                </a:lnTo>
                <a:lnTo>
                  <a:pt x="8210" y="1482"/>
                </a:lnTo>
                <a:lnTo>
                  <a:pt x="8212" y="1480"/>
                </a:lnTo>
                <a:lnTo>
                  <a:pt x="8214" y="1479"/>
                </a:lnTo>
                <a:lnTo>
                  <a:pt x="8217" y="1478"/>
                </a:lnTo>
                <a:lnTo>
                  <a:pt x="8220" y="1478"/>
                </a:lnTo>
                <a:lnTo>
                  <a:pt x="8223" y="1478"/>
                </a:lnTo>
                <a:lnTo>
                  <a:pt x="8225" y="1478"/>
                </a:lnTo>
                <a:lnTo>
                  <a:pt x="8228" y="1478"/>
                </a:lnTo>
                <a:lnTo>
                  <a:pt x="8231" y="1479"/>
                </a:lnTo>
                <a:lnTo>
                  <a:pt x="8233" y="1480"/>
                </a:lnTo>
                <a:lnTo>
                  <a:pt x="8234" y="1482"/>
                </a:lnTo>
                <a:lnTo>
                  <a:pt x="8236" y="1483"/>
                </a:lnTo>
                <a:lnTo>
                  <a:pt x="8238" y="1485"/>
                </a:lnTo>
                <a:lnTo>
                  <a:pt x="8238" y="1487"/>
                </a:lnTo>
                <a:lnTo>
                  <a:pt x="8238" y="1620"/>
                </a:lnTo>
                <a:lnTo>
                  <a:pt x="8238" y="1622"/>
                </a:lnTo>
                <a:lnTo>
                  <a:pt x="8236" y="1624"/>
                </a:lnTo>
                <a:lnTo>
                  <a:pt x="8234" y="1626"/>
                </a:lnTo>
                <a:lnTo>
                  <a:pt x="8233" y="1627"/>
                </a:lnTo>
                <a:lnTo>
                  <a:pt x="8231" y="1628"/>
                </a:lnTo>
                <a:lnTo>
                  <a:pt x="8228" y="1629"/>
                </a:lnTo>
                <a:lnTo>
                  <a:pt x="8225" y="1630"/>
                </a:lnTo>
                <a:lnTo>
                  <a:pt x="8223" y="1630"/>
                </a:lnTo>
                <a:lnTo>
                  <a:pt x="8220" y="1630"/>
                </a:lnTo>
                <a:lnTo>
                  <a:pt x="8217" y="1629"/>
                </a:lnTo>
                <a:lnTo>
                  <a:pt x="8214" y="1628"/>
                </a:lnTo>
                <a:lnTo>
                  <a:pt x="8212" y="1627"/>
                </a:lnTo>
                <a:lnTo>
                  <a:pt x="8210" y="1626"/>
                </a:lnTo>
                <a:lnTo>
                  <a:pt x="8209" y="1624"/>
                </a:lnTo>
                <a:lnTo>
                  <a:pt x="8207" y="1622"/>
                </a:lnTo>
                <a:lnTo>
                  <a:pt x="8207" y="1620"/>
                </a:lnTo>
                <a:lnTo>
                  <a:pt x="8207" y="1620"/>
                </a:lnTo>
                <a:close/>
                <a:moveTo>
                  <a:pt x="8207" y="1392"/>
                </a:moveTo>
                <a:lnTo>
                  <a:pt x="8207" y="1258"/>
                </a:lnTo>
                <a:lnTo>
                  <a:pt x="8207" y="1256"/>
                </a:lnTo>
                <a:lnTo>
                  <a:pt x="8209" y="1255"/>
                </a:lnTo>
                <a:lnTo>
                  <a:pt x="8210" y="1253"/>
                </a:lnTo>
                <a:lnTo>
                  <a:pt x="8212" y="1252"/>
                </a:lnTo>
                <a:lnTo>
                  <a:pt x="8214" y="1250"/>
                </a:lnTo>
                <a:lnTo>
                  <a:pt x="8217" y="1250"/>
                </a:lnTo>
                <a:lnTo>
                  <a:pt x="8220" y="1249"/>
                </a:lnTo>
                <a:lnTo>
                  <a:pt x="8223" y="1249"/>
                </a:lnTo>
                <a:lnTo>
                  <a:pt x="8225" y="1249"/>
                </a:lnTo>
                <a:lnTo>
                  <a:pt x="8228" y="1250"/>
                </a:lnTo>
                <a:lnTo>
                  <a:pt x="8231" y="1250"/>
                </a:lnTo>
                <a:lnTo>
                  <a:pt x="8233" y="1252"/>
                </a:lnTo>
                <a:lnTo>
                  <a:pt x="8234" y="1253"/>
                </a:lnTo>
                <a:lnTo>
                  <a:pt x="8236" y="1255"/>
                </a:lnTo>
                <a:lnTo>
                  <a:pt x="8238" y="1256"/>
                </a:lnTo>
                <a:lnTo>
                  <a:pt x="8238" y="1258"/>
                </a:lnTo>
                <a:lnTo>
                  <a:pt x="8238" y="1392"/>
                </a:lnTo>
                <a:lnTo>
                  <a:pt x="8238" y="1394"/>
                </a:lnTo>
                <a:lnTo>
                  <a:pt x="8236" y="1395"/>
                </a:lnTo>
                <a:lnTo>
                  <a:pt x="8234" y="1397"/>
                </a:lnTo>
                <a:lnTo>
                  <a:pt x="8233" y="1398"/>
                </a:lnTo>
                <a:lnTo>
                  <a:pt x="8231" y="1400"/>
                </a:lnTo>
                <a:lnTo>
                  <a:pt x="8228" y="1401"/>
                </a:lnTo>
                <a:lnTo>
                  <a:pt x="8225" y="1401"/>
                </a:lnTo>
                <a:lnTo>
                  <a:pt x="8223" y="1401"/>
                </a:lnTo>
                <a:lnTo>
                  <a:pt x="8220" y="1401"/>
                </a:lnTo>
                <a:lnTo>
                  <a:pt x="8217" y="1401"/>
                </a:lnTo>
                <a:lnTo>
                  <a:pt x="8214" y="1400"/>
                </a:lnTo>
                <a:lnTo>
                  <a:pt x="8212" y="1398"/>
                </a:lnTo>
                <a:lnTo>
                  <a:pt x="8210" y="1397"/>
                </a:lnTo>
                <a:lnTo>
                  <a:pt x="8209" y="1395"/>
                </a:lnTo>
                <a:lnTo>
                  <a:pt x="8207" y="1394"/>
                </a:lnTo>
                <a:lnTo>
                  <a:pt x="8207" y="1392"/>
                </a:lnTo>
                <a:lnTo>
                  <a:pt x="8207" y="1392"/>
                </a:lnTo>
                <a:close/>
                <a:moveTo>
                  <a:pt x="8207" y="1163"/>
                </a:moveTo>
                <a:lnTo>
                  <a:pt x="8207" y="1030"/>
                </a:lnTo>
                <a:lnTo>
                  <a:pt x="8207" y="1028"/>
                </a:lnTo>
                <a:lnTo>
                  <a:pt x="8209" y="1026"/>
                </a:lnTo>
                <a:lnTo>
                  <a:pt x="8210" y="1024"/>
                </a:lnTo>
                <a:lnTo>
                  <a:pt x="8212" y="1023"/>
                </a:lnTo>
                <a:lnTo>
                  <a:pt x="8214" y="1022"/>
                </a:lnTo>
                <a:lnTo>
                  <a:pt x="8217" y="1021"/>
                </a:lnTo>
                <a:lnTo>
                  <a:pt x="8220" y="1020"/>
                </a:lnTo>
                <a:lnTo>
                  <a:pt x="8223" y="1020"/>
                </a:lnTo>
                <a:lnTo>
                  <a:pt x="8225" y="1020"/>
                </a:lnTo>
                <a:lnTo>
                  <a:pt x="8228" y="1021"/>
                </a:lnTo>
                <a:lnTo>
                  <a:pt x="8231" y="1022"/>
                </a:lnTo>
                <a:lnTo>
                  <a:pt x="8233" y="1023"/>
                </a:lnTo>
                <a:lnTo>
                  <a:pt x="8234" y="1024"/>
                </a:lnTo>
                <a:lnTo>
                  <a:pt x="8236" y="1026"/>
                </a:lnTo>
                <a:lnTo>
                  <a:pt x="8238" y="1028"/>
                </a:lnTo>
                <a:lnTo>
                  <a:pt x="8238" y="1030"/>
                </a:lnTo>
                <a:lnTo>
                  <a:pt x="8238" y="1163"/>
                </a:lnTo>
                <a:lnTo>
                  <a:pt x="8238" y="1165"/>
                </a:lnTo>
                <a:lnTo>
                  <a:pt x="8236" y="1167"/>
                </a:lnTo>
                <a:lnTo>
                  <a:pt x="8234" y="1168"/>
                </a:lnTo>
                <a:lnTo>
                  <a:pt x="8233" y="1170"/>
                </a:lnTo>
                <a:lnTo>
                  <a:pt x="8231" y="1171"/>
                </a:lnTo>
                <a:lnTo>
                  <a:pt x="8228" y="1172"/>
                </a:lnTo>
                <a:lnTo>
                  <a:pt x="8225" y="1172"/>
                </a:lnTo>
                <a:lnTo>
                  <a:pt x="8223" y="1173"/>
                </a:lnTo>
                <a:lnTo>
                  <a:pt x="8220" y="1172"/>
                </a:lnTo>
                <a:lnTo>
                  <a:pt x="8217" y="1172"/>
                </a:lnTo>
                <a:lnTo>
                  <a:pt x="8214" y="1171"/>
                </a:lnTo>
                <a:lnTo>
                  <a:pt x="8212" y="1170"/>
                </a:lnTo>
                <a:lnTo>
                  <a:pt x="8210" y="1168"/>
                </a:lnTo>
                <a:lnTo>
                  <a:pt x="8209" y="1167"/>
                </a:lnTo>
                <a:lnTo>
                  <a:pt x="8207" y="1165"/>
                </a:lnTo>
                <a:lnTo>
                  <a:pt x="8207" y="1163"/>
                </a:lnTo>
                <a:lnTo>
                  <a:pt x="8207" y="1163"/>
                </a:lnTo>
                <a:close/>
                <a:moveTo>
                  <a:pt x="8207" y="935"/>
                </a:moveTo>
                <a:lnTo>
                  <a:pt x="8207" y="801"/>
                </a:lnTo>
                <a:lnTo>
                  <a:pt x="8207" y="799"/>
                </a:lnTo>
                <a:lnTo>
                  <a:pt x="8209" y="797"/>
                </a:lnTo>
                <a:lnTo>
                  <a:pt x="8210" y="796"/>
                </a:lnTo>
                <a:lnTo>
                  <a:pt x="8212" y="794"/>
                </a:lnTo>
                <a:lnTo>
                  <a:pt x="8214" y="793"/>
                </a:lnTo>
                <a:lnTo>
                  <a:pt x="8217" y="792"/>
                </a:lnTo>
                <a:lnTo>
                  <a:pt x="8220" y="792"/>
                </a:lnTo>
                <a:lnTo>
                  <a:pt x="8223" y="792"/>
                </a:lnTo>
                <a:lnTo>
                  <a:pt x="8225" y="792"/>
                </a:lnTo>
                <a:lnTo>
                  <a:pt x="8228" y="792"/>
                </a:lnTo>
                <a:lnTo>
                  <a:pt x="8231" y="793"/>
                </a:lnTo>
                <a:lnTo>
                  <a:pt x="8233" y="794"/>
                </a:lnTo>
                <a:lnTo>
                  <a:pt x="8234" y="796"/>
                </a:lnTo>
                <a:lnTo>
                  <a:pt x="8236" y="797"/>
                </a:lnTo>
                <a:lnTo>
                  <a:pt x="8238" y="799"/>
                </a:lnTo>
                <a:lnTo>
                  <a:pt x="8238" y="801"/>
                </a:lnTo>
                <a:lnTo>
                  <a:pt x="8238" y="935"/>
                </a:lnTo>
                <a:lnTo>
                  <a:pt x="8238" y="936"/>
                </a:lnTo>
                <a:lnTo>
                  <a:pt x="8236" y="938"/>
                </a:lnTo>
                <a:lnTo>
                  <a:pt x="8234" y="940"/>
                </a:lnTo>
                <a:lnTo>
                  <a:pt x="8233" y="941"/>
                </a:lnTo>
                <a:lnTo>
                  <a:pt x="8231" y="942"/>
                </a:lnTo>
                <a:lnTo>
                  <a:pt x="8228" y="943"/>
                </a:lnTo>
                <a:lnTo>
                  <a:pt x="8225" y="944"/>
                </a:lnTo>
                <a:lnTo>
                  <a:pt x="8223" y="944"/>
                </a:lnTo>
                <a:lnTo>
                  <a:pt x="8220" y="944"/>
                </a:lnTo>
                <a:lnTo>
                  <a:pt x="8217" y="943"/>
                </a:lnTo>
                <a:lnTo>
                  <a:pt x="8214" y="942"/>
                </a:lnTo>
                <a:lnTo>
                  <a:pt x="8212" y="941"/>
                </a:lnTo>
                <a:lnTo>
                  <a:pt x="8210" y="940"/>
                </a:lnTo>
                <a:lnTo>
                  <a:pt x="8209" y="938"/>
                </a:lnTo>
                <a:lnTo>
                  <a:pt x="8207" y="936"/>
                </a:lnTo>
                <a:lnTo>
                  <a:pt x="8207" y="935"/>
                </a:lnTo>
                <a:lnTo>
                  <a:pt x="8207" y="935"/>
                </a:lnTo>
                <a:close/>
                <a:moveTo>
                  <a:pt x="8207" y="705"/>
                </a:moveTo>
                <a:lnTo>
                  <a:pt x="8207" y="572"/>
                </a:lnTo>
                <a:lnTo>
                  <a:pt x="8207" y="570"/>
                </a:lnTo>
                <a:lnTo>
                  <a:pt x="8209" y="568"/>
                </a:lnTo>
                <a:lnTo>
                  <a:pt x="8210" y="566"/>
                </a:lnTo>
                <a:lnTo>
                  <a:pt x="8212" y="565"/>
                </a:lnTo>
                <a:lnTo>
                  <a:pt x="8214" y="564"/>
                </a:lnTo>
                <a:lnTo>
                  <a:pt x="8217" y="563"/>
                </a:lnTo>
                <a:lnTo>
                  <a:pt x="8220" y="562"/>
                </a:lnTo>
                <a:lnTo>
                  <a:pt x="8223" y="562"/>
                </a:lnTo>
                <a:lnTo>
                  <a:pt x="8225" y="562"/>
                </a:lnTo>
                <a:lnTo>
                  <a:pt x="8228" y="563"/>
                </a:lnTo>
                <a:lnTo>
                  <a:pt x="8231" y="564"/>
                </a:lnTo>
                <a:lnTo>
                  <a:pt x="8233" y="565"/>
                </a:lnTo>
                <a:lnTo>
                  <a:pt x="8234" y="566"/>
                </a:lnTo>
                <a:lnTo>
                  <a:pt x="8236" y="568"/>
                </a:lnTo>
                <a:lnTo>
                  <a:pt x="8238" y="570"/>
                </a:lnTo>
                <a:lnTo>
                  <a:pt x="8238" y="572"/>
                </a:lnTo>
                <a:lnTo>
                  <a:pt x="8238" y="705"/>
                </a:lnTo>
                <a:lnTo>
                  <a:pt x="8238" y="707"/>
                </a:lnTo>
                <a:lnTo>
                  <a:pt x="8236" y="709"/>
                </a:lnTo>
                <a:lnTo>
                  <a:pt x="8234" y="710"/>
                </a:lnTo>
                <a:lnTo>
                  <a:pt x="8233" y="712"/>
                </a:lnTo>
                <a:lnTo>
                  <a:pt x="8231" y="713"/>
                </a:lnTo>
                <a:lnTo>
                  <a:pt x="8228" y="714"/>
                </a:lnTo>
                <a:lnTo>
                  <a:pt x="8225" y="714"/>
                </a:lnTo>
                <a:lnTo>
                  <a:pt x="8223" y="715"/>
                </a:lnTo>
                <a:lnTo>
                  <a:pt x="8220" y="714"/>
                </a:lnTo>
                <a:lnTo>
                  <a:pt x="8217" y="714"/>
                </a:lnTo>
                <a:lnTo>
                  <a:pt x="8214" y="713"/>
                </a:lnTo>
                <a:lnTo>
                  <a:pt x="8212" y="712"/>
                </a:lnTo>
                <a:lnTo>
                  <a:pt x="8210" y="710"/>
                </a:lnTo>
                <a:lnTo>
                  <a:pt x="8209" y="709"/>
                </a:lnTo>
                <a:lnTo>
                  <a:pt x="8207" y="707"/>
                </a:lnTo>
                <a:lnTo>
                  <a:pt x="8207" y="705"/>
                </a:lnTo>
                <a:lnTo>
                  <a:pt x="8207" y="705"/>
                </a:lnTo>
                <a:close/>
                <a:moveTo>
                  <a:pt x="8207" y="476"/>
                </a:moveTo>
                <a:lnTo>
                  <a:pt x="8207" y="343"/>
                </a:lnTo>
                <a:lnTo>
                  <a:pt x="8207" y="341"/>
                </a:lnTo>
                <a:lnTo>
                  <a:pt x="8209" y="339"/>
                </a:lnTo>
                <a:lnTo>
                  <a:pt x="8210" y="338"/>
                </a:lnTo>
                <a:lnTo>
                  <a:pt x="8212" y="336"/>
                </a:lnTo>
                <a:lnTo>
                  <a:pt x="8214" y="335"/>
                </a:lnTo>
                <a:lnTo>
                  <a:pt x="8217" y="334"/>
                </a:lnTo>
                <a:lnTo>
                  <a:pt x="8220" y="334"/>
                </a:lnTo>
                <a:lnTo>
                  <a:pt x="8223" y="334"/>
                </a:lnTo>
                <a:lnTo>
                  <a:pt x="8225" y="334"/>
                </a:lnTo>
                <a:lnTo>
                  <a:pt x="8228" y="334"/>
                </a:lnTo>
                <a:lnTo>
                  <a:pt x="8231" y="335"/>
                </a:lnTo>
                <a:lnTo>
                  <a:pt x="8233" y="336"/>
                </a:lnTo>
                <a:lnTo>
                  <a:pt x="8234" y="338"/>
                </a:lnTo>
                <a:lnTo>
                  <a:pt x="8236" y="339"/>
                </a:lnTo>
                <a:lnTo>
                  <a:pt x="8238" y="341"/>
                </a:lnTo>
                <a:lnTo>
                  <a:pt x="8238" y="343"/>
                </a:lnTo>
                <a:lnTo>
                  <a:pt x="8238" y="476"/>
                </a:lnTo>
                <a:lnTo>
                  <a:pt x="8238" y="478"/>
                </a:lnTo>
                <a:lnTo>
                  <a:pt x="8236" y="480"/>
                </a:lnTo>
                <a:lnTo>
                  <a:pt x="8234" y="482"/>
                </a:lnTo>
                <a:lnTo>
                  <a:pt x="8233" y="483"/>
                </a:lnTo>
                <a:lnTo>
                  <a:pt x="8231" y="484"/>
                </a:lnTo>
                <a:lnTo>
                  <a:pt x="8228" y="485"/>
                </a:lnTo>
                <a:lnTo>
                  <a:pt x="8225" y="486"/>
                </a:lnTo>
                <a:lnTo>
                  <a:pt x="8223" y="486"/>
                </a:lnTo>
                <a:lnTo>
                  <a:pt x="8220" y="486"/>
                </a:lnTo>
                <a:lnTo>
                  <a:pt x="8217" y="485"/>
                </a:lnTo>
                <a:lnTo>
                  <a:pt x="8214" y="484"/>
                </a:lnTo>
                <a:lnTo>
                  <a:pt x="8212" y="483"/>
                </a:lnTo>
                <a:lnTo>
                  <a:pt x="8210" y="482"/>
                </a:lnTo>
                <a:lnTo>
                  <a:pt x="8209" y="480"/>
                </a:lnTo>
                <a:lnTo>
                  <a:pt x="8207" y="478"/>
                </a:lnTo>
                <a:lnTo>
                  <a:pt x="8207" y="476"/>
                </a:lnTo>
                <a:lnTo>
                  <a:pt x="8207" y="476"/>
                </a:lnTo>
                <a:close/>
                <a:moveTo>
                  <a:pt x="8207" y="248"/>
                </a:moveTo>
                <a:lnTo>
                  <a:pt x="8207" y="114"/>
                </a:lnTo>
                <a:lnTo>
                  <a:pt x="8207" y="112"/>
                </a:lnTo>
                <a:lnTo>
                  <a:pt x="8209" y="111"/>
                </a:lnTo>
                <a:lnTo>
                  <a:pt x="8210" y="109"/>
                </a:lnTo>
                <a:lnTo>
                  <a:pt x="8212" y="108"/>
                </a:lnTo>
                <a:lnTo>
                  <a:pt x="8214" y="106"/>
                </a:lnTo>
                <a:lnTo>
                  <a:pt x="8217" y="106"/>
                </a:lnTo>
                <a:lnTo>
                  <a:pt x="8220" y="105"/>
                </a:lnTo>
                <a:lnTo>
                  <a:pt x="8223" y="105"/>
                </a:lnTo>
                <a:lnTo>
                  <a:pt x="8225" y="105"/>
                </a:lnTo>
                <a:lnTo>
                  <a:pt x="8228" y="106"/>
                </a:lnTo>
                <a:lnTo>
                  <a:pt x="8231" y="106"/>
                </a:lnTo>
                <a:lnTo>
                  <a:pt x="8233" y="108"/>
                </a:lnTo>
                <a:lnTo>
                  <a:pt x="8234" y="109"/>
                </a:lnTo>
                <a:lnTo>
                  <a:pt x="8236" y="111"/>
                </a:lnTo>
                <a:lnTo>
                  <a:pt x="8238" y="112"/>
                </a:lnTo>
                <a:lnTo>
                  <a:pt x="8238" y="114"/>
                </a:lnTo>
                <a:lnTo>
                  <a:pt x="8238" y="248"/>
                </a:lnTo>
                <a:lnTo>
                  <a:pt x="8238" y="250"/>
                </a:lnTo>
                <a:lnTo>
                  <a:pt x="8236" y="251"/>
                </a:lnTo>
                <a:lnTo>
                  <a:pt x="8234" y="253"/>
                </a:lnTo>
                <a:lnTo>
                  <a:pt x="8233" y="254"/>
                </a:lnTo>
                <a:lnTo>
                  <a:pt x="8231" y="256"/>
                </a:lnTo>
                <a:lnTo>
                  <a:pt x="8228" y="257"/>
                </a:lnTo>
                <a:lnTo>
                  <a:pt x="8225" y="257"/>
                </a:lnTo>
                <a:lnTo>
                  <a:pt x="8223" y="257"/>
                </a:lnTo>
                <a:lnTo>
                  <a:pt x="8220" y="257"/>
                </a:lnTo>
                <a:lnTo>
                  <a:pt x="8217" y="257"/>
                </a:lnTo>
                <a:lnTo>
                  <a:pt x="8214" y="256"/>
                </a:lnTo>
                <a:lnTo>
                  <a:pt x="8212" y="254"/>
                </a:lnTo>
                <a:lnTo>
                  <a:pt x="8210" y="253"/>
                </a:lnTo>
                <a:lnTo>
                  <a:pt x="8209" y="251"/>
                </a:lnTo>
                <a:lnTo>
                  <a:pt x="8207" y="250"/>
                </a:lnTo>
                <a:lnTo>
                  <a:pt x="8207" y="248"/>
                </a:lnTo>
                <a:lnTo>
                  <a:pt x="8207" y="248"/>
                </a:lnTo>
                <a:close/>
                <a:moveTo>
                  <a:pt x="8207" y="19"/>
                </a:moveTo>
                <a:lnTo>
                  <a:pt x="8207" y="10"/>
                </a:lnTo>
                <a:lnTo>
                  <a:pt x="8223" y="19"/>
                </a:lnTo>
                <a:lnTo>
                  <a:pt x="8025" y="19"/>
                </a:lnTo>
                <a:lnTo>
                  <a:pt x="8021" y="19"/>
                </a:lnTo>
                <a:lnTo>
                  <a:pt x="8018" y="18"/>
                </a:lnTo>
                <a:lnTo>
                  <a:pt x="8015" y="17"/>
                </a:lnTo>
                <a:lnTo>
                  <a:pt x="8013" y="16"/>
                </a:lnTo>
                <a:lnTo>
                  <a:pt x="8012" y="15"/>
                </a:lnTo>
                <a:lnTo>
                  <a:pt x="8010" y="13"/>
                </a:lnTo>
                <a:lnTo>
                  <a:pt x="8009" y="11"/>
                </a:lnTo>
                <a:lnTo>
                  <a:pt x="8009" y="10"/>
                </a:lnTo>
                <a:lnTo>
                  <a:pt x="8009" y="8"/>
                </a:lnTo>
                <a:lnTo>
                  <a:pt x="8010" y="6"/>
                </a:lnTo>
                <a:lnTo>
                  <a:pt x="8012" y="4"/>
                </a:lnTo>
                <a:lnTo>
                  <a:pt x="8013" y="3"/>
                </a:lnTo>
                <a:lnTo>
                  <a:pt x="8015" y="2"/>
                </a:lnTo>
                <a:lnTo>
                  <a:pt x="8018" y="1"/>
                </a:lnTo>
                <a:lnTo>
                  <a:pt x="8021" y="0"/>
                </a:lnTo>
                <a:lnTo>
                  <a:pt x="8025" y="0"/>
                </a:lnTo>
                <a:lnTo>
                  <a:pt x="8223" y="0"/>
                </a:lnTo>
                <a:lnTo>
                  <a:pt x="8225" y="0"/>
                </a:lnTo>
                <a:lnTo>
                  <a:pt x="8228" y="1"/>
                </a:lnTo>
                <a:lnTo>
                  <a:pt x="8231" y="2"/>
                </a:lnTo>
                <a:lnTo>
                  <a:pt x="8233" y="3"/>
                </a:lnTo>
                <a:lnTo>
                  <a:pt x="8234" y="4"/>
                </a:lnTo>
                <a:lnTo>
                  <a:pt x="8236" y="6"/>
                </a:lnTo>
                <a:lnTo>
                  <a:pt x="8238" y="8"/>
                </a:lnTo>
                <a:lnTo>
                  <a:pt x="8238" y="10"/>
                </a:lnTo>
                <a:lnTo>
                  <a:pt x="8238" y="19"/>
                </a:lnTo>
                <a:lnTo>
                  <a:pt x="8238" y="21"/>
                </a:lnTo>
                <a:lnTo>
                  <a:pt x="8236" y="23"/>
                </a:lnTo>
                <a:lnTo>
                  <a:pt x="8234" y="24"/>
                </a:lnTo>
                <a:lnTo>
                  <a:pt x="8233" y="26"/>
                </a:lnTo>
                <a:lnTo>
                  <a:pt x="8231" y="27"/>
                </a:lnTo>
                <a:lnTo>
                  <a:pt x="8228" y="28"/>
                </a:lnTo>
                <a:lnTo>
                  <a:pt x="8225" y="28"/>
                </a:lnTo>
                <a:lnTo>
                  <a:pt x="8223" y="29"/>
                </a:lnTo>
                <a:lnTo>
                  <a:pt x="8220" y="28"/>
                </a:lnTo>
                <a:lnTo>
                  <a:pt x="8217" y="28"/>
                </a:lnTo>
                <a:lnTo>
                  <a:pt x="8214" y="27"/>
                </a:lnTo>
                <a:lnTo>
                  <a:pt x="8212" y="26"/>
                </a:lnTo>
                <a:lnTo>
                  <a:pt x="8210" y="24"/>
                </a:lnTo>
                <a:lnTo>
                  <a:pt x="8209" y="23"/>
                </a:lnTo>
                <a:lnTo>
                  <a:pt x="8207" y="21"/>
                </a:lnTo>
                <a:lnTo>
                  <a:pt x="8207" y="19"/>
                </a:lnTo>
                <a:lnTo>
                  <a:pt x="8207" y="19"/>
                </a:lnTo>
                <a:close/>
                <a:moveTo>
                  <a:pt x="7872" y="19"/>
                </a:moveTo>
                <a:lnTo>
                  <a:pt x="7658" y="19"/>
                </a:lnTo>
                <a:lnTo>
                  <a:pt x="7655" y="19"/>
                </a:lnTo>
                <a:lnTo>
                  <a:pt x="7653" y="18"/>
                </a:lnTo>
                <a:lnTo>
                  <a:pt x="7650" y="17"/>
                </a:lnTo>
                <a:lnTo>
                  <a:pt x="7648" y="16"/>
                </a:lnTo>
                <a:lnTo>
                  <a:pt x="7645" y="15"/>
                </a:lnTo>
                <a:lnTo>
                  <a:pt x="7645" y="13"/>
                </a:lnTo>
                <a:lnTo>
                  <a:pt x="7643" y="11"/>
                </a:lnTo>
                <a:lnTo>
                  <a:pt x="7643" y="10"/>
                </a:lnTo>
                <a:lnTo>
                  <a:pt x="7643" y="8"/>
                </a:lnTo>
                <a:lnTo>
                  <a:pt x="7645" y="6"/>
                </a:lnTo>
                <a:lnTo>
                  <a:pt x="7645" y="4"/>
                </a:lnTo>
                <a:lnTo>
                  <a:pt x="7648" y="3"/>
                </a:lnTo>
                <a:lnTo>
                  <a:pt x="7650" y="2"/>
                </a:lnTo>
                <a:lnTo>
                  <a:pt x="7653" y="1"/>
                </a:lnTo>
                <a:lnTo>
                  <a:pt x="7655" y="0"/>
                </a:lnTo>
                <a:lnTo>
                  <a:pt x="7658" y="0"/>
                </a:lnTo>
                <a:lnTo>
                  <a:pt x="7872" y="0"/>
                </a:lnTo>
                <a:lnTo>
                  <a:pt x="7874" y="0"/>
                </a:lnTo>
                <a:lnTo>
                  <a:pt x="7877" y="1"/>
                </a:lnTo>
                <a:lnTo>
                  <a:pt x="7880" y="2"/>
                </a:lnTo>
                <a:lnTo>
                  <a:pt x="7882" y="3"/>
                </a:lnTo>
                <a:lnTo>
                  <a:pt x="7884" y="4"/>
                </a:lnTo>
                <a:lnTo>
                  <a:pt x="7885" y="6"/>
                </a:lnTo>
                <a:lnTo>
                  <a:pt x="7887" y="8"/>
                </a:lnTo>
                <a:lnTo>
                  <a:pt x="7887" y="10"/>
                </a:lnTo>
                <a:lnTo>
                  <a:pt x="7887" y="11"/>
                </a:lnTo>
                <a:lnTo>
                  <a:pt x="7885" y="13"/>
                </a:lnTo>
                <a:lnTo>
                  <a:pt x="7884" y="15"/>
                </a:lnTo>
                <a:lnTo>
                  <a:pt x="7882" y="16"/>
                </a:lnTo>
                <a:lnTo>
                  <a:pt x="7880" y="17"/>
                </a:lnTo>
                <a:lnTo>
                  <a:pt x="7877" y="18"/>
                </a:lnTo>
                <a:lnTo>
                  <a:pt x="7874" y="19"/>
                </a:lnTo>
                <a:lnTo>
                  <a:pt x="7872" y="19"/>
                </a:lnTo>
                <a:lnTo>
                  <a:pt x="7872" y="19"/>
                </a:lnTo>
                <a:close/>
                <a:moveTo>
                  <a:pt x="7506" y="19"/>
                </a:moveTo>
                <a:lnTo>
                  <a:pt x="7293" y="19"/>
                </a:lnTo>
                <a:lnTo>
                  <a:pt x="7290" y="19"/>
                </a:lnTo>
                <a:lnTo>
                  <a:pt x="7286" y="18"/>
                </a:lnTo>
                <a:lnTo>
                  <a:pt x="7283" y="17"/>
                </a:lnTo>
                <a:lnTo>
                  <a:pt x="7282" y="16"/>
                </a:lnTo>
                <a:lnTo>
                  <a:pt x="7280" y="15"/>
                </a:lnTo>
                <a:lnTo>
                  <a:pt x="7278" y="13"/>
                </a:lnTo>
                <a:lnTo>
                  <a:pt x="7277" y="11"/>
                </a:lnTo>
                <a:lnTo>
                  <a:pt x="7277" y="10"/>
                </a:lnTo>
                <a:lnTo>
                  <a:pt x="7277" y="8"/>
                </a:lnTo>
                <a:lnTo>
                  <a:pt x="7278" y="6"/>
                </a:lnTo>
                <a:lnTo>
                  <a:pt x="7280" y="4"/>
                </a:lnTo>
                <a:lnTo>
                  <a:pt x="7282" y="3"/>
                </a:lnTo>
                <a:lnTo>
                  <a:pt x="7283" y="2"/>
                </a:lnTo>
                <a:lnTo>
                  <a:pt x="7286" y="1"/>
                </a:lnTo>
                <a:lnTo>
                  <a:pt x="7290" y="0"/>
                </a:lnTo>
                <a:lnTo>
                  <a:pt x="7293" y="0"/>
                </a:lnTo>
                <a:lnTo>
                  <a:pt x="7506" y="0"/>
                </a:lnTo>
                <a:lnTo>
                  <a:pt x="7509" y="0"/>
                </a:lnTo>
                <a:lnTo>
                  <a:pt x="7512" y="1"/>
                </a:lnTo>
                <a:lnTo>
                  <a:pt x="7514" y="2"/>
                </a:lnTo>
                <a:lnTo>
                  <a:pt x="7517" y="3"/>
                </a:lnTo>
                <a:lnTo>
                  <a:pt x="7519" y="4"/>
                </a:lnTo>
                <a:lnTo>
                  <a:pt x="7520" y="6"/>
                </a:lnTo>
                <a:lnTo>
                  <a:pt x="7520" y="8"/>
                </a:lnTo>
                <a:lnTo>
                  <a:pt x="7522" y="10"/>
                </a:lnTo>
                <a:lnTo>
                  <a:pt x="7520" y="11"/>
                </a:lnTo>
                <a:lnTo>
                  <a:pt x="7520" y="13"/>
                </a:lnTo>
                <a:lnTo>
                  <a:pt x="7519" y="15"/>
                </a:lnTo>
                <a:lnTo>
                  <a:pt x="7517" y="16"/>
                </a:lnTo>
                <a:lnTo>
                  <a:pt x="7514" y="17"/>
                </a:lnTo>
                <a:lnTo>
                  <a:pt x="7512" y="18"/>
                </a:lnTo>
                <a:lnTo>
                  <a:pt x="7509" y="19"/>
                </a:lnTo>
                <a:lnTo>
                  <a:pt x="7506" y="19"/>
                </a:lnTo>
                <a:lnTo>
                  <a:pt x="7506" y="19"/>
                </a:lnTo>
                <a:close/>
                <a:moveTo>
                  <a:pt x="7139" y="19"/>
                </a:moveTo>
                <a:lnTo>
                  <a:pt x="6926" y="19"/>
                </a:lnTo>
                <a:lnTo>
                  <a:pt x="6923" y="19"/>
                </a:lnTo>
                <a:lnTo>
                  <a:pt x="6920" y="18"/>
                </a:lnTo>
                <a:lnTo>
                  <a:pt x="6918" y="17"/>
                </a:lnTo>
                <a:lnTo>
                  <a:pt x="6915" y="16"/>
                </a:lnTo>
                <a:lnTo>
                  <a:pt x="6913" y="15"/>
                </a:lnTo>
                <a:lnTo>
                  <a:pt x="6912" y="13"/>
                </a:lnTo>
                <a:lnTo>
                  <a:pt x="6912" y="11"/>
                </a:lnTo>
                <a:lnTo>
                  <a:pt x="6912" y="10"/>
                </a:lnTo>
                <a:lnTo>
                  <a:pt x="6912" y="8"/>
                </a:lnTo>
                <a:lnTo>
                  <a:pt x="6912" y="6"/>
                </a:lnTo>
                <a:lnTo>
                  <a:pt x="6913" y="4"/>
                </a:lnTo>
                <a:lnTo>
                  <a:pt x="6915" y="3"/>
                </a:lnTo>
                <a:lnTo>
                  <a:pt x="6918" y="2"/>
                </a:lnTo>
                <a:lnTo>
                  <a:pt x="6920" y="1"/>
                </a:lnTo>
                <a:lnTo>
                  <a:pt x="6923" y="0"/>
                </a:lnTo>
                <a:lnTo>
                  <a:pt x="6926" y="0"/>
                </a:lnTo>
                <a:lnTo>
                  <a:pt x="7139" y="0"/>
                </a:lnTo>
                <a:lnTo>
                  <a:pt x="7142" y="0"/>
                </a:lnTo>
                <a:lnTo>
                  <a:pt x="7145" y="1"/>
                </a:lnTo>
                <a:lnTo>
                  <a:pt x="7149" y="2"/>
                </a:lnTo>
                <a:lnTo>
                  <a:pt x="7150" y="3"/>
                </a:lnTo>
                <a:lnTo>
                  <a:pt x="7152" y="4"/>
                </a:lnTo>
                <a:lnTo>
                  <a:pt x="7153" y="6"/>
                </a:lnTo>
                <a:lnTo>
                  <a:pt x="7155" y="8"/>
                </a:lnTo>
                <a:lnTo>
                  <a:pt x="7155" y="10"/>
                </a:lnTo>
                <a:lnTo>
                  <a:pt x="7155" y="11"/>
                </a:lnTo>
                <a:lnTo>
                  <a:pt x="7153" y="13"/>
                </a:lnTo>
                <a:lnTo>
                  <a:pt x="7152" y="15"/>
                </a:lnTo>
                <a:lnTo>
                  <a:pt x="7150" y="16"/>
                </a:lnTo>
                <a:lnTo>
                  <a:pt x="7149" y="17"/>
                </a:lnTo>
                <a:lnTo>
                  <a:pt x="7145" y="18"/>
                </a:lnTo>
                <a:lnTo>
                  <a:pt x="7142" y="19"/>
                </a:lnTo>
                <a:lnTo>
                  <a:pt x="7139" y="19"/>
                </a:lnTo>
                <a:lnTo>
                  <a:pt x="7139" y="19"/>
                </a:lnTo>
                <a:close/>
                <a:moveTo>
                  <a:pt x="6774" y="19"/>
                </a:moveTo>
                <a:lnTo>
                  <a:pt x="6561" y="19"/>
                </a:lnTo>
                <a:lnTo>
                  <a:pt x="6558" y="19"/>
                </a:lnTo>
                <a:lnTo>
                  <a:pt x="6555" y="18"/>
                </a:lnTo>
                <a:lnTo>
                  <a:pt x="6551" y="17"/>
                </a:lnTo>
                <a:lnTo>
                  <a:pt x="6550" y="16"/>
                </a:lnTo>
                <a:lnTo>
                  <a:pt x="6548" y="15"/>
                </a:lnTo>
                <a:lnTo>
                  <a:pt x="6547" y="13"/>
                </a:lnTo>
                <a:lnTo>
                  <a:pt x="6545" y="11"/>
                </a:lnTo>
                <a:lnTo>
                  <a:pt x="6545" y="10"/>
                </a:lnTo>
                <a:lnTo>
                  <a:pt x="6545" y="8"/>
                </a:lnTo>
                <a:lnTo>
                  <a:pt x="6547" y="6"/>
                </a:lnTo>
                <a:lnTo>
                  <a:pt x="6548" y="4"/>
                </a:lnTo>
                <a:lnTo>
                  <a:pt x="6550" y="3"/>
                </a:lnTo>
                <a:lnTo>
                  <a:pt x="6551" y="2"/>
                </a:lnTo>
                <a:lnTo>
                  <a:pt x="6555" y="1"/>
                </a:lnTo>
                <a:lnTo>
                  <a:pt x="6558" y="0"/>
                </a:lnTo>
                <a:lnTo>
                  <a:pt x="6561" y="0"/>
                </a:lnTo>
                <a:lnTo>
                  <a:pt x="6774" y="0"/>
                </a:lnTo>
                <a:lnTo>
                  <a:pt x="6777" y="0"/>
                </a:lnTo>
                <a:lnTo>
                  <a:pt x="6779" y="1"/>
                </a:lnTo>
                <a:lnTo>
                  <a:pt x="6782" y="2"/>
                </a:lnTo>
                <a:lnTo>
                  <a:pt x="6784" y="3"/>
                </a:lnTo>
                <a:lnTo>
                  <a:pt x="6787" y="4"/>
                </a:lnTo>
                <a:lnTo>
                  <a:pt x="6788" y="6"/>
                </a:lnTo>
                <a:lnTo>
                  <a:pt x="6788" y="8"/>
                </a:lnTo>
                <a:lnTo>
                  <a:pt x="6788" y="10"/>
                </a:lnTo>
                <a:lnTo>
                  <a:pt x="6788" y="11"/>
                </a:lnTo>
                <a:lnTo>
                  <a:pt x="6788" y="13"/>
                </a:lnTo>
                <a:lnTo>
                  <a:pt x="6787" y="15"/>
                </a:lnTo>
                <a:lnTo>
                  <a:pt x="6784" y="16"/>
                </a:lnTo>
                <a:lnTo>
                  <a:pt x="6782" y="17"/>
                </a:lnTo>
                <a:lnTo>
                  <a:pt x="6779" y="18"/>
                </a:lnTo>
                <a:lnTo>
                  <a:pt x="6777" y="19"/>
                </a:lnTo>
                <a:lnTo>
                  <a:pt x="6774" y="19"/>
                </a:lnTo>
                <a:lnTo>
                  <a:pt x="6774" y="19"/>
                </a:lnTo>
                <a:close/>
                <a:moveTo>
                  <a:pt x="6407" y="19"/>
                </a:moveTo>
                <a:lnTo>
                  <a:pt x="6194" y="19"/>
                </a:lnTo>
                <a:lnTo>
                  <a:pt x="6191" y="19"/>
                </a:lnTo>
                <a:lnTo>
                  <a:pt x="6188" y="18"/>
                </a:lnTo>
                <a:lnTo>
                  <a:pt x="6185" y="17"/>
                </a:lnTo>
                <a:lnTo>
                  <a:pt x="6183" y="16"/>
                </a:lnTo>
                <a:lnTo>
                  <a:pt x="6181" y="15"/>
                </a:lnTo>
                <a:lnTo>
                  <a:pt x="6180" y="13"/>
                </a:lnTo>
                <a:lnTo>
                  <a:pt x="6178" y="11"/>
                </a:lnTo>
                <a:lnTo>
                  <a:pt x="6178" y="10"/>
                </a:lnTo>
                <a:lnTo>
                  <a:pt x="6178" y="8"/>
                </a:lnTo>
                <a:lnTo>
                  <a:pt x="6180" y="6"/>
                </a:lnTo>
                <a:lnTo>
                  <a:pt x="6181" y="4"/>
                </a:lnTo>
                <a:lnTo>
                  <a:pt x="6183" y="3"/>
                </a:lnTo>
                <a:lnTo>
                  <a:pt x="6185" y="2"/>
                </a:lnTo>
                <a:lnTo>
                  <a:pt x="6188" y="1"/>
                </a:lnTo>
                <a:lnTo>
                  <a:pt x="6191" y="0"/>
                </a:lnTo>
                <a:lnTo>
                  <a:pt x="6194" y="0"/>
                </a:lnTo>
                <a:lnTo>
                  <a:pt x="6407" y="0"/>
                </a:lnTo>
                <a:lnTo>
                  <a:pt x="6410" y="0"/>
                </a:lnTo>
                <a:lnTo>
                  <a:pt x="6414" y="1"/>
                </a:lnTo>
                <a:lnTo>
                  <a:pt x="6417" y="2"/>
                </a:lnTo>
                <a:lnTo>
                  <a:pt x="6418" y="3"/>
                </a:lnTo>
                <a:lnTo>
                  <a:pt x="6420" y="4"/>
                </a:lnTo>
                <a:lnTo>
                  <a:pt x="6422" y="6"/>
                </a:lnTo>
                <a:lnTo>
                  <a:pt x="6423" y="8"/>
                </a:lnTo>
                <a:lnTo>
                  <a:pt x="6423" y="10"/>
                </a:lnTo>
                <a:lnTo>
                  <a:pt x="6423" y="11"/>
                </a:lnTo>
                <a:lnTo>
                  <a:pt x="6422" y="13"/>
                </a:lnTo>
                <a:lnTo>
                  <a:pt x="6420" y="15"/>
                </a:lnTo>
                <a:lnTo>
                  <a:pt x="6418" y="16"/>
                </a:lnTo>
                <a:lnTo>
                  <a:pt x="6417" y="17"/>
                </a:lnTo>
                <a:lnTo>
                  <a:pt x="6414" y="18"/>
                </a:lnTo>
                <a:lnTo>
                  <a:pt x="6410" y="19"/>
                </a:lnTo>
                <a:lnTo>
                  <a:pt x="6407" y="19"/>
                </a:lnTo>
                <a:lnTo>
                  <a:pt x="6407" y="19"/>
                </a:lnTo>
                <a:close/>
                <a:moveTo>
                  <a:pt x="6042" y="19"/>
                </a:moveTo>
                <a:lnTo>
                  <a:pt x="5827" y="19"/>
                </a:lnTo>
                <a:lnTo>
                  <a:pt x="5824" y="19"/>
                </a:lnTo>
                <a:lnTo>
                  <a:pt x="5823" y="18"/>
                </a:lnTo>
                <a:lnTo>
                  <a:pt x="5819" y="17"/>
                </a:lnTo>
                <a:lnTo>
                  <a:pt x="5818" y="16"/>
                </a:lnTo>
                <a:lnTo>
                  <a:pt x="5815" y="15"/>
                </a:lnTo>
                <a:lnTo>
                  <a:pt x="5815" y="13"/>
                </a:lnTo>
                <a:lnTo>
                  <a:pt x="5813" y="11"/>
                </a:lnTo>
                <a:lnTo>
                  <a:pt x="5813" y="10"/>
                </a:lnTo>
                <a:lnTo>
                  <a:pt x="5813" y="8"/>
                </a:lnTo>
                <a:lnTo>
                  <a:pt x="5815" y="6"/>
                </a:lnTo>
                <a:lnTo>
                  <a:pt x="5815" y="4"/>
                </a:lnTo>
                <a:lnTo>
                  <a:pt x="5818" y="3"/>
                </a:lnTo>
                <a:lnTo>
                  <a:pt x="5819" y="2"/>
                </a:lnTo>
                <a:lnTo>
                  <a:pt x="5823" y="1"/>
                </a:lnTo>
                <a:lnTo>
                  <a:pt x="5824" y="0"/>
                </a:lnTo>
                <a:lnTo>
                  <a:pt x="5827" y="0"/>
                </a:lnTo>
                <a:lnTo>
                  <a:pt x="6042" y="0"/>
                </a:lnTo>
                <a:lnTo>
                  <a:pt x="6044" y="0"/>
                </a:lnTo>
                <a:lnTo>
                  <a:pt x="6047" y="1"/>
                </a:lnTo>
                <a:lnTo>
                  <a:pt x="6050" y="2"/>
                </a:lnTo>
                <a:lnTo>
                  <a:pt x="6052" y="3"/>
                </a:lnTo>
                <a:lnTo>
                  <a:pt x="6053" y="4"/>
                </a:lnTo>
                <a:lnTo>
                  <a:pt x="6055" y="6"/>
                </a:lnTo>
                <a:lnTo>
                  <a:pt x="6056" y="8"/>
                </a:lnTo>
                <a:lnTo>
                  <a:pt x="6056" y="10"/>
                </a:lnTo>
                <a:lnTo>
                  <a:pt x="6056" y="11"/>
                </a:lnTo>
                <a:lnTo>
                  <a:pt x="6055" y="13"/>
                </a:lnTo>
                <a:lnTo>
                  <a:pt x="6053" y="15"/>
                </a:lnTo>
                <a:lnTo>
                  <a:pt x="6052" y="16"/>
                </a:lnTo>
                <a:lnTo>
                  <a:pt x="6050" y="17"/>
                </a:lnTo>
                <a:lnTo>
                  <a:pt x="6047" y="18"/>
                </a:lnTo>
                <a:lnTo>
                  <a:pt x="6044" y="19"/>
                </a:lnTo>
                <a:lnTo>
                  <a:pt x="6042" y="19"/>
                </a:lnTo>
                <a:lnTo>
                  <a:pt x="6042" y="19"/>
                </a:lnTo>
                <a:close/>
                <a:moveTo>
                  <a:pt x="5675" y="19"/>
                </a:moveTo>
                <a:lnTo>
                  <a:pt x="5462" y="19"/>
                </a:lnTo>
                <a:lnTo>
                  <a:pt x="5459" y="19"/>
                </a:lnTo>
                <a:lnTo>
                  <a:pt x="5456" y="18"/>
                </a:lnTo>
                <a:lnTo>
                  <a:pt x="5453" y="17"/>
                </a:lnTo>
                <a:lnTo>
                  <a:pt x="5451" y="16"/>
                </a:lnTo>
                <a:lnTo>
                  <a:pt x="5450" y="15"/>
                </a:lnTo>
                <a:lnTo>
                  <a:pt x="5448" y="13"/>
                </a:lnTo>
                <a:lnTo>
                  <a:pt x="5446" y="11"/>
                </a:lnTo>
                <a:lnTo>
                  <a:pt x="5446" y="10"/>
                </a:lnTo>
                <a:lnTo>
                  <a:pt x="5446" y="8"/>
                </a:lnTo>
                <a:lnTo>
                  <a:pt x="5448" y="6"/>
                </a:lnTo>
                <a:lnTo>
                  <a:pt x="5450" y="4"/>
                </a:lnTo>
                <a:lnTo>
                  <a:pt x="5451" y="3"/>
                </a:lnTo>
                <a:lnTo>
                  <a:pt x="5453" y="2"/>
                </a:lnTo>
                <a:lnTo>
                  <a:pt x="5456" y="1"/>
                </a:lnTo>
                <a:lnTo>
                  <a:pt x="5459" y="0"/>
                </a:lnTo>
                <a:lnTo>
                  <a:pt x="5462" y="0"/>
                </a:lnTo>
                <a:lnTo>
                  <a:pt x="5675" y="0"/>
                </a:lnTo>
                <a:lnTo>
                  <a:pt x="5679" y="0"/>
                </a:lnTo>
                <a:lnTo>
                  <a:pt x="5682" y="1"/>
                </a:lnTo>
                <a:lnTo>
                  <a:pt x="5683" y="2"/>
                </a:lnTo>
                <a:lnTo>
                  <a:pt x="5687" y="3"/>
                </a:lnTo>
                <a:lnTo>
                  <a:pt x="5688" y="4"/>
                </a:lnTo>
                <a:lnTo>
                  <a:pt x="5690" y="6"/>
                </a:lnTo>
                <a:lnTo>
                  <a:pt x="5690" y="8"/>
                </a:lnTo>
                <a:lnTo>
                  <a:pt x="5691" y="10"/>
                </a:lnTo>
                <a:lnTo>
                  <a:pt x="5690" y="11"/>
                </a:lnTo>
                <a:lnTo>
                  <a:pt x="5690" y="13"/>
                </a:lnTo>
                <a:lnTo>
                  <a:pt x="5688" y="15"/>
                </a:lnTo>
                <a:lnTo>
                  <a:pt x="5687" y="16"/>
                </a:lnTo>
                <a:lnTo>
                  <a:pt x="5683" y="17"/>
                </a:lnTo>
                <a:lnTo>
                  <a:pt x="5682" y="18"/>
                </a:lnTo>
                <a:lnTo>
                  <a:pt x="5679" y="19"/>
                </a:lnTo>
                <a:lnTo>
                  <a:pt x="5675" y="19"/>
                </a:lnTo>
                <a:lnTo>
                  <a:pt x="5675" y="19"/>
                </a:lnTo>
                <a:close/>
                <a:moveTo>
                  <a:pt x="5309" y="19"/>
                </a:moveTo>
                <a:lnTo>
                  <a:pt x="5096" y="19"/>
                </a:lnTo>
                <a:lnTo>
                  <a:pt x="5092" y="19"/>
                </a:lnTo>
                <a:lnTo>
                  <a:pt x="5089" y="18"/>
                </a:lnTo>
                <a:lnTo>
                  <a:pt x="5088" y="17"/>
                </a:lnTo>
                <a:lnTo>
                  <a:pt x="5084" y="16"/>
                </a:lnTo>
                <a:lnTo>
                  <a:pt x="5083" y="15"/>
                </a:lnTo>
                <a:lnTo>
                  <a:pt x="5081" y="13"/>
                </a:lnTo>
                <a:lnTo>
                  <a:pt x="5081" y="11"/>
                </a:lnTo>
                <a:lnTo>
                  <a:pt x="5081" y="10"/>
                </a:lnTo>
                <a:lnTo>
                  <a:pt x="5081" y="8"/>
                </a:lnTo>
                <a:lnTo>
                  <a:pt x="5081" y="6"/>
                </a:lnTo>
                <a:lnTo>
                  <a:pt x="5083" y="4"/>
                </a:lnTo>
                <a:lnTo>
                  <a:pt x="5084" y="3"/>
                </a:lnTo>
                <a:lnTo>
                  <a:pt x="5088" y="2"/>
                </a:lnTo>
                <a:lnTo>
                  <a:pt x="5089" y="1"/>
                </a:lnTo>
                <a:lnTo>
                  <a:pt x="5092" y="0"/>
                </a:lnTo>
                <a:lnTo>
                  <a:pt x="5096" y="0"/>
                </a:lnTo>
                <a:lnTo>
                  <a:pt x="5309" y="0"/>
                </a:lnTo>
                <a:lnTo>
                  <a:pt x="5312" y="0"/>
                </a:lnTo>
                <a:lnTo>
                  <a:pt x="5315" y="1"/>
                </a:lnTo>
                <a:lnTo>
                  <a:pt x="5318" y="2"/>
                </a:lnTo>
                <a:lnTo>
                  <a:pt x="5320" y="3"/>
                </a:lnTo>
                <a:lnTo>
                  <a:pt x="5321" y="4"/>
                </a:lnTo>
                <a:lnTo>
                  <a:pt x="5323" y="6"/>
                </a:lnTo>
                <a:lnTo>
                  <a:pt x="5325" y="8"/>
                </a:lnTo>
                <a:lnTo>
                  <a:pt x="5325" y="10"/>
                </a:lnTo>
                <a:lnTo>
                  <a:pt x="5325" y="11"/>
                </a:lnTo>
                <a:lnTo>
                  <a:pt x="5323" y="13"/>
                </a:lnTo>
                <a:lnTo>
                  <a:pt x="5321" y="15"/>
                </a:lnTo>
                <a:lnTo>
                  <a:pt x="5320" y="16"/>
                </a:lnTo>
                <a:lnTo>
                  <a:pt x="5318" y="17"/>
                </a:lnTo>
                <a:lnTo>
                  <a:pt x="5315" y="18"/>
                </a:lnTo>
                <a:lnTo>
                  <a:pt x="5312" y="19"/>
                </a:lnTo>
                <a:lnTo>
                  <a:pt x="5309" y="19"/>
                </a:lnTo>
                <a:lnTo>
                  <a:pt x="5309" y="19"/>
                </a:lnTo>
                <a:close/>
                <a:moveTo>
                  <a:pt x="4944" y="19"/>
                </a:moveTo>
                <a:lnTo>
                  <a:pt x="4731" y="19"/>
                </a:lnTo>
                <a:lnTo>
                  <a:pt x="4727" y="19"/>
                </a:lnTo>
                <a:lnTo>
                  <a:pt x="4724" y="18"/>
                </a:lnTo>
                <a:lnTo>
                  <a:pt x="4721" y="17"/>
                </a:lnTo>
                <a:lnTo>
                  <a:pt x="4719" y="16"/>
                </a:lnTo>
                <a:lnTo>
                  <a:pt x="4718" y="15"/>
                </a:lnTo>
                <a:lnTo>
                  <a:pt x="4716" y="13"/>
                </a:lnTo>
                <a:lnTo>
                  <a:pt x="4715" y="11"/>
                </a:lnTo>
                <a:lnTo>
                  <a:pt x="4715" y="10"/>
                </a:lnTo>
                <a:lnTo>
                  <a:pt x="4715" y="8"/>
                </a:lnTo>
                <a:lnTo>
                  <a:pt x="4716" y="6"/>
                </a:lnTo>
                <a:lnTo>
                  <a:pt x="4718" y="4"/>
                </a:lnTo>
                <a:lnTo>
                  <a:pt x="4719" y="3"/>
                </a:lnTo>
                <a:lnTo>
                  <a:pt x="4721" y="2"/>
                </a:lnTo>
                <a:lnTo>
                  <a:pt x="4724" y="1"/>
                </a:lnTo>
                <a:lnTo>
                  <a:pt x="4727" y="0"/>
                </a:lnTo>
                <a:lnTo>
                  <a:pt x="4731" y="0"/>
                </a:lnTo>
                <a:lnTo>
                  <a:pt x="4944" y="0"/>
                </a:lnTo>
                <a:lnTo>
                  <a:pt x="4947" y="0"/>
                </a:lnTo>
                <a:lnTo>
                  <a:pt x="4948" y="1"/>
                </a:lnTo>
                <a:lnTo>
                  <a:pt x="4952" y="2"/>
                </a:lnTo>
                <a:lnTo>
                  <a:pt x="4953" y="3"/>
                </a:lnTo>
                <a:lnTo>
                  <a:pt x="4956" y="4"/>
                </a:lnTo>
                <a:lnTo>
                  <a:pt x="4958" y="6"/>
                </a:lnTo>
                <a:lnTo>
                  <a:pt x="4958" y="8"/>
                </a:lnTo>
                <a:lnTo>
                  <a:pt x="4958" y="10"/>
                </a:lnTo>
                <a:lnTo>
                  <a:pt x="4958" y="11"/>
                </a:lnTo>
                <a:lnTo>
                  <a:pt x="4958" y="13"/>
                </a:lnTo>
                <a:lnTo>
                  <a:pt x="4956" y="15"/>
                </a:lnTo>
                <a:lnTo>
                  <a:pt x="4953" y="16"/>
                </a:lnTo>
                <a:lnTo>
                  <a:pt x="4952" y="17"/>
                </a:lnTo>
                <a:lnTo>
                  <a:pt x="4948" y="18"/>
                </a:lnTo>
                <a:lnTo>
                  <a:pt x="4947" y="19"/>
                </a:lnTo>
                <a:lnTo>
                  <a:pt x="4944" y="19"/>
                </a:lnTo>
                <a:lnTo>
                  <a:pt x="4944" y="19"/>
                </a:lnTo>
                <a:close/>
                <a:moveTo>
                  <a:pt x="4577" y="19"/>
                </a:moveTo>
                <a:lnTo>
                  <a:pt x="4364" y="19"/>
                </a:lnTo>
                <a:lnTo>
                  <a:pt x="4361" y="19"/>
                </a:lnTo>
                <a:lnTo>
                  <a:pt x="4357" y="18"/>
                </a:lnTo>
                <a:lnTo>
                  <a:pt x="4354" y="17"/>
                </a:lnTo>
                <a:lnTo>
                  <a:pt x="4353" y="16"/>
                </a:lnTo>
                <a:lnTo>
                  <a:pt x="4351" y="15"/>
                </a:lnTo>
                <a:lnTo>
                  <a:pt x="4349" y="13"/>
                </a:lnTo>
                <a:lnTo>
                  <a:pt x="4348" y="11"/>
                </a:lnTo>
                <a:lnTo>
                  <a:pt x="4348" y="10"/>
                </a:lnTo>
                <a:lnTo>
                  <a:pt x="4348" y="8"/>
                </a:lnTo>
                <a:lnTo>
                  <a:pt x="4349" y="6"/>
                </a:lnTo>
                <a:lnTo>
                  <a:pt x="4351" y="4"/>
                </a:lnTo>
                <a:lnTo>
                  <a:pt x="4353" y="3"/>
                </a:lnTo>
                <a:lnTo>
                  <a:pt x="4354" y="2"/>
                </a:lnTo>
                <a:lnTo>
                  <a:pt x="4357" y="1"/>
                </a:lnTo>
                <a:lnTo>
                  <a:pt x="4361" y="0"/>
                </a:lnTo>
                <a:lnTo>
                  <a:pt x="4364" y="0"/>
                </a:lnTo>
                <a:lnTo>
                  <a:pt x="4577" y="0"/>
                </a:lnTo>
                <a:lnTo>
                  <a:pt x="4580" y="0"/>
                </a:lnTo>
                <a:lnTo>
                  <a:pt x="4583" y="1"/>
                </a:lnTo>
                <a:lnTo>
                  <a:pt x="4586" y="2"/>
                </a:lnTo>
                <a:lnTo>
                  <a:pt x="4588" y="3"/>
                </a:lnTo>
                <a:lnTo>
                  <a:pt x="4590" y="4"/>
                </a:lnTo>
                <a:lnTo>
                  <a:pt x="4591" y="6"/>
                </a:lnTo>
                <a:lnTo>
                  <a:pt x="4593" y="8"/>
                </a:lnTo>
                <a:lnTo>
                  <a:pt x="4593" y="10"/>
                </a:lnTo>
                <a:lnTo>
                  <a:pt x="4593" y="11"/>
                </a:lnTo>
                <a:lnTo>
                  <a:pt x="4591" y="13"/>
                </a:lnTo>
                <a:lnTo>
                  <a:pt x="4590" y="15"/>
                </a:lnTo>
                <a:lnTo>
                  <a:pt x="4588" y="16"/>
                </a:lnTo>
                <a:lnTo>
                  <a:pt x="4586" y="17"/>
                </a:lnTo>
                <a:lnTo>
                  <a:pt x="4583" y="18"/>
                </a:lnTo>
                <a:lnTo>
                  <a:pt x="4580" y="19"/>
                </a:lnTo>
                <a:lnTo>
                  <a:pt x="4577" y="19"/>
                </a:lnTo>
                <a:lnTo>
                  <a:pt x="4577" y="19"/>
                </a:lnTo>
                <a:close/>
                <a:moveTo>
                  <a:pt x="4212" y="19"/>
                </a:moveTo>
                <a:lnTo>
                  <a:pt x="3997" y="19"/>
                </a:lnTo>
                <a:lnTo>
                  <a:pt x="3994" y="19"/>
                </a:lnTo>
                <a:lnTo>
                  <a:pt x="3992" y="18"/>
                </a:lnTo>
                <a:lnTo>
                  <a:pt x="3989" y="17"/>
                </a:lnTo>
                <a:lnTo>
                  <a:pt x="3987" y="16"/>
                </a:lnTo>
                <a:lnTo>
                  <a:pt x="3984" y="15"/>
                </a:lnTo>
                <a:lnTo>
                  <a:pt x="3984" y="13"/>
                </a:lnTo>
                <a:lnTo>
                  <a:pt x="3983" y="11"/>
                </a:lnTo>
                <a:lnTo>
                  <a:pt x="3983" y="10"/>
                </a:lnTo>
                <a:lnTo>
                  <a:pt x="3983" y="8"/>
                </a:lnTo>
                <a:lnTo>
                  <a:pt x="3984" y="6"/>
                </a:lnTo>
                <a:lnTo>
                  <a:pt x="3984" y="4"/>
                </a:lnTo>
                <a:lnTo>
                  <a:pt x="3987" y="3"/>
                </a:lnTo>
                <a:lnTo>
                  <a:pt x="3989" y="2"/>
                </a:lnTo>
                <a:lnTo>
                  <a:pt x="3992" y="1"/>
                </a:lnTo>
                <a:lnTo>
                  <a:pt x="3994" y="0"/>
                </a:lnTo>
                <a:lnTo>
                  <a:pt x="3997" y="0"/>
                </a:lnTo>
                <a:lnTo>
                  <a:pt x="4212" y="0"/>
                </a:lnTo>
                <a:lnTo>
                  <a:pt x="4213" y="0"/>
                </a:lnTo>
                <a:lnTo>
                  <a:pt x="4216" y="1"/>
                </a:lnTo>
                <a:lnTo>
                  <a:pt x="4220" y="2"/>
                </a:lnTo>
                <a:lnTo>
                  <a:pt x="4221" y="3"/>
                </a:lnTo>
                <a:lnTo>
                  <a:pt x="4223" y="4"/>
                </a:lnTo>
                <a:lnTo>
                  <a:pt x="4224" y="6"/>
                </a:lnTo>
                <a:lnTo>
                  <a:pt x="4226" y="8"/>
                </a:lnTo>
                <a:lnTo>
                  <a:pt x="4226" y="10"/>
                </a:lnTo>
                <a:lnTo>
                  <a:pt x="4226" y="11"/>
                </a:lnTo>
                <a:lnTo>
                  <a:pt x="4224" y="13"/>
                </a:lnTo>
                <a:lnTo>
                  <a:pt x="4223" y="15"/>
                </a:lnTo>
                <a:lnTo>
                  <a:pt x="4221" y="16"/>
                </a:lnTo>
                <a:lnTo>
                  <a:pt x="4220" y="17"/>
                </a:lnTo>
                <a:lnTo>
                  <a:pt x="4216" y="18"/>
                </a:lnTo>
                <a:lnTo>
                  <a:pt x="4213" y="19"/>
                </a:lnTo>
                <a:lnTo>
                  <a:pt x="4212" y="19"/>
                </a:lnTo>
                <a:lnTo>
                  <a:pt x="4212" y="19"/>
                </a:lnTo>
                <a:close/>
                <a:moveTo>
                  <a:pt x="3845" y="19"/>
                </a:moveTo>
                <a:lnTo>
                  <a:pt x="3632" y="19"/>
                </a:lnTo>
                <a:lnTo>
                  <a:pt x="3629" y="19"/>
                </a:lnTo>
                <a:lnTo>
                  <a:pt x="3626" y="18"/>
                </a:lnTo>
                <a:lnTo>
                  <a:pt x="3622" y="17"/>
                </a:lnTo>
                <a:lnTo>
                  <a:pt x="3621" y="16"/>
                </a:lnTo>
                <a:lnTo>
                  <a:pt x="3619" y="15"/>
                </a:lnTo>
                <a:lnTo>
                  <a:pt x="3618" y="13"/>
                </a:lnTo>
                <a:lnTo>
                  <a:pt x="3616" y="11"/>
                </a:lnTo>
                <a:lnTo>
                  <a:pt x="3616" y="10"/>
                </a:lnTo>
                <a:lnTo>
                  <a:pt x="3616" y="8"/>
                </a:lnTo>
                <a:lnTo>
                  <a:pt x="3618" y="6"/>
                </a:lnTo>
                <a:lnTo>
                  <a:pt x="3619" y="4"/>
                </a:lnTo>
                <a:lnTo>
                  <a:pt x="3621" y="3"/>
                </a:lnTo>
                <a:lnTo>
                  <a:pt x="3622" y="2"/>
                </a:lnTo>
                <a:lnTo>
                  <a:pt x="3626" y="1"/>
                </a:lnTo>
                <a:lnTo>
                  <a:pt x="3629" y="0"/>
                </a:lnTo>
                <a:lnTo>
                  <a:pt x="3632" y="0"/>
                </a:lnTo>
                <a:lnTo>
                  <a:pt x="3845" y="0"/>
                </a:lnTo>
                <a:lnTo>
                  <a:pt x="3848" y="0"/>
                </a:lnTo>
                <a:lnTo>
                  <a:pt x="3851" y="1"/>
                </a:lnTo>
                <a:lnTo>
                  <a:pt x="3853" y="2"/>
                </a:lnTo>
                <a:lnTo>
                  <a:pt x="3856" y="3"/>
                </a:lnTo>
                <a:lnTo>
                  <a:pt x="3858" y="4"/>
                </a:lnTo>
                <a:lnTo>
                  <a:pt x="3859" y="6"/>
                </a:lnTo>
                <a:lnTo>
                  <a:pt x="3859" y="8"/>
                </a:lnTo>
                <a:lnTo>
                  <a:pt x="3861" y="10"/>
                </a:lnTo>
                <a:lnTo>
                  <a:pt x="3859" y="11"/>
                </a:lnTo>
                <a:lnTo>
                  <a:pt x="3859" y="13"/>
                </a:lnTo>
                <a:lnTo>
                  <a:pt x="3858" y="15"/>
                </a:lnTo>
                <a:lnTo>
                  <a:pt x="3856" y="16"/>
                </a:lnTo>
                <a:lnTo>
                  <a:pt x="3853" y="17"/>
                </a:lnTo>
                <a:lnTo>
                  <a:pt x="3851" y="18"/>
                </a:lnTo>
                <a:lnTo>
                  <a:pt x="3848" y="19"/>
                </a:lnTo>
                <a:lnTo>
                  <a:pt x="3845" y="19"/>
                </a:lnTo>
                <a:lnTo>
                  <a:pt x="3845" y="19"/>
                </a:lnTo>
                <a:close/>
                <a:moveTo>
                  <a:pt x="3478" y="19"/>
                </a:moveTo>
                <a:lnTo>
                  <a:pt x="3265" y="19"/>
                </a:lnTo>
                <a:lnTo>
                  <a:pt x="3262" y="19"/>
                </a:lnTo>
                <a:lnTo>
                  <a:pt x="3259" y="18"/>
                </a:lnTo>
                <a:lnTo>
                  <a:pt x="3257" y="17"/>
                </a:lnTo>
                <a:lnTo>
                  <a:pt x="3254" y="16"/>
                </a:lnTo>
                <a:lnTo>
                  <a:pt x="3252" y="15"/>
                </a:lnTo>
                <a:lnTo>
                  <a:pt x="3251" y="13"/>
                </a:lnTo>
                <a:lnTo>
                  <a:pt x="3251" y="11"/>
                </a:lnTo>
                <a:lnTo>
                  <a:pt x="3251" y="10"/>
                </a:lnTo>
                <a:lnTo>
                  <a:pt x="3251" y="8"/>
                </a:lnTo>
                <a:lnTo>
                  <a:pt x="3251" y="6"/>
                </a:lnTo>
                <a:lnTo>
                  <a:pt x="3252" y="4"/>
                </a:lnTo>
                <a:lnTo>
                  <a:pt x="3254" y="3"/>
                </a:lnTo>
                <a:lnTo>
                  <a:pt x="3257" y="2"/>
                </a:lnTo>
                <a:lnTo>
                  <a:pt x="3259" y="1"/>
                </a:lnTo>
                <a:lnTo>
                  <a:pt x="3262" y="0"/>
                </a:lnTo>
                <a:lnTo>
                  <a:pt x="3265" y="0"/>
                </a:lnTo>
                <a:lnTo>
                  <a:pt x="3478" y="0"/>
                </a:lnTo>
                <a:lnTo>
                  <a:pt x="3481" y="0"/>
                </a:lnTo>
                <a:lnTo>
                  <a:pt x="3485" y="1"/>
                </a:lnTo>
                <a:lnTo>
                  <a:pt x="3488" y="2"/>
                </a:lnTo>
                <a:lnTo>
                  <a:pt x="3489" y="3"/>
                </a:lnTo>
                <a:lnTo>
                  <a:pt x="3491" y="4"/>
                </a:lnTo>
                <a:lnTo>
                  <a:pt x="3493" y="6"/>
                </a:lnTo>
                <a:lnTo>
                  <a:pt x="3494" y="8"/>
                </a:lnTo>
                <a:lnTo>
                  <a:pt x="3494" y="10"/>
                </a:lnTo>
                <a:lnTo>
                  <a:pt x="3494" y="11"/>
                </a:lnTo>
                <a:lnTo>
                  <a:pt x="3493" y="13"/>
                </a:lnTo>
                <a:lnTo>
                  <a:pt x="3491" y="15"/>
                </a:lnTo>
                <a:lnTo>
                  <a:pt x="3489" y="16"/>
                </a:lnTo>
                <a:lnTo>
                  <a:pt x="3488" y="17"/>
                </a:lnTo>
                <a:lnTo>
                  <a:pt x="3485" y="18"/>
                </a:lnTo>
                <a:lnTo>
                  <a:pt x="3481" y="19"/>
                </a:lnTo>
                <a:lnTo>
                  <a:pt x="3478" y="19"/>
                </a:lnTo>
                <a:lnTo>
                  <a:pt x="3478" y="19"/>
                </a:lnTo>
                <a:close/>
                <a:moveTo>
                  <a:pt x="3113" y="19"/>
                </a:moveTo>
                <a:lnTo>
                  <a:pt x="2900" y="19"/>
                </a:lnTo>
                <a:lnTo>
                  <a:pt x="2897" y="19"/>
                </a:lnTo>
                <a:lnTo>
                  <a:pt x="2894" y="18"/>
                </a:lnTo>
                <a:lnTo>
                  <a:pt x="2891" y="17"/>
                </a:lnTo>
                <a:lnTo>
                  <a:pt x="2889" y="16"/>
                </a:lnTo>
                <a:lnTo>
                  <a:pt x="2887" y="15"/>
                </a:lnTo>
                <a:lnTo>
                  <a:pt x="2886" y="13"/>
                </a:lnTo>
                <a:lnTo>
                  <a:pt x="2884" y="11"/>
                </a:lnTo>
                <a:lnTo>
                  <a:pt x="2884" y="10"/>
                </a:lnTo>
                <a:lnTo>
                  <a:pt x="2884" y="8"/>
                </a:lnTo>
                <a:lnTo>
                  <a:pt x="2886" y="6"/>
                </a:lnTo>
                <a:lnTo>
                  <a:pt x="2887" y="4"/>
                </a:lnTo>
                <a:lnTo>
                  <a:pt x="2889" y="3"/>
                </a:lnTo>
                <a:lnTo>
                  <a:pt x="2891" y="2"/>
                </a:lnTo>
                <a:lnTo>
                  <a:pt x="2894" y="1"/>
                </a:lnTo>
                <a:lnTo>
                  <a:pt x="2897" y="0"/>
                </a:lnTo>
                <a:lnTo>
                  <a:pt x="2900" y="0"/>
                </a:lnTo>
                <a:lnTo>
                  <a:pt x="3113" y="0"/>
                </a:lnTo>
                <a:lnTo>
                  <a:pt x="3116" y="0"/>
                </a:lnTo>
                <a:lnTo>
                  <a:pt x="3118" y="1"/>
                </a:lnTo>
                <a:lnTo>
                  <a:pt x="3121" y="2"/>
                </a:lnTo>
                <a:lnTo>
                  <a:pt x="3123" y="3"/>
                </a:lnTo>
                <a:lnTo>
                  <a:pt x="3126" y="4"/>
                </a:lnTo>
                <a:lnTo>
                  <a:pt x="3128" y="6"/>
                </a:lnTo>
                <a:lnTo>
                  <a:pt x="3128" y="8"/>
                </a:lnTo>
                <a:lnTo>
                  <a:pt x="3128" y="10"/>
                </a:lnTo>
                <a:lnTo>
                  <a:pt x="3128" y="11"/>
                </a:lnTo>
                <a:lnTo>
                  <a:pt x="3128" y="13"/>
                </a:lnTo>
                <a:lnTo>
                  <a:pt x="3126" y="15"/>
                </a:lnTo>
                <a:lnTo>
                  <a:pt x="3123" y="16"/>
                </a:lnTo>
                <a:lnTo>
                  <a:pt x="3121" y="17"/>
                </a:lnTo>
                <a:lnTo>
                  <a:pt x="3118" y="18"/>
                </a:lnTo>
                <a:lnTo>
                  <a:pt x="3116" y="19"/>
                </a:lnTo>
                <a:lnTo>
                  <a:pt x="3113" y="19"/>
                </a:lnTo>
                <a:lnTo>
                  <a:pt x="3113" y="19"/>
                </a:lnTo>
                <a:close/>
                <a:moveTo>
                  <a:pt x="2746" y="19"/>
                </a:moveTo>
                <a:lnTo>
                  <a:pt x="2533" y="19"/>
                </a:lnTo>
                <a:lnTo>
                  <a:pt x="2530" y="19"/>
                </a:lnTo>
                <a:lnTo>
                  <a:pt x="2527" y="18"/>
                </a:lnTo>
                <a:lnTo>
                  <a:pt x="2524" y="17"/>
                </a:lnTo>
                <a:lnTo>
                  <a:pt x="2522" y="16"/>
                </a:lnTo>
                <a:lnTo>
                  <a:pt x="2521" y="15"/>
                </a:lnTo>
                <a:lnTo>
                  <a:pt x="2519" y="13"/>
                </a:lnTo>
                <a:lnTo>
                  <a:pt x="2517" y="11"/>
                </a:lnTo>
                <a:lnTo>
                  <a:pt x="2517" y="10"/>
                </a:lnTo>
                <a:lnTo>
                  <a:pt x="2517" y="8"/>
                </a:lnTo>
                <a:lnTo>
                  <a:pt x="2519" y="6"/>
                </a:lnTo>
                <a:lnTo>
                  <a:pt x="2521" y="4"/>
                </a:lnTo>
                <a:lnTo>
                  <a:pt x="2522" y="3"/>
                </a:lnTo>
                <a:lnTo>
                  <a:pt x="2524" y="2"/>
                </a:lnTo>
                <a:lnTo>
                  <a:pt x="2527" y="1"/>
                </a:lnTo>
                <a:lnTo>
                  <a:pt x="2530" y="0"/>
                </a:lnTo>
                <a:lnTo>
                  <a:pt x="2533" y="0"/>
                </a:lnTo>
                <a:lnTo>
                  <a:pt x="2746" y="0"/>
                </a:lnTo>
                <a:lnTo>
                  <a:pt x="2750" y="0"/>
                </a:lnTo>
                <a:lnTo>
                  <a:pt x="2753" y="1"/>
                </a:lnTo>
                <a:lnTo>
                  <a:pt x="2756" y="2"/>
                </a:lnTo>
                <a:lnTo>
                  <a:pt x="2758" y="3"/>
                </a:lnTo>
                <a:lnTo>
                  <a:pt x="2759" y="4"/>
                </a:lnTo>
                <a:lnTo>
                  <a:pt x="2761" y="6"/>
                </a:lnTo>
                <a:lnTo>
                  <a:pt x="2762" y="8"/>
                </a:lnTo>
                <a:lnTo>
                  <a:pt x="2762" y="10"/>
                </a:lnTo>
                <a:lnTo>
                  <a:pt x="2762" y="11"/>
                </a:lnTo>
                <a:lnTo>
                  <a:pt x="2761" y="13"/>
                </a:lnTo>
                <a:lnTo>
                  <a:pt x="2759" y="15"/>
                </a:lnTo>
                <a:lnTo>
                  <a:pt x="2758" y="16"/>
                </a:lnTo>
                <a:lnTo>
                  <a:pt x="2756" y="17"/>
                </a:lnTo>
                <a:lnTo>
                  <a:pt x="2753" y="18"/>
                </a:lnTo>
                <a:lnTo>
                  <a:pt x="2750" y="19"/>
                </a:lnTo>
                <a:lnTo>
                  <a:pt x="2746" y="19"/>
                </a:lnTo>
                <a:lnTo>
                  <a:pt x="2746" y="19"/>
                </a:lnTo>
                <a:close/>
                <a:moveTo>
                  <a:pt x="2381" y="19"/>
                </a:moveTo>
                <a:lnTo>
                  <a:pt x="2167" y="19"/>
                </a:lnTo>
                <a:lnTo>
                  <a:pt x="2163" y="19"/>
                </a:lnTo>
                <a:lnTo>
                  <a:pt x="2162" y="18"/>
                </a:lnTo>
                <a:lnTo>
                  <a:pt x="2159" y="17"/>
                </a:lnTo>
                <a:lnTo>
                  <a:pt x="2157" y="16"/>
                </a:lnTo>
                <a:lnTo>
                  <a:pt x="2154" y="15"/>
                </a:lnTo>
                <a:lnTo>
                  <a:pt x="2154" y="13"/>
                </a:lnTo>
                <a:lnTo>
                  <a:pt x="2152" y="11"/>
                </a:lnTo>
                <a:lnTo>
                  <a:pt x="2152" y="10"/>
                </a:lnTo>
                <a:lnTo>
                  <a:pt x="2152" y="8"/>
                </a:lnTo>
                <a:lnTo>
                  <a:pt x="2154" y="6"/>
                </a:lnTo>
                <a:lnTo>
                  <a:pt x="2154" y="4"/>
                </a:lnTo>
                <a:lnTo>
                  <a:pt x="2157" y="3"/>
                </a:lnTo>
                <a:lnTo>
                  <a:pt x="2159" y="2"/>
                </a:lnTo>
                <a:lnTo>
                  <a:pt x="2162" y="1"/>
                </a:lnTo>
                <a:lnTo>
                  <a:pt x="2163" y="0"/>
                </a:lnTo>
                <a:lnTo>
                  <a:pt x="2167" y="0"/>
                </a:lnTo>
                <a:lnTo>
                  <a:pt x="2381" y="0"/>
                </a:lnTo>
                <a:lnTo>
                  <a:pt x="2383" y="0"/>
                </a:lnTo>
                <a:lnTo>
                  <a:pt x="2386" y="1"/>
                </a:lnTo>
                <a:lnTo>
                  <a:pt x="2389" y="2"/>
                </a:lnTo>
                <a:lnTo>
                  <a:pt x="2391" y="3"/>
                </a:lnTo>
                <a:lnTo>
                  <a:pt x="2392" y="4"/>
                </a:lnTo>
                <a:lnTo>
                  <a:pt x="2394" y="6"/>
                </a:lnTo>
                <a:lnTo>
                  <a:pt x="2396" y="8"/>
                </a:lnTo>
                <a:lnTo>
                  <a:pt x="2396" y="10"/>
                </a:lnTo>
                <a:lnTo>
                  <a:pt x="2396" y="11"/>
                </a:lnTo>
                <a:lnTo>
                  <a:pt x="2394" y="13"/>
                </a:lnTo>
                <a:lnTo>
                  <a:pt x="2392" y="15"/>
                </a:lnTo>
                <a:lnTo>
                  <a:pt x="2391" y="16"/>
                </a:lnTo>
                <a:lnTo>
                  <a:pt x="2389" y="17"/>
                </a:lnTo>
                <a:lnTo>
                  <a:pt x="2386" y="18"/>
                </a:lnTo>
                <a:lnTo>
                  <a:pt x="2383" y="19"/>
                </a:lnTo>
                <a:lnTo>
                  <a:pt x="2381" y="19"/>
                </a:lnTo>
                <a:lnTo>
                  <a:pt x="2381" y="19"/>
                </a:lnTo>
                <a:close/>
                <a:moveTo>
                  <a:pt x="2015" y="19"/>
                </a:moveTo>
                <a:lnTo>
                  <a:pt x="1802" y="19"/>
                </a:lnTo>
                <a:lnTo>
                  <a:pt x="1798" y="19"/>
                </a:lnTo>
                <a:lnTo>
                  <a:pt x="1795" y="18"/>
                </a:lnTo>
                <a:lnTo>
                  <a:pt x="1792" y="17"/>
                </a:lnTo>
                <a:lnTo>
                  <a:pt x="1790" y="16"/>
                </a:lnTo>
                <a:lnTo>
                  <a:pt x="1789" y="15"/>
                </a:lnTo>
                <a:lnTo>
                  <a:pt x="1787" y="13"/>
                </a:lnTo>
                <a:lnTo>
                  <a:pt x="1786" y="11"/>
                </a:lnTo>
                <a:lnTo>
                  <a:pt x="1786" y="10"/>
                </a:lnTo>
                <a:lnTo>
                  <a:pt x="1786" y="8"/>
                </a:lnTo>
                <a:lnTo>
                  <a:pt x="1787" y="6"/>
                </a:lnTo>
                <a:lnTo>
                  <a:pt x="1789" y="4"/>
                </a:lnTo>
                <a:lnTo>
                  <a:pt x="1790" y="3"/>
                </a:lnTo>
                <a:lnTo>
                  <a:pt x="1792" y="2"/>
                </a:lnTo>
                <a:lnTo>
                  <a:pt x="1795" y="1"/>
                </a:lnTo>
                <a:lnTo>
                  <a:pt x="1798" y="0"/>
                </a:lnTo>
                <a:lnTo>
                  <a:pt x="1802" y="0"/>
                </a:lnTo>
                <a:lnTo>
                  <a:pt x="2015" y="0"/>
                </a:lnTo>
                <a:lnTo>
                  <a:pt x="2018" y="0"/>
                </a:lnTo>
                <a:lnTo>
                  <a:pt x="2021" y="1"/>
                </a:lnTo>
                <a:lnTo>
                  <a:pt x="2023" y="2"/>
                </a:lnTo>
                <a:lnTo>
                  <a:pt x="2026" y="3"/>
                </a:lnTo>
                <a:lnTo>
                  <a:pt x="2027" y="4"/>
                </a:lnTo>
                <a:lnTo>
                  <a:pt x="2029" y="6"/>
                </a:lnTo>
                <a:lnTo>
                  <a:pt x="2029" y="8"/>
                </a:lnTo>
                <a:lnTo>
                  <a:pt x="2031" y="10"/>
                </a:lnTo>
                <a:lnTo>
                  <a:pt x="2029" y="11"/>
                </a:lnTo>
                <a:lnTo>
                  <a:pt x="2029" y="13"/>
                </a:lnTo>
                <a:lnTo>
                  <a:pt x="2027" y="15"/>
                </a:lnTo>
                <a:lnTo>
                  <a:pt x="2026" y="16"/>
                </a:lnTo>
                <a:lnTo>
                  <a:pt x="2023" y="17"/>
                </a:lnTo>
                <a:lnTo>
                  <a:pt x="2021" y="18"/>
                </a:lnTo>
                <a:lnTo>
                  <a:pt x="2018" y="19"/>
                </a:lnTo>
                <a:lnTo>
                  <a:pt x="2015" y="19"/>
                </a:lnTo>
                <a:lnTo>
                  <a:pt x="2015" y="19"/>
                </a:lnTo>
                <a:close/>
                <a:moveTo>
                  <a:pt x="1648" y="19"/>
                </a:moveTo>
                <a:lnTo>
                  <a:pt x="1435" y="19"/>
                </a:lnTo>
                <a:lnTo>
                  <a:pt x="1432" y="19"/>
                </a:lnTo>
                <a:lnTo>
                  <a:pt x="1428" y="18"/>
                </a:lnTo>
                <a:lnTo>
                  <a:pt x="1427" y="17"/>
                </a:lnTo>
                <a:lnTo>
                  <a:pt x="1424" y="16"/>
                </a:lnTo>
                <a:lnTo>
                  <a:pt x="1422" y="15"/>
                </a:lnTo>
                <a:lnTo>
                  <a:pt x="1420" y="13"/>
                </a:lnTo>
                <a:lnTo>
                  <a:pt x="1420" y="11"/>
                </a:lnTo>
                <a:lnTo>
                  <a:pt x="1420" y="10"/>
                </a:lnTo>
                <a:lnTo>
                  <a:pt x="1420" y="8"/>
                </a:lnTo>
                <a:lnTo>
                  <a:pt x="1420" y="6"/>
                </a:lnTo>
                <a:lnTo>
                  <a:pt x="1422" y="4"/>
                </a:lnTo>
                <a:lnTo>
                  <a:pt x="1424" y="3"/>
                </a:lnTo>
                <a:lnTo>
                  <a:pt x="1427" y="2"/>
                </a:lnTo>
                <a:lnTo>
                  <a:pt x="1428" y="1"/>
                </a:lnTo>
                <a:lnTo>
                  <a:pt x="1432" y="0"/>
                </a:lnTo>
                <a:lnTo>
                  <a:pt x="1435" y="0"/>
                </a:lnTo>
                <a:lnTo>
                  <a:pt x="1648" y="0"/>
                </a:lnTo>
                <a:lnTo>
                  <a:pt x="1651" y="0"/>
                </a:lnTo>
                <a:lnTo>
                  <a:pt x="1654" y="1"/>
                </a:lnTo>
                <a:lnTo>
                  <a:pt x="1657" y="2"/>
                </a:lnTo>
                <a:lnTo>
                  <a:pt x="1659" y="3"/>
                </a:lnTo>
                <a:lnTo>
                  <a:pt x="1661" y="4"/>
                </a:lnTo>
                <a:lnTo>
                  <a:pt x="1662" y="6"/>
                </a:lnTo>
                <a:lnTo>
                  <a:pt x="1664" y="8"/>
                </a:lnTo>
                <a:lnTo>
                  <a:pt x="1664" y="10"/>
                </a:lnTo>
                <a:lnTo>
                  <a:pt x="1664" y="11"/>
                </a:lnTo>
                <a:lnTo>
                  <a:pt x="1662" y="13"/>
                </a:lnTo>
                <a:lnTo>
                  <a:pt x="1661" y="15"/>
                </a:lnTo>
                <a:lnTo>
                  <a:pt x="1659" y="16"/>
                </a:lnTo>
                <a:lnTo>
                  <a:pt x="1657" y="17"/>
                </a:lnTo>
                <a:lnTo>
                  <a:pt x="1654" y="18"/>
                </a:lnTo>
                <a:lnTo>
                  <a:pt x="1651" y="19"/>
                </a:lnTo>
                <a:lnTo>
                  <a:pt x="1648" y="19"/>
                </a:lnTo>
                <a:lnTo>
                  <a:pt x="1648" y="19"/>
                </a:lnTo>
                <a:close/>
                <a:moveTo>
                  <a:pt x="1283" y="19"/>
                </a:moveTo>
                <a:lnTo>
                  <a:pt x="1070" y="19"/>
                </a:lnTo>
                <a:lnTo>
                  <a:pt x="1067" y="19"/>
                </a:lnTo>
                <a:lnTo>
                  <a:pt x="1063" y="18"/>
                </a:lnTo>
                <a:lnTo>
                  <a:pt x="1060" y="17"/>
                </a:lnTo>
                <a:lnTo>
                  <a:pt x="1059" y="16"/>
                </a:lnTo>
                <a:lnTo>
                  <a:pt x="1057" y="15"/>
                </a:lnTo>
                <a:lnTo>
                  <a:pt x="1055" y="13"/>
                </a:lnTo>
                <a:lnTo>
                  <a:pt x="1054" y="11"/>
                </a:lnTo>
                <a:lnTo>
                  <a:pt x="1054" y="10"/>
                </a:lnTo>
                <a:lnTo>
                  <a:pt x="1054" y="8"/>
                </a:lnTo>
                <a:lnTo>
                  <a:pt x="1055" y="6"/>
                </a:lnTo>
                <a:lnTo>
                  <a:pt x="1057" y="4"/>
                </a:lnTo>
                <a:lnTo>
                  <a:pt x="1059" y="3"/>
                </a:lnTo>
                <a:lnTo>
                  <a:pt x="1060" y="2"/>
                </a:lnTo>
                <a:lnTo>
                  <a:pt x="1063" y="1"/>
                </a:lnTo>
                <a:lnTo>
                  <a:pt x="1067" y="0"/>
                </a:lnTo>
                <a:lnTo>
                  <a:pt x="1070" y="0"/>
                </a:lnTo>
                <a:lnTo>
                  <a:pt x="1283" y="0"/>
                </a:lnTo>
                <a:lnTo>
                  <a:pt x="1286" y="0"/>
                </a:lnTo>
                <a:lnTo>
                  <a:pt x="1288" y="1"/>
                </a:lnTo>
                <a:lnTo>
                  <a:pt x="1291" y="2"/>
                </a:lnTo>
                <a:lnTo>
                  <a:pt x="1292" y="3"/>
                </a:lnTo>
                <a:lnTo>
                  <a:pt x="1296" y="4"/>
                </a:lnTo>
                <a:lnTo>
                  <a:pt x="1297" y="6"/>
                </a:lnTo>
                <a:lnTo>
                  <a:pt x="1297" y="8"/>
                </a:lnTo>
                <a:lnTo>
                  <a:pt x="1297" y="10"/>
                </a:lnTo>
                <a:lnTo>
                  <a:pt x="1297" y="11"/>
                </a:lnTo>
                <a:lnTo>
                  <a:pt x="1297" y="13"/>
                </a:lnTo>
                <a:lnTo>
                  <a:pt x="1296" y="15"/>
                </a:lnTo>
                <a:lnTo>
                  <a:pt x="1292" y="16"/>
                </a:lnTo>
                <a:lnTo>
                  <a:pt x="1291" y="17"/>
                </a:lnTo>
                <a:lnTo>
                  <a:pt x="1288" y="18"/>
                </a:lnTo>
                <a:lnTo>
                  <a:pt x="1286" y="19"/>
                </a:lnTo>
                <a:lnTo>
                  <a:pt x="1283" y="19"/>
                </a:lnTo>
                <a:lnTo>
                  <a:pt x="1283" y="19"/>
                </a:lnTo>
                <a:close/>
                <a:moveTo>
                  <a:pt x="916" y="19"/>
                </a:moveTo>
                <a:lnTo>
                  <a:pt x="703" y="19"/>
                </a:lnTo>
                <a:lnTo>
                  <a:pt x="700" y="19"/>
                </a:lnTo>
                <a:lnTo>
                  <a:pt x="697" y="18"/>
                </a:lnTo>
                <a:lnTo>
                  <a:pt x="693" y="17"/>
                </a:lnTo>
                <a:lnTo>
                  <a:pt x="692" y="16"/>
                </a:lnTo>
                <a:lnTo>
                  <a:pt x="690" y="15"/>
                </a:lnTo>
                <a:lnTo>
                  <a:pt x="689" y="13"/>
                </a:lnTo>
                <a:lnTo>
                  <a:pt x="687" y="11"/>
                </a:lnTo>
                <a:lnTo>
                  <a:pt x="687" y="10"/>
                </a:lnTo>
                <a:lnTo>
                  <a:pt x="687" y="8"/>
                </a:lnTo>
                <a:lnTo>
                  <a:pt x="689" y="6"/>
                </a:lnTo>
                <a:lnTo>
                  <a:pt x="690" y="4"/>
                </a:lnTo>
                <a:lnTo>
                  <a:pt x="692" y="3"/>
                </a:lnTo>
                <a:lnTo>
                  <a:pt x="693" y="2"/>
                </a:lnTo>
                <a:lnTo>
                  <a:pt x="697" y="1"/>
                </a:lnTo>
                <a:lnTo>
                  <a:pt x="700" y="0"/>
                </a:lnTo>
                <a:lnTo>
                  <a:pt x="703" y="0"/>
                </a:lnTo>
                <a:lnTo>
                  <a:pt x="916" y="0"/>
                </a:lnTo>
                <a:lnTo>
                  <a:pt x="919" y="0"/>
                </a:lnTo>
                <a:lnTo>
                  <a:pt x="922" y="1"/>
                </a:lnTo>
                <a:lnTo>
                  <a:pt x="926" y="2"/>
                </a:lnTo>
                <a:lnTo>
                  <a:pt x="927" y="3"/>
                </a:lnTo>
                <a:lnTo>
                  <a:pt x="929" y="4"/>
                </a:lnTo>
                <a:lnTo>
                  <a:pt x="930" y="6"/>
                </a:lnTo>
                <a:lnTo>
                  <a:pt x="932" y="8"/>
                </a:lnTo>
                <a:lnTo>
                  <a:pt x="932" y="10"/>
                </a:lnTo>
                <a:lnTo>
                  <a:pt x="932" y="11"/>
                </a:lnTo>
                <a:lnTo>
                  <a:pt x="930" y="13"/>
                </a:lnTo>
                <a:lnTo>
                  <a:pt x="929" y="15"/>
                </a:lnTo>
                <a:lnTo>
                  <a:pt x="927" y="16"/>
                </a:lnTo>
                <a:lnTo>
                  <a:pt x="926" y="17"/>
                </a:lnTo>
                <a:lnTo>
                  <a:pt x="922" y="18"/>
                </a:lnTo>
                <a:lnTo>
                  <a:pt x="919" y="19"/>
                </a:lnTo>
                <a:lnTo>
                  <a:pt x="916" y="19"/>
                </a:lnTo>
                <a:lnTo>
                  <a:pt x="916" y="19"/>
                </a:lnTo>
                <a:close/>
                <a:moveTo>
                  <a:pt x="551" y="19"/>
                </a:moveTo>
                <a:lnTo>
                  <a:pt x="336" y="19"/>
                </a:lnTo>
                <a:lnTo>
                  <a:pt x="333" y="19"/>
                </a:lnTo>
                <a:lnTo>
                  <a:pt x="332" y="18"/>
                </a:lnTo>
                <a:lnTo>
                  <a:pt x="328" y="17"/>
                </a:lnTo>
                <a:lnTo>
                  <a:pt x="327" y="16"/>
                </a:lnTo>
                <a:lnTo>
                  <a:pt x="323" y="15"/>
                </a:lnTo>
                <a:lnTo>
                  <a:pt x="323" y="13"/>
                </a:lnTo>
                <a:lnTo>
                  <a:pt x="322" y="11"/>
                </a:lnTo>
                <a:lnTo>
                  <a:pt x="322" y="10"/>
                </a:lnTo>
                <a:lnTo>
                  <a:pt x="322" y="8"/>
                </a:lnTo>
                <a:lnTo>
                  <a:pt x="323" y="6"/>
                </a:lnTo>
                <a:lnTo>
                  <a:pt x="323" y="4"/>
                </a:lnTo>
                <a:lnTo>
                  <a:pt x="327" y="3"/>
                </a:lnTo>
                <a:lnTo>
                  <a:pt x="328" y="2"/>
                </a:lnTo>
                <a:lnTo>
                  <a:pt x="332" y="1"/>
                </a:lnTo>
                <a:lnTo>
                  <a:pt x="333" y="0"/>
                </a:lnTo>
                <a:lnTo>
                  <a:pt x="336" y="0"/>
                </a:lnTo>
                <a:lnTo>
                  <a:pt x="551" y="0"/>
                </a:lnTo>
                <a:lnTo>
                  <a:pt x="552" y="0"/>
                </a:lnTo>
                <a:lnTo>
                  <a:pt x="556" y="1"/>
                </a:lnTo>
                <a:lnTo>
                  <a:pt x="559" y="2"/>
                </a:lnTo>
                <a:lnTo>
                  <a:pt x="561" y="3"/>
                </a:lnTo>
                <a:lnTo>
                  <a:pt x="562" y="4"/>
                </a:lnTo>
                <a:lnTo>
                  <a:pt x="564" y="6"/>
                </a:lnTo>
                <a:lnTo>
                  <a:pt x="565" y="8"/>
                </a:lnTo>
                <a:lnTo>
                  <a:pt x="565" y="10"/>
                </a:lnTo>
                <a:lnTo>
                  <a:pt x="565" y="11"/>
                </a:lnTo>
                <a:lnTo>
                  <a:pt x="564" y="13"/>
                </a:lnTo>
                <a:lnTo>
                  <a:pt x="562" y="15"/>
                </a:lnTo>
                <a:lnTo>
                  <a:pt x="561" y="16"/>
                </a:lnTo>
                <a:lnTo>
                  <a:pt x="559" y="17"/>
                </a:lnTo>
                <a:lnTo>
                  <a:pt x="556" y="18"/>
                </a:lnTo>
                <a:lnTo>
                  <a:pt x="552" y="19"/>
                </a:lnTo>
                <a:lnTo>
                  <a:pt x="551" y="19"/>
                </a:lnTo>
                <a:lnTo>
                  <a:pt x="551" y="19"/>
                </a:lnTo>
                <a:close/>
                <a:moveTo>
                  <a:pt x="184" y="19"/>
                </a:moveTo>
                <a:lnTo>
                  <a:pt x="16" y="19"/>
                </a:lnTo>
                <a:lnTo>
                  <a:pt x="30" y="10"/>
                </a:lnTo>
                <a:lnTo>
                  <a:pt x="30" y="38"/>
                </a:lnTo>
                <a:lnTo>
                  <a:pt x="30" y="39"/>
                </a:lnTo>
                <a:lnTo>
                  <a:pt x="29" y="41"/>
                </a:lnTo>
                <a:lnTo>
                  <a:pt x="27" y="43"/>
                </a:lnTo>
                <a:lnTo>
                  <a:pt x="26" y="44"/>
                </a:lnTo>
                <a:lnTo>
                  <a:pt x="24" y="45"/>
                </a:lnTo>
                <a:lnTo>
                  <a:pt x="21" y="46"/>
                </a:lnTo>
                <a:lnTo>
                  <a:pt x="18" y="47"/>
                </a:lnTo>
                <a:lnTo>
                  <a:pt x="16" y="47"/>
                </a:lnTo>
                <a:lnTo>
                  <a:pt x="13" y="47"/>
                </a:lnTo>
                <a:lnTo>
                  <a:pt x="10" y="46"/>
                </a:lnTo>
                <a:lnTo>
                  <a:pt x="6" y="45"/>
                </a:lnTo>
                <a:lnTo>
                  <a:pt x="5" y="44"/>
                </a:lnTo>
                <a:lnTo>
                  <a:pt x="3" y="43"/>
                </a:lnTo>
                <a:lnTo>
                  <a:pt x="2" y="41"/>
                </a:lnTo>
                <a:lnTo>
                  <a:pt x="0" y="39"/>
                </a:lnTo>
                <a:lnTo>
                  <a:pt x="0" y="38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3" y="4"/>
                </a:lnTo>
                <a:lnTo>
                  <a:pt x="5" y="3"/>
                </a:lnTo>
                <a:lnTo>
                  <a:pt x="6" y="2"/>
                </a:lnTo>
                <a:lnTo>
                  <a:pt x="10" y="1"/>
                </a:lnTo>
                <a:lnTo>
                  <a:pt x="13" y="0"/>
                </a:lnTo>
                <a:lnTo>
                  <a:pt x="16" y="0"/>
                </a:lnTo>
                <a:lnTo>
                  <a:pt x="184" y="0"/>
                </a:lnTo>
                <a:lnTo>
                  <a:pt x="187" y="0"/>
                </a:lnTo>
                <a:lnTo>
                  <a:pt x="191" y="1"/>
                </a:lnTo>
                <a:lnTo>
                  <a:pt x="192" y="2"/>
                </a:lnTo>
                <a:lnTo>
                  <a:pt x="195" y="3"/>
                </a:lnTo>
                <a:lnTo>
                  <a:pt x="197" y="4"/>
                </a:lnTo>
                <a:lnTo>
                  <a:pt x="199" y="6"/>
                </a:lnTo>
                <a:lnTo>
                  <a:pt x="199" y="8"/>
                </a:lnTo>
                <a:lnTo>
                  <a:pt x="200" y="10"/>
                </a:lnTo>
                <a:lnTo>
                  <a:pt x="199" y="11"/>
                </a:lnTo>
                <a:lnTo>
                  <a:pt x="199" y="13"/>
                </a:lnTo>
                <a:lnTo>
                  <a:pt x="197" y="15"/>
                </a:lnTo>
                <a:lnTo>
                  <a:pt x="195" y="16"/>
                </a:lnTo>
                <a:lnTo>
                  <a:pt x="192" y="17"/>
                </a:lnTo>
                <a:lnTo>
                  <a:pt x="191" y="18"/>
                </a:lnTo>
                <a:lnTo>
                  <a:pt x="187" y="19"/>
                </a:lnTo>
                <a:lnTo>
                  <a:pt x="184" y="19"/>
                </a:lnTo>
                <a:lnTo>
                  <a:pt x="184" y="19"/>
                </a:lnTo>
                <a:close/>
                <a:moveTo>
                  <a:pt x="30" y="133"/>
                </a:moveTo>
                <a:lnTo>
                  <a:pt x="30" y="266"/>
                </a:lnTo>
                <a:lnTo>
                  <a:pt x="30" y="268"/>
                </a:lnTo>
                <a:lnTo>
                  <a:pt x="29" y="270"/>
                </a:lnTo>
                <a:lnTo>
                  <a:pt x="27" y="271"/>
                </a:lnTo>
                <a:lnTo>
                  <a:pt x="26" y="273"/>
                </a:lnTo>
                <a:lnTo>
                  <a:pt x="24" y="274"/>
                </a:lnTo>
                <a:lnTo>
                  <a:pt x="21" y="275"/>
                </a:lnTo>
                <a:lnTo>
                  <a:pt x="18" y="275"/>
                </a:lnTo>
                <a:lnTo>
                  <a:pt x="16" y="276"/>
                </a:lnTo>
                <a:lnTo>
                  <a:pt x="13" y="275"/>
                </a:lnTo>
                <a:lnTo>
                  <a:pt x="10" y="275"/>
                </a:lnTo>
                <a:lnTo>
                  <a:pt x="6" y="274"/>
                </a:lnTo>
                <a:lnTo>
                  <a:pt x="5" y="273"/>
                </a:lnTo>
                <a:lnTo>
                  <a:pt x="3" y="271"/>
                </a:lnTo>
                <a:lnTo>
                  <a:pt x="2" y="270"/>
                </a:lnTo>
                <a:lnTo>
                  <a:pt x="0" y="268"/>
                </a:lnTo>
                <a:lnTo>
                  <a:pt x="0" y="266"/>
                </a:lnTo>
                <a:lnTo>
                  <a:pt x="0" y="133"/>
                </a:lnTo>
                <a:lnTo>
                  <a:pt x="0" y="131"/>
                </a:lnTo>
                <a:lnTo>
                  <a:pt x="2" y="129"/>
                </a:lnTo>
                <a:lnTo>
                  <a:pt x="3" y="127"/>
                </a:lnTo>
                <a:lnTo>
                  <a:pt x="5" y="126"/>
                </a:lnTo>
                <a:lnTo>
                  <a:pt x="6" y="125"/>
                </a:lnTo>
                <a:lnTo>
                  <a:pt x="10" y="124"/>
                </a:lnTo>
                <a:lnTo>
                  <a:pt x="13" y="123"/>
                </a:lnTo>
                <a:lnTo>
                  <a:pt x="16" y="123"/>
                </a:lnTo>
                <a:lnTo>
                  <a:pt x="18" y="123"/>
                </a:lnTo>
                <a:lnTo>
                  <a:pt x="21" y="124"/>
                </a:lnTo>
                <a:lnTo>
                  <a:pt x="24" y="125"/>
                </a:lnTo>
                <a:lnTo>
                  <a:pt x="26" y="126"/>
                </a:lnTo>
                <a:lnTo>
                  <a:pt x="27" y="127"/>
                </a:lnTo>
                <a:lnTo>
                  <a:pt x="29" y="129"/>
                </a:lnTo>
                <a:lnTo>
                  <a:pt x="30" y="131"/>
                </a:lnTo>
                <a:lnTo>
                  <a:pt x="30" y="133"/>
                </a:lnTo>
                <a:lnTo>
                  <a:pt x="30" y="133"/>
                </a:lnTo>
                <a:close/>
                <a:moveTo>
                  <a:pt x="30" y="361"/>
                </a:moveTo>
                <a:lnTo>
                  <a:pt x="30" y="495"/>
                </a:lnTo>
                <a:lnTo>
                  <a:pt x="30" y="497"/>
                </a:lnTo>
                <a:lnTo>
                  <a:pt x="29" y="498"/>
                </a:lnTo>
                <a:lnTo>
                  <a:pt x="27" y="500"/>
                </a:lnTo>
                <a:lnTo>
                  <a:pt x="26" y="501"/>
                </a:lnTo>
                <a:lnTo>
                  <a:pt x="24" y="503"/>
                </a:lnTo>
                <a:lnTo>
                  <a:pt x="21" y="504"/>
                </a:lnTo>
                <a:lnTo>
                  <a:pt x="18" y="504"/>
                </a:lnTo>
                <a:lnTo>
                  <a:pt x="16" y="504"/>
                </a:lnTo>
                <a:lnTo>
                  <a:pt x="13" y="504"/>
                </a:lnTo>
                <a:lnTo>
                  <a:pt x="10" y="504"/>
                </a:lnTo>
                <a:lnTo>
                  <a:pt x="6" y="503"/>
                </a:lnTo>
                <a:lnTo>
                  <a:pt x="5" y="501"/>
                </a:lnTo>
                <a:lnTo>
                  <a:pt x="3" y="500"/>
                </a:lnTo>
                <a:lnTo>
                  <a:pt x="2" y="498"/>
                </a:lnTo>
                <a:lnTo>
                  <a:pt x="0" y="497"/>
                </a:lnTo>
                <a:lnTo>
                  <a:pt x="0" y="495"/>
                </a:lnTo>
                <a:lnTo>
                  <a:pt x="0" y="361"/>
                </a:lnTo>
                <a:lnTo>
                  <a:pt x="0" y="359"/>
                </a:lnTo>
                <a:lnTo>
                  <a:pt x="2" y="358"/>
                </a:lnTo>
                <a:lnTo>
                  <a:pt x="3" y="356"/>
                </a:lnTo>
                <a:lnTo>
                  <a:pt x="5" y="355"/>
                </a:lnTo>
                <a:lnTo>
                  <a:pt x="6" y="353"/>
                </a:lnTo>
                <a:lnTo>
                  <a:pt x="10" y="353"/>
                </a:lnTo>
                <a:lnTo>
                  <a:pt x="13" y="352"/>
                </a:lnTo>
                <a:lnTo>
                  <a:pt x="16" y="352"/>
                </a:lnTo>
                <a:lnTo>
                  <a:pt x="18" y="352"/>
                </a:lnTo>
                <a:lnTo>
                  <a:pt x="21" y="353"/>
                </a:lnTo>
                <a:lnTo>
                  <a:pt x="24" y="353"/>
                </a:lnTo>
                <a:lnTo>
                  <a:pt x="26" y="355"/>
                </a:lnTo>
                <a:lnTo>
                  <a:pt x="27" y="356"/>
                </a:lnTo>
                <a:lnTo>
                  <a:pt x="29" y="358"/>
                </a:lnTo>
                <a:lnTo>
                  <a:pt x="30" y="359"/>
                </a:lnTo>
                <a:lnTo>
                  <a:pt x="30" y="361"/>
                </a:lnTo>
                <a:lnTo>
                  <a:pt x="30" y="361"/>
                </a:lnTo>
                <a:close/>
                <a:moveTo>
                  <a:pt x="30" y="590"/>
                </a:moveTo>
                <a:lnTo>
                  <a:pt x="30" y="723"/>
                </a:lnTo>
                <a:lnTo>
                  <a:pt x="30" y="725"/>
                </a:lnTo>
                <a:lnTo>
                  <a:pt x="29" y="727"/>
                </a:lnTo>
                <a:lnTo>
                  <a:pt x="27" y="729"/>
                </a:lnTo>
                <a:lnTo>
                  <a:pt x="26" y="730"/>
                </a:lnTo>
                <a:lnTo>
                  <a:pt x="24" y="731"/>
                </a:lnTo>
                <a:lnTo>
                  <a:pt x="21" y="732"/>
                </a:lnTo>
                <a:lnTo>
                  <a:pt x="18" y="733"/>
                </a:lnTo>
                <a:lnTo>
                  <a:pt x="16" y="733"/>
                </a:lnTo>
                <a:lnTo>
                  <a:pt x="13" y="733"/>
                </a:lnTo>
                <a:lnTo>
                  <a:pt x="10" y="732"/>
                </a:lnTo>
                <a:lnTo>
                  <a:pt x="6" y="731"/>
                </a:lnTo>
                <a:lnTo>
                  <a:pt x="5" y="730"/>
                </a:lnTo>
                <a:lnTo>
                  <a:pt x="3" y="729"/>
                </a:lnTo>
                <a:lnTo>
                  <a:pt x="2" y="727"/>
                </a:lnTo>
                <a:lnTo>
                  <a:pt x="0" y="725"/>
                </a:lnTo>
                <a:lnTo>
                  <a:pt x="0" y="723"/>
                </a:lnTo>
                <a:lnTo>
                  <a:pt x="0" y="590"/>
                </a:lnTo>
                <a:lnTo>
                  <a:pt x="0" y="588"/>
                </a:lnTo>
                <a:lnTo>
                  <a:pt x="2" y="586"/>
                </a:lnTo>
                <a:lnTo>
                  <a:pt x="3" y="584"/>
                </a:lnTo>
                <a:lnTo>
                  <a:pt x="5" y="583"/>
                </a:lnTo>
                <a:lnTo>
                  <a:pt x="6" y="582"/>
                </a:lnTo>
                <a:lnTo>
                  <a:pt x="10" y="581"/>
                </a:lnTo>
                <a:lnTo>
                  <a:pt x="13" y="580"/>
                </a:lnTo>
                <a:lnTo>
                  <a:pt x="16" y="580"/>
                </a:lnTo>
                <a:lnTo>
                  <a:pt x="18" y="580"/>
                </a:lnTo>
                <a:lnTo>
                  <a:pt x="21" y="581"/>
                </a:lnTo>
                <a:lnTo>
                  <a:pt x="24" y="582"/>
                </a:lnTo>
                <a:lnTo>
                  <a:pt x="26" y="583"/>
                </a:lnTo>
                <a:lnTo>
                  <a:pt x="27" y="584"/>
                </a:lnTo>
                <a:lnTo>
                  <a:pt x="29" y="586"/>
                </a:lnTo>
                <a:lnTo>
                  <a:pt x="30" y="588"/>
                </a:lnTo>
                <a:lnTo>
                  <a:pt x="30" y="590"/>
                </a:lnTo>
                <a:lnTo>
                  <a:pt x="30" y="590"/>
                </a:lnTo>
                <a:close/>
                <a:moveTo>
                  <a:pt x="30" y="820"/>
                </a:moveTo>
                <a:lnTo>
                  <a:pt x="30" y="953"/>
                </a:lnTo>
                <a:lnTo>
                  <a:pt x="30" y="955"/>
                </a:lnTo>
                <a:lnTo>
                  <a:pt x="29" y="956"/>
                </a:lnTo>
                <a:lnTo>
                  <a:pt x="27" y="958"/>
                </a:lnTo>
                <a:lnTo>
                  <a:pt x="26" y="959"/>
                </a:lnTo>
                <a:lnTo>
                  <a:pt x="24" y="961"/>
                </a:lnTo>
                <a:lnTo>
                  <a:pt x="21" y="962"/>
                </a:lnTo>
                <a:lnTo>
                  <a:pt x="18" y="962"/>
                </a:lnTo>
                <a:lnTo>
                  <a:pt x="16" y="962"/>
                </a:lnTo>
                <a:lnTo>
                  <a:pt x="13" y="962"/>
                </a:lnTo>
                <a:lnTo>
                  <a:pt x="10" y="962"/>
                </a:lnTo>
                <a:lnTo>
                  <a:pt x="6" y="961"/>
                </a:lnTo>
                <a:lnTo>
                  <a:pt x="5" y="959"/>
                </a:lnTo>
                <a:lnTo>
                  <a:pt x="3" y="958"/>
                </a:lnTo>
                <a:lnTo>
                  <a:pt x="2" y="956"/>
                </a:lnTo>
                <a:lnTo>
                  <a:pt x="0" y="955"/>
                </a:lnTo>
                <a:lnTo>
                  <a:pt x="0" y="953"/>
                </a:lnTo>
                <a:lnTo>
                  <a:pt x="0" y="820"/>
                </a:lnTo>
                <a:lnTo>
                  <a:pt x="0" y="818"/>
                </a:lnTo>
                <a:lnTo>
                  <a:pt x="2" y="816"/>
                </a:lnTo>
                <a:lnTo>
                  <a:pt x="3" y="814"/>
                </a:lnTo>
                <a:lnTo>
                  <a:pt x="5" y="813"/>
                </a:lnTo>
                <a:lnTo>
                  <a:pt x="6" y="812"/>
                </a:lnTo>
                <a:lnTo>
                  <a:pt x="10" y="811"/>
                </a:lnTo>
                <a:lnTo>
                  <a:pt x="13" y="810"/>
                </a:lnTo>
                <a:lnTo>
                  <a:pt x="16" y="810"/>
                </a:lnTo>
                <a:lnTo>
                  <a:pt x="18" y="810"/>
                </a:lnTo>
                <a:lnTo>
                  <a:pt x="21" y="811"/>
                </a:lnTo>
                <a:lnTo>
                  <a:pt x="24" y="812"/>
                </a:lnTo>
                <a:lnTo>
                  <a:pt x="26" y="813"/>
                </a:lnTo>
                <a:lnTo>
                  <a:pt x="27" y="814"/>
                </a:lnTo>
                <a:lnTo>
                  <a:pt x="29" y="816"/>
                </a:lnTo>
                <a:lnTo>
                  <a:pt x="30" y="818"/>
                </a:lnTo>
                <a:lnTo>
                  <a:pt x="30" y="820"/>
                </a:lnTo>
                <a:lnTo>
                  <a:pt x="30" y="820"/>
                </a:lnTo>
                <a:close/>
                <a:moveTo>
                  <a:pt x="30" y="1048"/>
                </a:moveTo>
                <a:lnTo>
                  <a:pt x="30" y="1182"/>
                </a:lnTo>
                <a:lnTo>
                  <a:pt x="30" y="1183"/>
                </a:lnTo>
                <a:lnTo>
                  <a:pt x="29" y="1185"/>
                </a:lnTo>
                <a:lnTo>
                  <a:pt x="27" y="1187"/>
                </a:lnTo>
                <a:lnTo>
                  <a:pt x="26" y="1188"/>
                </a:lnTo>
                <a:lnTo>
                  <a:pt x="24" y="1189"/>
                </a:lnTo>
                <a:lnTo>
                  <a:pt x="21" y="1190"/>
                </a:lnTo>
                <a:lnTo>
                  <a:pt x="18" y="1191"/>
                </a:lnTo>
                <a:lnTo>
                  <a:pt x="16" y="1191"/>
                </a:lnTo>
                <a:lnTo>
                  <a:pt x="13" y="1191"/>
                </a:lnTo>
                <a:lnTo>
                  <a:pt x="10" y="1190"/>
                </a:lnTo>
                <a:lnTo>
                  <a:pt x="6" y="1189"/>
                </a:lnTo>
                <a:lnTo>
                  <a:pt x="5" y="1188"/>
                </a:lnTo>
                <a:lnTo>
                  <a:pt x="3" y="1187"/>
                </a:lnTo>
                <a:lnTo>
                  <a:pt x="2" y="1185"/>
                </a:lnTo>
                <a:lnTo>
                  <a:pt x="0" y="1183"/>
                </a:lnTo>
                <a:lnTo>
                  <a:pt x="0" y="1182"/>
                </a:lnTo>
                <a:lnTo>
                  <a:pt x="0" y="1048"/>
                </a:lnTo>
                <a:lnTo>
                  <a:pt x="0" y="1046"/>
                </a:lnTo>
                <a:lnTo>
                  <a:pt x="2" y="1044"/>
                </a:lnTo>
                <a:lnTo>
                  <a:pt x="3" y="1043"/>
                </a:lnTo>
                <a:lnTo>
                  <a:pt x="5" y="1041"/>
                </a:lnTo>
                <a:lnTo>
                  <a:pt x="6" y="1040"/>
                </a:lnTo>
                <a:lnTo>
                  <a:pt x="10" y="1039"/>
                </a:lnTo>
                <a:lnTo>
                  <a:pt x="13" y="1039"/>
                </a:lnTo>
                <a:lnTo>
                  <a:pt x="16" y="1039"/>
                </a:lnTo>
                <a:lnTo>
                  <a:pt x="18" y="1039"/>
                </a:lnTo>
                <a:lnTo>
                  <a:pt x="21" y="1039"/>
                </a:lnTo>
                <a:lnTo>
                  <a:pt x="24" y="1040"/>
                </a:lnTo>
                <a:lnTo>
                  <a:pt x="26" y="1041"/>
                </a:lnTo>
                <a:lnTo>
                  <a:pt x="27" y="1043"/>
                </a:lnTo>
                <a:lnTo>
                  <a:pt x="29" y="1044"/>
                </a:lnTo>
                <a:lnTo>
                  <a:pt x="30" y="1046"/>
                </a:lnTo>
                <a:lnTo>
                  <a:pt x="30" y="1048"/>
                </a:lnTo>
                <a:lnTo>
                  <a:pt x="30" y="1048"/>
                </a:lnTo>
                <a:close/>
                <a:moveTo>
                  <a:pt x="30" y="1277"/>
                </a:moveTo>
                <a:lnTo>
                  <a:pt x="30" y="1410"/>
                </a:lnTo>
                <a:lnTo>
                  <a:pt x="30" y="1412"/>
                </a:lnTo>
                <a:lnTo>
                  <a:pt x="29" y="1414"/>
                </a:lnTo>
                <a:lnTo>
                  <a:pt x="27" y="1415"/>
                </a:lnTo>
                <a:lnTo>
                  <a:pt x="26" y="1417"/>
                </a:lnTo>
                <a:lnTo>
                  <a:pt x="24" y="1418"/>
                </a:lnTo>
                <a:lnTo>
                  <a:pt x="21" y="1419"/>
                </a:lnTo>
                <a:lnTo>
                  <a:pt x="18" y="1419"/>
                </a:lnTo>
                <a:lnTo>
                  <a:pt x="16" y="1420"/>
                </a:lnTo>
                <a:lnTo>
                  <a:pt x="13" y="1419"/>
                </a:lnTo>
                <a:lnTo>
                  <a:pt x="10" y="1419"/>
                </a:lnTo>
                <a:lnTo>
                  <a:pt x="6" y="1418"/>
                </a:lnTo>
                <a:lnTo>
                  <a:pt x="5" y="1417"/>
                </a:lnTo>
                <a:lnTo>
                  <a:pt x="3" y="1415"/>
                </a:lnTo>
                <a:lnTo>
                  <a:pt x="2" y="1414"/>
                </a:lnTo>
                <a:lnTo>
                  <a:pt x="0" y="1412"/>
                </a:lnTo>
                <a:lnTo>
                  <a:pt x="0" y="1410"/>
                </a:lnTo>
                <a:lnTo>
                  <a:pt x="0" y="1277"/>
                </a:lnTo>
                <a:lnTo>
                  <a:pt x="0" y="1275"/>
                </a:lnTo>
                <a:lnTo>
                  <a:pt x="2" y="1273"/>
                </a:lnTo>
                <a:lnTo>
                  <a:pt x="3" y="1271"/>
                </a:lnTo>
                <a:lnTo>
                  <a:pt x="5" y="1270"/>
                </a:lnTo>
                <a:lnTo>
                  <a:pt x="6" y="1269"/>
                </a:lnTo>
                <a:lnTo>
                  <a:pt x="10" y="1268"/>
                </a:lnTo>
                <a:lnTo>
                  <a:pt x="13" y="1267"/>
                </a:lnTo>
                <a:lnTo>
                  <a:pt x="16" y="1267"/>
                </a:lnTo>
                <a:lnTo>
                  <a:pt x="18" y="1267"/>
                </a:lnTo>
                <a:lnTo>
                  <a:pt x="21" y="1268"/>
                </a:lnTo>
                <a:lnTo>
                  <a:pt x="24" y="1269"/>
                </a:lnTo>
                <a:lnTo>
                  <a:pt x="26" y="1270"/>
                </a:lnTo>
                <a:lnTo>
                  <a:pt x="27" y="1271"/>
                </a:lnTo>
                <a:lnTo>
                  <a:pt x="29" y="1273"/>
                </a:lnTo>
                <a:lnTo>
                  <a:pt x="30" y="1275"/>
                </a:lnTo>
                <a:lnTo>
                  <a:pt x="30" y="1277"/>
                </a:lnTo>
                <a:lnTo>
                  <a:pt x="30" y="1277"/>
                </a:lnTo>
                <a:close/>
                <a:moveTo>
                  <a:pt x="30" y="1505"/>
                </a:moveTo>
                <a:lnTo>
                  <a:pt x="30" y="1639"/>
                </a:lnTo>
                <a:lnTo>
                  <a:pt x="30" y="1640"/>
                </a:lnTo>
                <a:lnTo>
                  <a:pt x="29" y="1642"/>
                </a:lnTo>
                <a:lnTo>
                  <a:pt x="27" y="1644"/>
                </a:lnTo>
                <a:lnTo>
                  <a:pt x="26" y="1645"/>
                </a:lnTo>
                <a:lnTo>
                  <a:pt x="24" y="1647"/>
                </a:lnTo>
                <a:lnTo>
                  <a:pt x="21" y="1647"/>
                </a:lnTo>
                <a:lnTo>
                  <a:pt x="18" y="1648"/>
                </a:lnTo>
                <a:lnTo>
                  <a:pt x="16" y="1648"/>
                </a:lnTo>
                <a:lnTo>
                  <a:pt x="13" y="1648"/>
                </a:lnTo>
                <a:lnTo>
                  <a:pt x="10" y="1647"/>
                </a:lnTo>
                <a:lnTo>
                  <a:pt x="6" y="1647"/>
                </a:lnTo>
                <a:lnTo>
                  <a:pt x="5" y="1645"/>
                </a:lnTo>
                <a:lnTo>
                  <a:pt x="3" y="1644"/>
                </a:lnTo>
                <a:lnTo>
                  <a:pt x="2" y="1642"/>
                </a:lnTo>
                <a:lnTo>
                  <a:pt x="0" y="1640"/>
                </a:lnTo>
                <a:lnTo>
                  <a:pt x="0" y="1639"/>
                </a:lnTo>
                <a:lnTo>
                  <a:pt x="0" y="1505"/>
                </a:lnTo>
                <a:lnTo>
                  <a:pt x="0" y="1503"/>
                </a:lnTo>
                <a:lnTo>
                  <a:pt x="2" y="1502"/>
                </a:lnTo>
                <a:lnTo>
                  <a:pt x="3" y="1500"/>
                </a:lnTo>
                <a:lnTo>
                  <a:pt x="5" y="1499"/>
                </a:lnTo>
                <a:lnTo>
                  <a:pt x="6" y="1497"/>
                </a:lnTo>
                <a:lnTo>
                  <a:pt x="10" y="1497"/>
                </a:lnTo>
                <a:lnTo>
                  <a:pt x="13" y="1496"/>
                </a:lnTo>
                <a:lnTo>
                  <a:pt x="16" y="1496"/>
                </a:lnTo>
                <a:lnTo>
                  <a:pt x="18" y="1496"/>
                </a:lnTo>
                <a:lnTo>
                  <a:pt x="21" y="1497"/>
                </a:lnTo>
                <a:lnTo>
                  <a:pt x="24" y="1497"/>
                </a:lnTo>
                <a:lnTo>
                  <a:pt x="26" y="1499"/>
                </a:lnTo>
                <a:lnTo>
                  <a:pt x="27" y="1500"/>
                </a:lnTo>
                <a:lnTo>
                  <a:pt x="29" y="1502"/>
                </a:lnTo>
                <a:lnTo>
                  <a:pt x="30" y="1503"/>
                </a:lnTo>
                <a:lnTo>
                  <a:pt x="30" y="1505"/>
                </a:lnTo>
                <a:lnTo>
                  <a:pt x="30" y="1505"/>
                </a:lnTo>
                <a:close/>
                <a:moveTo>
                  <a:pt x="30" y="1735"/>
                </a:moveTo>
                <a:lnTo>
                  <a:pt x="30" y="1868"/>
                </a:lnTo>
                <a:lnTo>
                  <a:pt x="30" y="1870"/>
                </a:lnTo>
                <a:lnTo>
                  <a:pt x="29" y="1872"/>
                </a:lnTo>
                <a:lnTo>
                  <a:pt x="27" y="1874"/>
                </a:lnTo>
                <a:lnTo>
                  <a:pt x="26" y="1875"/>
                </a:lnTo>
                <a:lnTo>
                  <a:pt x="24" y="1876"/>
                </a:lnTo>
                <a:lnTo>
                  <a:pt x="21" y="1877"/>
                </a:lnTo>
                <a:lnTo>
                  <a:pt x="18" y="1878"/>
                </a:lnTo>
                <a:lnTo>
                  <a:pt x="16" y="1878"/>
                </a:lnTo>
                <a:lnTo>
                  <a:pt x="13" y="1878"/>
                </a:lnTo>
                <a:lnTo>
                  <a:pt x="10" y="1877"/>
                </a:lnTo>
                <a:lnTo>
                  <a:pt x="6" y="1876"/>
                </a:lnTo>
                <a:lnTo>
                  <a:pt x="5" y="1875"/>
                </a:lnTo>
                <a:lnTo>
                  <a:pt x="3" y="1874"/>
                </a:lnTo>
                <a:lnTo>
                  <a:pt x="2" y="1872"/>
                </a:lnTo>
                <a:lnTo>
                  <a:pt x="0" y="1870"/>
                </a:lnTo>
                <a:lnTo>
                  <a:pt x="0" y="1868"/>
                </a:lnTo>
                <a:lnTo>
                  <a:pt x="0" y="1735"/>
                </a:lnTo>
                <a:lnTo>
                  <a:pt x="0" y="1733"/>
                </a:lnTo>
                <a:lnTo>
                  <a:pt x="2" y="1731"/>
                </a:lnTo>
                <a:lnTo>
                  <a:pt x="3" y="1729"/>
                </a:lnTo>
                <a:lnTo>
                  <a:pt x="5" y="1728"/>
                </a:lnTo>
                <a:lnTo>
                  <a:pt x="6" y="1727"/>
                </a:lnTo>
                <a:lnTo>
                  <a:pt x="10" y="1726"/>
                </a:lnTo>
                <a:lnTo>
                  <a:pt x="13" y="1725"/>
                </a:lnTo>
                <a:lnTo>
                  <a:pt x="16" y="1725"/>
                </a:lnTo>
                <a:lnTo>
                  <a:pt x="18" y="1725"/>
                </a:lnTo>
                <a:lnTo>
                  <a:pt x="21" y="1726"/>
                </a:lnTo>
                <a:lnTo>
                  <a:pt x="24" y="1727"/>
                </a:lnTo>
                <a:lnTo>
                  <a:pt x="26" y="1728"/>
                </a:lnTo>
                <a:lnTo>
                  <a:pt x="27" y="1729"/>
                </a:lnTo>
                <a:lnTo>
                  <a:pt x="29" y="1731"/>
                </a:lnTo>
                <a:lnTo>
                  <a:pt x="30" y="1733"/>
                </a:lnTo>
                <a:lnTo>
                  <a:pt x="30" y="1735"/>
                </a:lnTo>
                <a:lnTo>
                  <a:pt x="30" y="1735"/>
                </a:lnTo>
                <a:close/>
                <a:moveTo>
                  <a:pt x="30" y="1964"/>
                </a:moveTo>
                <a:lnTo>
                  <a:pt x="30" y="2097"/>
                </a:lnTo>
                <a:lnTo>
                  <a:pt x="30" y="2099"/>
                </a:lnTo>
                <a:lnTo>
                  <a:pt x="29" y="2100"/>
                </a:lnTo>
                <a:lnTo>
                  <a:pt x="27" y="2102"/>
                </a:lnTo>
                <a:lnTo>
                  <a:pt x="26" y="2103"/>
                </a:lnTo>
                <a:lnTo>
                  <a:pt x="24" y="2105"/>
                </a:lnTo>
                <a:lnTo>
                  <a:pt x="21" y="2106"/>
                </a:lnTo>
                <a:lnTo>
                  <a:pt x="18" y="2106"/>
                </a:lnTo>
                <a:lnTo>
                  <a:pt x="16" y="2106"/>
                </a:lnTo>
                <a:lnTo>
                  <a:pt x="13" y="2106"/>
                </a:lnTo>
                <a:lnTo>
                  <a:pt x="10" y="2106"/>
                </a:lnTo>
                <a:lnTo>
                  <a:pt x="6" y="2105"/>
                </a:lnTo>
                <a:lnTo>
                  <a:pt x="5" y="2103"/>
                </a:lnTo>
                <a:lnTo>
                  <a:pt x="3" y="2102"/>
                </a:lnTo>
                <a:lnTo>
                  <a:pt x="2" y="2100"/>
                </a:lnTo>
                <a:lnTo>
                  <a:pt x="0" y="2099"/>
                </a:lnTo>
                <a:lnTo>
                  <a:pt x="0" y="2097"/>
                </a:lnTo>
                <a:lnTo>
                  <a:pt x="0" y="1964"/>
                </a:lnTo>
                <a:lnTo>
                  <a:pt x="0" y="1962"/>
                </a:lnTo>
                <a:lnTo>
                  <a:pt x="2" y="1960"/>
                </a:lnTo>
                <a:lnTo>
                  <a:pt x="3" y="1958"/>
                </a:lnTo>
                <a:lnTo>
                  <a:pt x="5" y="1957"/>
                </a:lnTo>
                <a:lnTo>
                  <a:pt x="6" y="1956"/>
                </a:lnTo>
                <a:lnTo>
                  <a:pt x="10" y="1955"/>
                </a:lnTo>
                <a:lnTo>
                  <a:pt x="13" y="1954"/>
                </a:lnTo>
                <a:lnTo>
                  <a:pt x="16" y="1954"/>
                </a:lnTo>
                <a:lnTo>
                  <a:pt x="18" y="1954"/>
                </a:lnTo>
                <a:lnTo>
                  <a:pt x="21" y="1955"/>
                </a:lnTo>
                <a:lnTo>
                  <a:pt x="24" y="1956"/>
                </a:lnTo>
                <a:lnTo>
                  <a:pt x="26" y="1957"/>
                </a:lnTo>
                <a:lnTo>
                  <a:pt x="27" y="1958"/>
                </a:lnTo>
                <a:lnTo>
                  <a:pt x="29" y="1960"/>
                </a:lnTo>
                <a:lnTo>
                  <a:pt x="30" y="1962"/>
                </a:lnTo>
                <a:lnTo>
                  <a:pt x="30" y="1964"/>
                </a:lnTo>
                <a:lnTo>
                  <a:pt x="30" y="1964"/>
                </a:lnTo>
                <a:close/>
                <a:moveTo>
                  <a:pt x="30" y="2192"/>
                </a:moveTo>
                <a:lnTo>
                  <a:pt x="30" y="2326"/>
                </a:lnTo>
                <a:lnTo>
                  <a:pt x="30" y="2327"/>
                </a:lnTo>
                <a:lnTo>
                  <a:pt x="29" y="2329"/>
                </a:lnTo>
                <a:lnTo>
                  <a:pt x="27" y="2331"/>
                </a:lnTo>
                <a:lnTo>
                  <a:pt x="26" y="2332"/>
                </a:lnTo>
                <a:lnTo>
                  <a:pt x="24" y="2333"/>
                </a:lnTo>
                <a:lnTo>
                  <a:pt x="21" y="2334"/>
                </a:lnTo>
                <a:lnTo>
                  <a:pt x="18" y="2335"/>
                </a:lnTo>
                <a:lnTo>
                  <a:pt x="16" y="2335"/>
                </a:lnTo>
                <a:lnTo>
                  <a:pt x="13" y="2335"/>
                </a:lnTo>
                <a:lnTo>
                  <a:pt x="10" y="2334"/>
                </a:lnTo>
                <a:lnTo>
                  <a:pt x="6" y="2333"/>
                </a:lnTo>
                <a:lnTo>
                  <a:pt x="5" y="2332"/>
                </a:lnTo>
                <a:lnTo>
                  <a:pt x="3" y="2331"/>
                </a:lnTo>
                <a:lnTo>
                  <a:pt x="2" y="2329"/>
                </a:lnTo>
                <a:lnTo>
                  <a:pt x="0" y="2327"/>
                </a:lnTo>
                <a:lnTo>
                  <a:pt x="0" y="2326"/>
                </a:lnTo>
                <a:lnTo>
                  <a:pt x="0" y="2192"/>
                </a:lnTo>
                <a:lnTo>
                  <a:pt x="0" y="2190"/>
                </a:lnTo>
                <a:lnTo>
                  <a:pt x="2" y="2188"/>
                </a:lnTo>
                <a:lnTo>
                  <a:pt x="3" y="2187"/>
                </a:lnTo>
                <a:lnTo>
                  <a:pt x="5" y="2185"/>
                </a:lnTo>
                <a:lnTo>
                  <a:pt x="6" y="2184"/>
                </a:lnTo>
                <a:lnTo>
                  <a:pt x="10" y="2183"/>
                </a:lnTo>
                <a:lnTo>
                  <a:pt x="13" y="2183"/>
                </a:lnTo>
                <a:lnTo>
                  <a:pt x="16" y="2183"/>
                </a:lnTo>
                <a:lnTo>
                  <a:pt x="18" y="2183"/>
                </a:lnTo>
                <a:lnTo>
                  <a:pt x="21" y="2183"/>
                </a:lnTo>
                <a:lnTo>
                  <a:pt x="24" y="2184"/>
                </a:lnTo>
                <a:lnTo>
                  <a:pt x="26" y="2185"/>
                </a:lnTo>
                <a:lnTo>
                  <a:pt x="27" y="2187"/>
                </a:lnTo>
                <a:lnTo>
                  <a:pt x="29" y="2188"/>
                </a:lnTo>
                <a:lnTo>
                  <a:pt x="30" y="2190"/>
                </a:lnTo>
                <a:lnTo>
                  <a:pt x="30" y="2192"/>
                </a:lnTo>
                <a:lnTo>
                  <a:pt x="30" y="2192"/>
                </a:lnTo>
                <a:close/>
                <a:moveTo>
                  <a:pt x="30" y="2421"/>
                </a:moveTo>
                <a:lnTo>
                  <a:pt x="30" y="2554"/>
                </a:lnTo>
                <a:lnTo>
                  <a:pt x="30" y="2556"/>
                </a:lnTo>
                <a:lnTo>
                  <a:pt x="29" y="2558"/>
                </a:lnTo>
                <a:lnTo>
                  <a:pt x="27" y="2559"/>
                </a:lnTo>
                <a:lnTo>
                  <a:pt x="26" y="2561"/>
                </a:lnTo>
                <a:lnTo>
                  <a:pt x="24" y="2562"/>
                </a:lnTo>
                <a:lnTo>
                  <a:pt x="21" y="2563"/>
                </a:lnTo>
                <a:lnTo>
                  <a:pt x="18" y="2563"/>
                </a:lnTo>
                <a:lnTo>
                  <a:pt x="16" y="2564"/>
                </a:lnTo>
                <a:lnTo>
                  <a:pt x="13" y="2563"/>
                </a:lnTo>
                <a:lnTo>
                  <a:pt x="10" y="2563"/>
                </a:lnTo>
                <a:lnTo>
                  <a:pt x="6" y="2562"/>
                </a:lnTo>
                <a:lnTo>
                  <a:pt x="5" y="2561"/>
                </a:lnTo>
                <a:lnTo>
                  <a:pt x="3" y="2559"/>
                </a:lnTo>
                <a:lnTo>
                  <a:pt x="2" y="2558"/>
                </a:lnTo>
                <a:lnTo>
                  <a:pt x="0" y="2556"/>
                </a:lnTo>
                <a:lnTo>
                  <a:pt x="0" y="2554"/>
                </a:lnTo>
                <a:lnTo>
                  <a:pt x="0" y="2421"/>
                </a:lnTo>
                <a:lnTo>
                  <a:pt x="0" y="2419"/>
                </a:lnTo>
                <a:lnTo>
                  <a:pt x="2" y="2417"/>
                </a:lnTo>
                <a:lnTo>
                  <a:pt x="3" y="2415"/>
                </a:lnTo>
                <a:lnTo>
                  <a:pt x="5" y="2414"/>
                </a:lnTo>
                <a:lnTo>
                  <a:pt x="6" y="2413"/>
                </a:lnTo>
                <a:lnTo>
                  <a:pt x="10" y="2412"/>
                </a:lnTo>
                <a:lnTo>
                  <a:pt x="13" y="2411"/>
                </a:lnTo>
                <a:lnTo>
                  <a:pt x="16" y="2411"/>
                </a:lnTo>
                <a:lnTo>
                  <a:pt x="18" y="2411"/>
                </a:lnTo>
                <a:lnTo>
                  <a:pt x="21" y="2412"/>
                </a:lnTo>
                <a:lnTo>
                  <a:pt x="24" y="2413"/>
                </a:lnTo>
                <a:lnTo>
                  <a:pt x="26" y="2414"/>
                </a:lnTo>
                <a:lnTo>
                  <a:pt x="27" y="2415"/>
                </a:lnTo>
                <a:lnTo>
                  <a:pt x="29" y="2417"/>
                </a:lnTo>
                <a:lnTo>
                  <a:pt x="30" y="2419"/>
                </a:lnTo>
                <a:lnTo>
                  <a:pt x="30" y="2421"/>
                </a:lnTo>
                <a:lnTo>
                  <a:pt x="30" y="2421"/>
                </a:lnTo>
                <a:close/>
                <a:moveTo>
                  <a:pt x="30" y="2650"/>
                </a:moveTo>
                <a:lnTo>
                  <a:pt x="30" y="2784"/>
                </a:lnTo>
                <a:lnTo>
                  <a:pt x="30" y="2785"/>
                </a:lnTo>
                <a:lnTo>
                  <a:pt x="29" y="2787"/>
                </a:lnTo>
                <a:lnTo>
                  <a:pt x="27" y="2789"/>
                </a:lnTo>
                <a:lnTo>
                  <a:pt x="26" y="2790"/>
                </a:lnTo>
                <a:lnTo>
                  <a:pt x="24" y="2792"/>
                </a:lnTo>
                <a:lnTo>
                  <a:pt x="21" y="2792"/>
                </a:lnTo>
                <a:lnTo>
                  <a:pt x="18" y="2793"/>
                </a:lnTo>
                <a:lnTo>
                  <a:pt x="16" y="2793"/>
                </a:lnTo>
                <a:lnTo>
                  <a:pt x="13" y="2793"/>
                </a:lnTo>
                <a:lnTo>
                  <a:pt x="10" y="2792"/>
                </a:lnTo>
                <a:lnTo>
                  <a:pt x="6" y="2792"/>
                </a:lnTo>
                <a:lnTo>
                  <a:pt x="5" y="2790"/>
                </a:lnTo>
                <a:lnTo>
                  <a:pt x="3" y="2789"/>
                </a:lnTo>
                <a:lnTo>
                  <a:pt x="2" y="2787"/>
                </a:lnTo>
                <a:lnTo>
                  <a:pt x="0" y="2785"/>
                </a:lnTo>
                <a:lnTo>
                  <a:pt x="0" y="2784"/>
                </a:lnTo>
                <a:lnTo>
                  <a:pt x="0" y="2650"/>
                </a:lnTo>
                <a:lnTo>
                  <a:pt x="0" y="2648"/>
                </a:lnTo>
                <a:lnTo>
                  <a:pt x="2" y="2647"/>
                </a:lnTo>
                <a:lnTo>
                  <a:pt x="3" y="2645"/>
                </a:lnTo>
                <a:lnTo>
                  <a:pt x="5" y="2644"/>
                </a:lnTo>
                <a:lnTo>
                  <a:pt x="6" y="2642"/>
                </a:lnTo>
                <a:lnTo>
                  <a:pt x="10" y="2642"/>
                </a:lnTo>
                <a:lnTo>
                  <a:pt x="13" y="2641"/>
                </a:lnTo>
                <a:lnTo>
                  <a:pt x="16" y="2641"/>
                </a:lnTo>
                <a:lnTo>
                  <a:pt x="18" y="2641"/>
                </a:lnTo>
                <a:lnTo>
                  <a:pt x="21" y="2642"/>
                </a:lnTo>
                <a:lnTo>
                  <a:pt x="24" y="2642"/>
                </a:lnTo>
                <a:lnTo>
                  <a:pt x="26" y="2644"/>
                </a:lnTo>
                <a:lnTo>
                  <a:pt x="27" y="2645"/>
                </a:lnTo>
                <a:lnTo>
                  <a:pt x="29" y="2647"/>
                </a:lnTo>
                <a:lnTo>
                  <a:pt x="30" y="2648"/>
                </a:lnTo>
                <a:lnTo>
                  <a:pt x="30" y="2650"/>
                </a:lnTo>
                <a:lnTo>
                  <a:pt x="30" y="2650"/>
                </a:lnTo>
                <a:close/>
                <a:moveTo>
                  <a:pt x="30" y="2879"/>
                </a:moveTo>
                <a:lnTo>
                  <a:pt x="30" y="3012"/>
                </a:lnTo>
                <a:lnTo>
                  <a:pt x="30" y="3014"/>
                </a:lnTo>
                <a:lnTo>
                  <a:pt x="29" y="3016"/>
                </a:lnTo>
                <a:lnTo>
                  <a:pt x="27" y="3018"/>
                </a:lnTo>
                <a:lnTo>
                  <a:pt x="26" y="3019"/>
                </a:lnTo>
                <a:lnTo>
                  <a:pt x="24" y="3020"/>
                </a:lnTo>
                <a:lnTo>
                  <a:pt x="21" y="3021"/>
                </a:lnTo>
                <a:lnTo>
                  <a:pt x="18" y="3022"/>
                </a:lnTo>
                <a:lnTo>
                  <a:pt x="16" y="3022"/>
                </a:lnTo>
                <a:lnTo>
                  <a:pt x="13" y="3022"/>
                </a:lnTo>
                <a:lnTo>
                  <a:pt x="10" y="3021"/>
                </a:lnTo>
                <a:lnTo>
                  <a:pt x="6" y="3020"/>
                </a:lnTo>
                <a:lnTo>
                  <a:pt x="5" y="3019"/>
                </a:lnTo>
                <a:lnTo>
                  <a:pt x="3" y="3018"/>
                </a:lnTo>
                <a:lnTo>
                  <a:pt x="2" y="3016"/>
                </a:lnTo>
                <a:lnTo>
                  <a:pt x="0" y="3014"/>
                </a:lnTo>
                <a:lnTo>
                  <a:pt x="0" y="3012"/>
                </a:lnTo>
                <a:lnTo>
                  <a:pt x="0" y="2879"/>
                </a:lnTo>
                <a:lnTo>
                  <a:pt x="0" y="2877"/>
                </a:lnTo>
                <a:lnTo>
                  <a:pt x="2" y="2875"/>
                </a:lnTo>
                <a:lnTo>
                  <a:pt x="3" y="2873"/>
                </a:lnTo>
                <a:lnTo>
                  <a:pt x="5" y="2872"/>
                </a:lnTo>
                <a:lnTo>
                  <a:pt x="6" y="2871"/>
                </a:lnTo>
                <a:lnTo>
                  <a:pt x="10" y="2870"/>
                </a:lnTo>
                <a:lnTo>
                  <a:pt x="13" y="2869"/>
                </a:lnTo>
                <a:lnTo>
                  <a:pt x="16" y="2869"/>
                </a:lnTo>
                <a:lnTo>
                  <a:pt x="18" y="2869"/>
                </a:lnTo>
                <a:lnTo>
                  <a:pt x="21" y="2870"/>
                </a:lnTo>
                <a:lnTo>
                  <a:pt x="24" y="2871"/>
                </a:lnTo>
                <a:lnTo>
                  <a:pt x="26" y="2872"/>
                </a:lnTo>
                <a:lnTo>
                  <a:pt x="27" y="2873"/>
                </a:lnTo>
                <a:lnTo>
                  <a:pt x="29" y="2875"/>
                </a:lnTo>
                <a:lnTo>
                  <a:pt x="30" y="2877"/>
                </a:lnTo>
                <a:lnTo>
                  <a:pt x="30" y="2879"/>
                </a:lnTo>
                <a:lnTo>
                  <a:pt x="30" y="2879"/>
                </a:lnTo>
                <a:close/>
                <a:moveTo>
                  <a:pt x="30" y="3108"/>
                </a:moveTo>
                <a:lnTo>
                  <a:pt x="30" y="3241"/>
                </a:lnTo>
                <a:lnTo>
                  <a:pt x="30" y="3243"/>
                </a:lnTo>
                <a:lnTo>
                  <a:pt x="29" y="3244"/>
                </a:lnTo>
                <a:lnTo>
                  <a:pt x="27" y="3246"/>
                </a:lnTo>
                <a:lnTo>
                  <a:pt x="26" y="3247"/>
                </a:lnTo>
                <a:lnTo>
                  <a:pt x="24" y="3249"/>
                </a:lnTo>
                <a:lnTo>
                  <a:pt x="21" y="3250"/>
                </a:lnTo>
                <a:lnTo>
                  <a:pt x="18" y="3250"/>
                </a:lnTo>
                <a:lnTo>
                  <a:pt x="16" y="3250"/>
                </a:lnTo>
                <a:lnTo>
                  <a:pt x="13" y="3250"/>
                </a:lnTo>
                <a:lnTo>
                  <a:pt x="10" y="3250"/>
                </a:lnTo>
                <a:lnTo>
                  <a:pt x="6" y="3249"/>
                </a:lnTo>
                <a:lnTo>
                  <a:pt x="5" y="3247"/>
                </a:lnTo>
                <a:lnTo>
                  <a:pt x="3" y="3246"/>
                </a:lnTo>
                <a:lnTo>
                  <a:pt x="2" y="3244"/>
                </a:lnTo>
                <a:lnTo>
                  <a:pt x="0" y="3243"/>
                </a:lnTo>
                <a:lnTo>
                  <a:pt x="0" y="3241"/>
                </a:lnTo>
                <a:lnTo>
                  <a:pt x="0" y="3108"/>
                </a:lnTo>
                <a:lnTo>
                  <a:pt x="0" y="3106"/>
                </a:lnTo>
                <a:lnTo>
                  <a:pt x="2" y="3104"/>
                </a:lnTo>
                <a:lnTo>
                  <a:pt x="3" y="3102"/>
                </a:lnTo>
                <a:lnTo>
                  <a:pt x="5" y="3101"/>
                </a:lnTo>
                <a:lnTo>
                  <a:pt x="6" y="3100"/>
                </a:lnTo>
                <a:lnTo>
                  <a:pt x="10" y="3099"/>
                </a:lnTo>
                <a:lnTo>
                  <a:pt x="13" y="3098"/>
                </a:lnTo>
                <a:lnTo>
                  <a:pt x="16" y="3098"/>
                </a:lnTo>
                <a:lnTo>
                  <a:pt x="18" y="3098"/>
                </a:lnTo>
                <a:lnTo>
                  <a:pt x="21" y="3099"/>
                </a:lnTo>
                <a:lnTo>
                  <a:pt x="24" y="3100"/>
                </a:lnTo>
                <a:lnTo>
                  <a:pt x="26" y="3101"/>
                </a:lnTo>
                <a:lnTo>
                  <a:pt x="27" y="3102"/>
                </a:lnTo>
                <a:lnTo>
                  <a:pt x="29" y="3104"/>
                </a:lnTo>
                <a:lnTo>
                  <a:pt x="30" y="3106"/>
                </a:lnTo>
                <a:lnTo>
                  <a:pt x="30" y="3108"/>
                </a:lnTo>
                <a:lnTo>
                  <a:pt x="30" y="3108"/>
                </a:lnTo>
                <a:close/>
                <a:moveTo>
                  <a:pt x="30" y="3336"/>
                </a:moveTo>
                <a:lnTo>
                  <a:pt x="30" y="3470"/>
                </a:lnTo>
                <a:lnTo>
                  <a:pt x="30" y="3471"/>
                </a:lnTo>
                <a:lnTo>
                  <a:pt x="29" y="3473"/>
                </a:lnTo>
                <a:lnTo>
                  <a:pt x="27" y="3475"/>
                </a:lnTo>
                <a:lnTo>
                  <a:pt x="26" y="3476"/>
                </a:lnTo>
                <a:lnTo>
                  <a:pt x="24" y="3477"/>
                </a:lnTo>
                <a:lnTo>
                  <a:pt x="21" y="3478"/>
                </a:lnTo>
                <a:lnTo>
                  <a:pt x="18" y="3479"/>
                </a:lnTo>
                <a:lnTo>
                  <a:pt x="16" y="3479"/>
                </a:lnTo>
                <a:lnTo>
                  <a:pt x="13" y="3479"/>
                </a:lnTo>
                <a:lnTo>
                  <a:pt x="10" y="3478"/>
                </a:lnTo>
                <a:lnTo>
                  <a:pt x="6" y="3477"/>
                </a:lnTo>
                <a:lnTo>
                  <a:pt x="5" y="3476"/>
                </a:lnTo>
                <a:lnTo>
                  <a:pt x="3" y="3475"/>
                </a:lnTo>
                <a:lnTo>
                  <a:pt x="2" y="3473"/>
                </a:lnTo>
                <a:lnTo>
                  <a:pt x="0" y="3471"/>
                </a:lnTo>
                <a:lnTo>
                  <a:pt x="0" y="3470"/>
                </a:lnTo>
                <a:lnTo>
                  <a:pt x="0" y="3336"/>
                </a:lnTo>
                <a:lnTo>
                  <a:pt x="0" y="3334"/>
                </a:lnTo>
                <a:lnTo>
                  <a:pt x="2" y="3332"/>
                </a:lnTo>
                <a:lnTo>
                  <a:pt x="3" y="3331"/>
                </a:lnTo>
                <a:lnTo>
                  <a:pt x="5" y="3329"/>
                </a:lnTo>
                <a:lnTo>
                  <a:pt x="6" y="3328"/>
                </a:lnTo>
                <a:lnTo>
                  <a:pt x="10" y="3327"/>
                </a:lnTo>
                <a:lnTo>
                  <a:pt x="13" y="3327"/>
                </a:lnTo>
                <a:lnTo>
                  <a:pt x="16" y="3327"/>
                </a:lnTo>
                <a:lnTo>
                  <a:pt x="18" y="3327"/>
                </a:lnTo>
                <a:lnTo>
                  <a:pt x="21" y="3327"/>
                </a:lnTo>
                <a:lnTo>
                  <a:pt x="24" y="3328"/>
                </a:lnTo>
                <a:lnTo>
                  <a:pt x="26" y="3329"/>
                </a:lnTo>
                <a:lnTo>
                  <a:pt x="27" y="3331"/>
                </a:lnTo>
                <a:lnTo>
                  <a:pt x="29" y="3332"/>
                </a:lnTo>
                <a:lnTo>
                  <a:pt x="30" y="3334"/>
                </a:lnTo>
                <a:lnTo>
                  <a:pt x="30" y="3336"/>
                </a:lnTo>
                <a:lnTo>
                  <a:pt x="30" y="3336"/>
                </a:lnTo>
                <a:close/>
                <a:moveTo>
                  <a:pt x="30" y="3566"/>
                </a:moveTo>
                <a:lnTo>
                  <a:pt x="30" y="3699"/>
                </a:lnTo>
                <a:lnTo>
                  <a:pt x="30" y="3701"/>
                </a:lnTo>
                <a:lnTo>
                  <a:pt x="29" y="3703"/>
                </a:lnTo>
                <a:lnTo>
                  <a:pt x="27" y="3704"/>
                </a:lnTo>
                <a:lnTo>
                  <a:pt x="26" y="3706"/>
                </a:lnTo>
                <a:lnTo>
                  <a:pt x="24" y="3707"/>
                </a:lnTo>
                <a:lnTo>
                  <a:pt x="21" y="3708"/>
                </a:lnTo>
                <a:lnTo>
                  <a:pt x="18" y="3708"/>
                </a:lnTo>
                <a:lnTo>
                  <a:pt x="16" y="3709"/>
                </a:lnTo>
                <a:lnTo>
                  <a:pt x="13" y="3708"/>
                </a:lnTo>
                <a:lnTo>
                  <a:pt x="10" y="3708"/>
                </a:lnTo>
                <a:lnTo>
                  <a:pt x="6" y="3707"/>
                </a:lnTo>
                <a:lnTo>
                  <a:pt x="5" y="3706"/>
                </a:lnTo>
                <a:lnTo>
                  <a:pt x="3" y="3704"/>
                </a:lnTo>
                <a:lnTo>
                  <a:pt x="2" y="3703"/>
                </a:lnTo>
                <a:lnTo>
                  <a:pt x="0" y="3701"/>
                </a:lnTo>
                <a:lnTo>
                  <a:pt x="0" y="3699"/>
                </a:lnTo>
                <a:lnTo>
                  <a:pt x="0" y="3566"/>
                </a:lnTo>
                <a:lnTo>
                  <a:pt x="0" y="3564"/>
                </a:lnTo>
                <a:lnTo>
                  <a:pt x="2" y="3562"/>
                </a:lnTo>
                <a:lnTo>
                  <a:pt x="3" y="3560"/>
                </a:lnTo>
                <a:lnTo>
                  <a:pt x="5" y="3559"/>
                </a:lnTo>
                <a:lnTo>
                  <a:pt x="6" y="3558"/>
                </a:lnTo>
                <a:lnTo>
                  <a:pt x="10" y="3557"/>
                </a:lnTo>
                <a:lnTo>
                  <a:pt x="13" y="3556"/>
                </a:lnTo>
                <a:lnTo>
                  <a:pt x="16" y="3556"/>
                </a:lnTo>
                <a:lnTo>
                  <a:pt x="18" y="3556"/>
                </a:lnTo>
                <a:lnTo>
                  <a:pt x="21" y="3557"/>
                </a:lnTo>
                <a:lnTo>
                  <a:pt x="24" y="3558"/>
                </a:lnTo>
                <a:lnTo>
                  <a:pt x="26" y="3559"/>
                </a:lnTo>
                <a:lnTo>
                  <a:pt x="27" y="3560"/>
                </a:lnTo>
                <a:lnTo>
                  <a:pt x="29" y="3562"/>
                </a:lnTo>
                <a:lnTo>
                  <a:pt x="30" y="3564"/>
                </a:lnTo>
                <a:lnTo>
                  <a:pt x="30" y="3566"/>
                </a:lnTo>
                <a:lnTo>
                  <a:pt x="30" y="3566"/>
                </a:lnTo>
                <a:close/>
                <a:moveTo>
                  <a:pt x="30" y="3794"/>
                </a:moveTo>
                <a:lnTo>
                  <a:pt x="30" y="3814"/>
                </a:lnTo>
                <a:lnTo>
                  <a:pt x="30" y="3815"/>
                </a:lnTo>
                <a:lnTo>
                  <a:pt x="29" y="3817"/>
                </a:lnTo>
                <a:lnTo>
                  <a:pt x="27" y="3819"/>
                </a:lnTo>
                <a:lnTo>
                  <a:pt x="26" y="3820"/>
                </a:lnTo>
                <a:lnTo>
                  <a:pt x="24" y="3821"/>
                </a:lnTo>
                <a:lnTo>
                  <a:pt x="21" y="3822"/>
                </a:lnTo>
                <a:lnTo>
                  <a:pt x="18" y="3823"/>
                </a:lnTo>
                <a:lnTo>
                  <a:pt x="16" y="3823"/>
                </a:lnTo>
                <a:lnTo>
                  <a:pt x="13" y="3823"/>
                </a:lnTo>
                <a:lnTo>
                  <a:pt x="10" y="3822"/>
                </a:lnTo>
                <a:lnTo>
                  <a:pt x="6" y="3821"/>
                </a:lnTo>
                <a:lnTo>
                  <a:pt x="5" y="3820"/>
                </a:lnTo>
                <a:lnTo>
                  <a:pt x="3" y="3819"/>
                </a:lnTo>
                <a:lnTo>
                  <a:pt x="2" y="3817"/>
                </a:lnTo>
                <a:lnTo>
                  <a:pt x="0" y="3815"/>
                </a:lnTo>
                <a:lnTo>
                  <a:pt x="0" y="3814"/>
                </a:lnTo>
                <a:lnTo>
                  <a:pt x="0" y="3794"/>
                </a:lnTo>
                <a:lnTo>
                  <a:pt x="0" y="3792"/>
                </a:lnTo>
                <a:lnTo>
                  <a:pt x="2" y="3791"/>
                </a:lnTo>
                <a:lnTo>
                  <a:pt x="3" y="3789"/>
                </a:lnTo>
                <a:lnTo>
                  <a:pt x="5" y="3788"/>
                </a:lnTo>
                <a:lnTo>
                  <a:pt x="6" y="3786"/>
                </a:lnTo>
                <a:lnTo>
                  <a:pt x="10" y="3786"/>
                </a:lnTo>
                <a:lnTo>
                  <a:pt x="13" y="3785"/>
                </a:lnTo>
                <a:lnTo>
                  <a:pt x="16" y="3785"/>
                </a:lnTo>
                <a:lnTo>
                  <a:pt x="18" y="3785"/>
                </a:lnTo>
                <a:lnTo>
                  <a:pt x="21" y="3786"/>
                </a:lnTo>
                <a:lnTo>
                  <a:pt x="24" y="3786"/>
                </a:lnTo>
                <a:lnTo>
                  <a:pt x="26" y="3788"/>
                </a:lnTo>
                <a:lnTo>
                  <a:pt x="27" y="3789"/>
                </a:lnTo>
                <a:lnTo>
                  <a:pt x="29" y="3791"/>
                </a:lnTo>
                <a:lnTo>
                  <a:pt x="30" y="3792"/>
                </a:lnTo>
                <a:lnTo>
                  <a:pt x="30" y="3794"/>
                </a:lnTo>
                <a:lnTo>
                  <a:pt x="30" y="379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23920" y="992160"/>
            <a:ext cx="5859360" cy="782640"/>
          </a:xfrm>
          <a:prstGeom prst="rect">
            <a:avLst/>
          </a:prstGeom>
          <a:noFill/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74960" y="1584360"/>
            <a:ext cx="476280" cy="793800"/>
          </a:xfrm>
          <a:custGeom>
            <a:avLst/>
            <a:gdLst/>
            <a:ahLst/>
            <a:rect l="l" t="t" r="r" b="b"/>
            <a:pathLst>
              <a:path w="601" h="1001">
                <a:moveTo>
                  <a:pt x="149" y="0"/>
                </a:moveTo>
                <a:lnTo>
                  <a:pt x="149" y="851"/>
                </a:lnTo>
                <a:lnTo>
                  <a:pt x="0" y="851"/>
                </a:lnTo>
                <a:lnTo>
                  <a:pt x="300" y="1001"/>
                </a:lnTo>
                <a:lnTo>
                  <a:pt x="601" y="851"/>
                </a:lnTo>
                <a:lnTo>
                  <a:pt x="450" y="851"/>
                </a:lnTo>
                <a:lnTo>
                  <a:pt x="450" y="0"/>
                </a:lnTo>
                <a:lnTo>
                  <a:pt x="1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74960" y="1584360"/>
            <a:ext cx="476280" cy="793800"/>
          </a:xfrm>
          <a:custGeom>
            <a:avLst/>
            <a:gdLst/>
            <a:ahLst/>
            <a:rect l="l" t="t" r="r" b="b"/>
            <a:pathLst>
              <a:path w="601" h="1001">
                <a:moveTo>
                  <a:pt x="149" y="0"/>
                </a:moveTo>
                <a:lnTo>
                  <a:pt x="149" y="851"/>
                </a:lnTo>
                <a:lnTo>
                  <a:pt x="0" y="851"/>
                </a:lnTo>
                <a:lnTo>
                  <a:pt x="300" y="1001"/>
                </a:lnTo>
                <a:lnTo>
                  <a:pt x="601" y="851"/>
                </a:lnTo>
                <a:lnTo>
                  <a:pt x="450" y="851"/>
                </a:lnTo>
                <a:lnTo>
                  <a:pt x="450" y="0"/>
                </a:lnTo>
                <a:lnTo>
                  <a:pt x="14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83280" y="3448080"/>
            <a:ext cx="808200" cy="40464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83280" y="3448080"/>
            <a:ext cx="808200" cy="40464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83280" y="5673600"/>
            <a:ext cx="808200" cy="40320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3280" y="5673600"/>
            <a:ext cx="808200" cy="403200"/>
          </a:xfrm>
          <a:custGeom>
            <a:avLst/>
            <a:gdLst/>
            <a:ahLst/>
            <a:rect l="l" t="t" r="r" b="b"/>
            <a:pathLst>
              <a:path w="1017" h="508">
                <a:moveTo>
                  <a:pt x="126" y="127"/>
                </a:moveTo>
                <a:lnTo>
                  <a:pt x="126" y="0"/>
                </a:lnTo>
                <a:lnTo>
                  <a:pt x="0" y="254"/>
                </a:lnTo>
                <a:lnTo>
                  <a:pt x="126" y="508"/>
                </a:lnTo>
                <a:lnTo>
                  <a:pt x="126" y="381"/>
                </a:lnTo>
                <a:lnTo>
                  <a:pt x="889" y="381"/>
                </a:lnTo>
                <a:lnTo>
                  <a:pt x="889" y="508"/>
                </a:lnTo>
                <a:lnTo>
                  <a:pt x="1017" y="254"/>
                </a:lnTo>
                <a:lnTo>
                  <a:pt x="889" y="0"/>
                </a:lnTo>
                <a:lnTo>
                  <a:pt x="889" y="127"/>
                </a:lnTo>
                <a:lnTo>
                  <a:pt x="126" y="12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6020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Online Partnership Space</a:t>
            </a: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474" name=""/>
          <p:cNvSpPr/>
          <p:nvPr/>
        </p:nvSpPr>
        <p:spPr>
          <a:xfrm>
            <a:off x="5486040" y="2363760"/>
            <a:ext cx="1704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evelopment of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nowledge reposit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51280" y="1717560"/>
            <a:ext cx="1703520" cy="2148120"/>
          </a:xfrm>
          <a:custGeom>
            <a:avLst/>
            <a:gdLst/>
            <a:ahLst/>
            <a:rect l="l" t="t" r="r" b="b"/>
            <a:pathLst>
              <a:path w="1073" h="2705">
                <a:moveTo>
                  <a:pt x="307" y="309"/>
                </a:moveTo>
                <a:lnTo>
                  <a:pt x="307" y="0"/>
                </a:lnTo>
                <a:lnTo>
                  <a:pt x="0" y="852"/>
                </a:lnTo>
                <a:lnTo>
                  <a:pt x="307" y="1665"/>
                </a:lnTo>
                <a:lnTo>
                  <a:pt x="307" y="1084"/>
                </a:lnTo>
                <a:lnTo>
                  <a:pt x="307" y="1084"/>
                </a:lnTo>
                <a:lnTo>
                  <a:pt x="317" y="1084"/>
                </a:lnTo>
                <a:lnTo>
                  <a:pt x="328" y="1085"/>
                </a:lnTo>
                <a:lnTo>
                  <a:pt x="339" y="1087"/>
                </a:lnTo>
                <a:lnTo>
                  <a:pt x="350" y="1089"/>
                </a:lnTo>
                <a:lnTo>
                  <a:pt x="361" y="1091"/>
                </a:lnTo>
                <a:lnTo>
                  <a:pt x="372" y="1094"/>
                </a:lnTo>
                <a:lnTo>
                  <a:pt x="382" y="1100"/>
                </a:lnTo>
                <a:lnTo>
                  <a:pt x="393" y="1103"/>
                </a:lnTo>
                <a:lnTo>
                  <a:pt x="403" y="1108"/>
                </a:lnTo>
                <a:lnTo>
                  <a:pt x="413" y="1114"/>
                </a:lnTo>
                <a:lnTo>
                  <a:pt x="423" y="1121"/>
                </a:lnTo>
                <a:lnTo>
                  <a:pt x="434" y="1128"/>
                </a:lnTo>
                <a:lnTo>
                  <a:pt x="443" y="1135"/>
                </a:lnTo>
                <a:lnTo>
                  <a:pt x="453" y="1142"/>
                </a:lnTo>
                <a:lnTo>
                  <a:pt x="463" y="1150"/>
                </a:lnTo>
                <a:lnTo>
                  <a:pt x="472" y="1159"/>
                </a:lnTo>
                <a:lnTo>
                  <a:pt x="482" y="1170"/>
                </a:lnTo>
                <a:lnTo>
                  <a:pt x="492" y="1179"/>
                </a:lnTo>
                <a:lnTo>
                  <a:pt x="500" y="1189"/>
                </a:lnTo>
                <a:lnTo>
                  <a:pt x="510" y="1200"/>
                </a:lnTo>
                <a:lnTo>
                  <a:pt x="518" y="1212"/>
                </a:lnTo>
                <a:lnTo>
                  <a:pt x="527" y="1224"/>
                </a:lnTo>
                <a:lnTo>
                  <a:pt x="537" y="1237"/>
                </a:lnTo>
                <a:lnTo>
                  <a:pt x="545" y="1249"/>
                </a:lnTo>
                <a:lnTo>
                  <a:pt x="554" y="1263"/>
                </a:lnTo>
                <a:lnTo>
                  <a:pt x="562" y="1275"/>
                </a:lnTo>
                <a:lnTo>
                  <a:pt x="578" y="1305"/>
                </a:lnTo>
                <a:lnTo>
                  <a:pt x="593" y="1335"/>
                </a:lnTo>
                <a:lnTo>
                  <a:pt x="608" y="1367"/>
                </a:lnTo>
                <a:lnTo>
                  <a:pt x="621" y="1400"/>
                </a:lnTo>
                <a:lnTo>
                  <a:pt x="635" y="1435"/>
                </a:lnTo>
                <a:lnTo>
                  <a:pt x="648" y="1472"/>
                </a:lnTo>
                <a:lnTo>
                  <a:pt x="660" y="1511"/>
                </a:lnTo>
                <a:lnTo>
                  <a:pt x="671" y="1549"/>
                </a:lnTo>
                <a:lnTo>
                  <a:pt x="681" y="1590"/>
                </a:lnTo>
                <a:lnTo>
                  <a:pt x="690" y="1632"/>
                </a:lnTo>
                <a:lnTo>
                  <a:pt x="699" y="1674"/>
                </a:lnTo>
                <a:lnTo>
                  <a:pt x="706" y="1718"/>
                </a:lnTo>
                <a:lnTo>
                  <a:pt x="713" y="1763"/>
                </a:lnTo>
                <a:lnTo>
                  <a:pt x="719" y="1809"/>
                </a:lnTo>
                <a:lnTo>
                  <a:pt x="724" y="1857"/>
                </a:lnTo>
                <a:lnTo>
                  <a:pt x="728" y="1904"/>
                </a:lnTo>
                <a:lnTo>
                  <a:pt x="730" y="1953"/>
                </a:lnTo>
                <a:lnTo>
                  <a:pt x="731" y="2001"/>
                </a:lnTo>
                <a:lnTo>
                  <a:pt x="733" y="2052"/>
                </a:lnTo>
                <a:lnTo>
                  <a:pt x="733" y="2052"/>
                </a:lnTo>
                <a:lnTo>
                  <a:pt x="733" y="2088"/>
                </a:lnTo>
                <a:lnTo>
                  <a:pt x="731" y="2124"/>
                </a:lnTo>
                <a:lnTo>
                  <a:pt x="730" y="2160"/>
                </a:lnTo>
                <a:lnTo>
                  <a:pt x="728" y="2196"/>
                </a:lnTo>
                <a:lnTo>
                  <a:pt x="728" y="2196"/>
                </a:lnTo>
                <a:lnTo>
                  <a:pt x="919" y="2129"/>
                </a:lnTo>
                <a:lnTo>
                  <a:pt x="1017" y="2705"/>
                </a:lnTo>
                <a:lnTo>
                  <a:pt x="1017" y="2705"/>
                </a:lnTo>
                <a:lnTo>
                  <a:pt x="1023" y="2666"/>
                </a:lnTo>
                <a:lnTo>
                  <a:pt x="1030" y="2626"/>
                </a:lnTo>
                <a:lnTo>
                  <a:pt x="1035" y="2587"/>
                </a:lnTo>
                <a:lnTo>
                  <a:pt x="1041" y="2547"/>
                </a:lnTo>
                <a:lnTo>
                  <a:pt x="1046" y="2507"/>
                </a:lnTo>
                <a:lnTo>
                  <a:pt x="1051" y="2466"/>
                </a:lnTo>
                <a:lnTo>
                  <a:pt x="1055" y="2426"/>
                </a:lnTo>
                <a:lnTo>
                  <a:pt x="1058" y="2384"/>
                </a:lnTo>
                <a:lnTo>
                  <a:pt x="1062" y="2343"/>
                </a:lnTo>
                <a:lnTo>
                  <a:pt x="1064" y="2301"/>
                </a:lnTo>
                <a:lnTo>
                  <a:pt x="1067" y="2261"/>
                </a:lnTo>
                <a:lnTo>
                  <a:pt x="1069" y="2218"/>
                </a:lnTo>
                <a:lnTo>
                  <a:pt x="1070" y="2176"/>
                </a:lnTo>
                <a:lnTo>
                  <a:pt x="1072" y="2136"/>
                </a:lnTo>
                <a:lnTo>
                  <a:pt x="1073" y="2094"/>
                </a:lnTo>
                <a:lnTo>
                  <a:pt x="1073" y="2052"/>
                </a:lnTo>
                <a:lnTo>
                  <a:pt x="1072" y="1962"/>
                </a:lnTo>
                <a:lnTo>
                  <a:pt x="1069" y="1872"/>
                </a:lnTo>
                <a:lnTo>
                  <a:pt x="1064" y="1786"/>
                </a:lnTo>
                <a:lnTo>
                  <a:pt x="1057" y="1700"/>
                </a:lnTo>
                <a:lnTo>
                  <a:pt x="1049" y="1616"/>
                </a:lnTo>
                <a:lnTo>
                  <a:pt x="1039" y="1533"/>
                </a:lnTo>
                <a:lnTo>
                  <a:pt x="1027" y="1453"/>
                </a:lnTo>
                <a:lnTo>
                  <a:pt x="1012" y="1374"/>
                </a:lnTo>
                <a:lnTo>
                  <a:pt x="998" y="1296"/>
                </a:lnTo>
                <a:lnTo>
                  <a:pt x="981" y="1221"/>
                </a:lnTo>
                <a:lnTo>
                  <a:pt x="961" y="1149"/>
                </a:lnTo>
                <a:lnTo>
                  <a:pt x="942" y="1077"/>
                </a:lnTo>
                <a:lnTo>
                  <a:pt x="920" y="1010"/>
                </a:lnTo>
                <a:lnTo>
                  <a:pt x="897" y="943"/>
                </a:lnTo>
                <a:lnTo>
                  <a:pt x="874" y="880"/>
                </a:lnTo>
                <a:lnTo>
                  <a:pt x="849" y="820"/>
                </a:lnTo>
                <a:lnTo>
                  <a:pt x="822" y="762"/>
                </a:lnTo>
                <a:lnTo>
                  <a:pt x="794" y="708"/>
                </a:lnTo>
                <a:lnTo>
                  <a:pt x="765" y="655"/>
                </a:lnTo>
                <a:lnTo>
                  <a:pt x="735" y="608"/>
                </a:lnTo>
                <a:lnTo>
                  <a:pt x="704" y="562"/>
                </a:lnTo>
                <a:lnTo>
                  <a:pt x="672" y="520"/>
                </a:lnTo>
                <a:lnTo>
                  <a:pt x="639" y="481"/>
                </a:lnTo>
                <a:lnTo>
                  <a:pt x="604" y="446"/>
                </a:lnTo>
                <a:lnTo>
                  <a:pt x="570" y="414"/>
                </a:lnTo>
                <a:lnTo>
                  <a:pt x="534" y="388"/>
                </a:lnTo>
                <a:lnTo>
                  <a:pt x="498" y="364"/>
                </a:lnTo>
                <a:lnTo>
                  <a:pt x="462" y="344"/>
                </a:lnTo>
                <a:lnTo>
                  <a:pt x="424" y="330"/>
                </a:lnTo>
                <a:lnTo>
                  <a:pt x="385" y="318"/>
                </a:lnTo>
                <a:lnTo>
                  <a:pt x="347" y="311"/>
                </a:lnTo>
                <a:lnTo>
                  <a:pt x="307" y="309"/>
                </a:lnTo>
                <a:lnTo>
                  <a:pt x="307" y="30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1280" y="1717560"/>
            <a:ext cx="1703520" cy="2148120"/>
          </a:xfrm>
          <a:custGeom>
            <a:avLst/>
            <a:gdLst/>
            <a:ahLst/>
            <a:rect l="l" t="t" r="r" b="b"/>
            <a:pathLst>
              <a:path w="1073" h="2705">
                <a:moveTo>
                  <a:pt x="307" y="309"/>
                </a:moveTo>
                <a:lnTo>
                  <a:pt x="307" y="0"/>
                </a:lnTo>
                <a:lnTo>
                  <a:pt x="0" y="852"/>
                </a:lnTo>
                <a:lnTo>
                  <a:pt x="307" y="1665"/>
                </a:lnTo>
                <a:lnTo>
                  <a:pt x="307" y="1084"/>
                </a:lnTo>
                <a:lnTo>
                  <a:pt x="307" y="1084"/>
                </a:lnTo>
                <a:lnTo>
                  <a:pt x="317" y="1084"/>
                </a:lnTo>
                <a:lnTo>
                  <a:pt x="328" y="1085"/>
                </a:lnTo>
                <a:lnTo>
                  <a:pt x="339" y="1087"/>
                </a:lnTo>
                <a:lnTo>
                  <a:pt x="350" y="1089"/>
                </a:lnTo>
                <a:lnTo>
                  <a:pt x="361" y="1091"/>
                </a:lnTo>
                <a:lnTo>
                  <a:pt x="372" y="1094"/>
                </a:lnTo>
                <a:lnTo>
                  <a:pt x="382" y="1100"/>
                </a:lnTo>
                <a:lnTo>
                  <a:pt x="393" y="1103"/>
                </a:lnTo>
                <a:lnTo>
                  <a:pt x="403" y="1108"/>
                </a:lnTo>
                <a:lnTo>
                  <a:pt x="413" y="1114"/>
                </a:lnTo>
                <a:lnTo>
                  <a:pt x="423" y="1121"/>
                </a:lnTo>
                <a:lnTo>
                  <a:pt x="434" y="1128"/>
                </a:lnTo>
                <a:lnTo>
                  <a:pt x="443" y="1135"/>
                </a:lnTo>
                <a:lnTo>
                  <a:pt x="453" y="1142"/>
                </a:lnTo>
                <a:lnTo>
                  <a:pt x="463" y="1150"/>
                </a:lnTo>
                <a:lnTo>
                  <a:pt x="472" y="1159"/>
                </a:lnTo>
                <a:lnTo>
                  <a:pt x="482" y="1170"/>
                </a:lnTo>
                <a:lnTo>
                  <a:pt x="492" y="1179"/>
                </a:lnTo>
                <a:lnTo>
                  <a:pt x="500" y="1189"/>
                </a:lnTo>
                <a:lnTo>
                  <a:pt x="510" y="1200"/>
                </a:lnTo>
                <a:lnTo>
                  <a:pt x="518" y="1212"/>
                </a:lnTo>
                <a:lnTo>
                  <a:pt x="527" y="1224"/>
                </a:lnTo>
                <a:lnTo>
                  <a:pt x="537" y="1237"/>
                </a:lnTo>
                <a:lnTo>
                  <a:pt x="545" y="1249"/>
                </a:lnTo>
                <a:lnTo>
                  <a:pt x="554" y="1263"/>
                </a:lnTo>
                <a:lnTo>
                  <a:pt x="562" y="1275"/>
                </a:lnTo>
                <a:lnTo>
                  <a:pt x="578" y="1305"/>
                </a:lnTo>
                <a:lnTo>
                  <a:pt x="593" y="1335"/>
                </a:lnTo>
                <a:lnTo>
                  <a:pt x="608" y="1367"/>
                </a:lnTo>
                <a:lnTo>
                  <a:pt x="621" y="1400"/>
                </a:lnTo>
                <a:lnTo>
                  <a:pt x="635" y="1435"/>
                </a:lnTo>
                <a:lnTo>
                  <a:pt x="648" y="1472"/>
                </a:lnTo>
                <a:lnTo>
                  <a:pt x="660" y="1511"/>
                </a:lnTo>
                <a:lnTo>
                  <a:pt x="671" y="1549"/>
                </a:lnTo>
                <a:lnTo>
                  <a:pt x="681" y="1590"/>
                </a:lnTo>
                <a:lnTo>
                  <a:pt x="690" y="1632"/>
                </a:lnTo>
                <a:lnTo>
                  <a:pt x="699" y="1674"/>
                </a:lnTo>
                <a:lnTo>
                  <a:pt x="706" y="1718"/>
                </a:lnTo>
                <a:lnTo>
                  <a:pt x="713" y="1763"/>
                </a:lnTo>
                <a:lnTo>
                  <a:pt x="719" y="1809"/>
                </a:lnTo>
                <a:lnTo>
                  <a:pt x="724" y="1857"/>
                </a:lnTo>
                <a:lnTo>
                  <a:pt x="728" y="1904"/>
                </a:lnTo>
                <a:lnTo>
                  <a:pt x="730" y="1953"/>
                </a:lnTo>
                <a:lnTo>
                  <a:pt x="731" y="2001"/>
                </a:lnTo>
                <a:lnTo>
                  <a:pt x="733" y="2052"/>
                </a:lnTo>
                <a:lnTo>
                  <a:pt x="733" y="2052"/>
                </a:lnTo>
                <a:lnTo>
                  <a:pt x="733" y="2088"/>
                </a:lnTo>
                <a:lnTo>
                  <a:pt x="731" y="2124"/>
                </a:lnTo>
                <a:lnTo>
                  <a:pt x="730" y="2160"/>
                </a:lnTo>
                <a:lnTo>
                  <a:pt x="728" y="2196"/>
                </a:lnTo>
                <a:lnTo>
                  <a:pt x="728" y="2196"/>
                </a:lnTo>
                <a:lnTo>
                  <a:pt x="919" y="2129"/>
                </a:lnTo>
                <a:lnTo>
                  <a:pt x="1017" y="2705"/>
                </a:lnTo>
                <a:lnTo>
                  <a:pt x="1017" y="2705"/>
                </a:lnTo>
                <a:lnTo>
                  <a:pt x="1023" y="2666"/>
                </a:lnTo>
                <a:lnTo>
                  <a:pt x="1030" y="2626"/>
                </a:lnTo>
                <a:lnTo>
                  <a:pt x="1035" y="2587"/>
                </a:lnTo>
                <a:lnTo>
                  <a:pt x="1041" y="2547"/>
                </a:lnTo>
                <a:lnTo>
                  <a:pt x="1046" y="2507"/>
                </a:lnTo>
                <a:lnTo>
                  <a:pt x="1051" y="2466"/>
                </a:lnTo>
                <a:lnTo>
                  <a:pt x="1055" y="2426"/>
                </a:lnTo>
                <a:lnTo>
                  <a:pt x="1058" y="2384"/>
                </a:lnTo>
                <a:lnTo>
                  <a:pt x="1062" y="2343"/>
                </a:lnTo>
                <a:lnTo>
                  <a:pt x="1064" y="2301"/>
                </a:lnTo>
                <a:lnTo>
                  <a:pt x="1067" y="2261"/>
                </a:lnTo>
                <a:lnTo>
                  <a:pt x="1069" y="2218"/>
                </a:lnTo>
                <a:lnTo>
                  <a:pt x="1070" y="2176"/>
                </a:lnTo>
                <a:lnTo>
                  <a:pt x="1072" y="2136"/>
                </a:lnTo>
                <a:lnTo>
                  <a:pt x="1073" y="2094"/>
                </a:lnTo>
                <a:lnTo>
                  <a:pt x="1073" y="2052"/>
                </a:lnTo>
                <a:lnTo>
                  <a:pt x="1072" y="1962"/>
                </a:lnTo>
                <a:lnTo>
                  <a:pt x="1069" y="1872"/>
                </a:lnTo>
                <a:lnTo>
                  <a:pt x="1064" y="1786"/>
                </a:lnTo>
                <a:lnTo>
                  <a:pt x="1057" y="1700"/>
                </a:lnTo>
                <a:lnTo>
                  <a:pt x="1049" y="1616"/>
                </a:lnTo>
                <a:lnTo>
                  <a:pt x="1039" y="1533"/>
                </a:lnTo>
                <a:lnTo>
                  <a:pt x="1027" y="1453"/>
                </a:lnTo>
                <a:lnTo>
                  <a:pt x="1012" y="1374"/>
                </a:lnTo>
                <a:lnTo>
                  <a:pt x="998" y="1296"/>
                </a:lnTo>
                <a:lnTo>
                  <a:pt x="981" y="1221"/>
                </a:lnTo>
                <a:lnTo>
                  <a:pt x="961" y="1149"/>
                </a:lnTo>
                <a:lnTo>
                  <a:pt x="942" y="1077"/>
                </a:lnTo>
                <a:lnTo>
                  <a:pt x="920" y="1010"/>
                </a:lnTo>
                <a:lnTo>
                  <a:pt x="897" y="943"/>
                </a:lnTo>
                <a:lnTo>
                  <a:pt x="874" y="880"/>
                </a:lnTo>
                <a:lnTo>
                  <a:pt x="849" y="820"/>
                </a:lnTo>
                <a:lnTo>
                  <a:pt x="822" y="762"/>
                </a:lnTo>
                <a:lnTo>
                  <a:pt x="794" y="708"/>
                </a:lnTo>
                <a:lnTo>
                  <a:pt x="765" y="655"/>
                </a:lnTo>
                <a:lnTo>
                  <a:pt x="735" y="608"/>
                </a:lnTo>
                <a:lnTo>
                  <a:pt x="704" y="562"/>
                </a:lnTo>
                <a:lnTo>
                  <a:pt x="672" y="520"/>
                </a:lnTo>
                <a:lnTo>
                  <a:pt x="639" y="481"/>
                </a:lnTo>
                <a:lnTo>
                  <a:pt x="604" y="446"/>
                </a:lnTo>
                <a:lnTo>
                  <a:pt x="570" y="414"/>
                </a:lnTo>
                <a:lnTo>
                  <a:pt x="534" y="388"/>
                </a:lnTo>
                <a:lnTo>
                  <a:pt x="498" y="364"/>
                </a:lnTo>
                <a:lnTo>
                  <a:pt x="462" y="344"/>
                </a:lnTo>
                <a:lnTo>
                  <a:pt x="424" y="330"/>
                </a:lnTo>
                <a:lnTo>
                  <a:pt x="385" y="318"/>
                </a:lnTo>
                <a:lnTo>
                  <a:pt x="347" y="311"/>
                </a:lnTo>
                <a:lnTo>
                  <a:pt x="307" y="309"/>
                </a:lnTo>
                <a:lnTo>
                  <a:pt x="307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43400" y="3408480"/>
            <a:ext cx="2138400" cy="1322280"/>
          </a:xfrm>
          <a:custGeom>
            <a:avLst/>
            <a:gdLst/>
            <a:ahLst/>
            <a:rect l="l" t="t" r="r" b="b"/>
            <a:pathLst>
              <a:path w="1347" h="1665">
                <a:moveTo>
                  <a:pt x="1218" y="827"/>
                </a:moveTo>
                <a:lnTo>
                  <a:pt x="1347" y="1006"/>
                </a:lnTo>
                <a:lnTo>
                  <a:pt x="1176" y="0"/>
                </a:lnTo>
                <a:lnTo>
                  <a:pt x="734" y="154"/>
                </a:lnTo>
                <a:lnTo>
                  <a:pt x="928" y="425"/>
                </a:lnTo>
                <a:lnTo>
                  <a:pt x="922" y="446"/>
                </a:lnTo>
                <a:lnTo>
                  <a:pt x="916" y="465"/>
                </a:lnTo>
                <a:lnTo>
                  <a:pt x="910" y="486"/>
                </a:lnTo>
                <a:lnTo>
                  <a:pt x="904" y="506"/>
                </a:lnTo>
                <a:lnTo>
                  <a:pt x="896" y="525"/>
                </a:lnTo>
                <a:lnTo>
                  <a:pt x="890" y="544"/>
                </a:lnTo>
                <a:lnTo>
                  <a:pt x="883" y="562"/>
                </a:lnTo>
                <a:lnTo>
                  <a:pt x="876" y="581"/>
                </a:lnTo>
                <a:lnTo>
                  <a:pt x="869" y="599"/>
                </a:lnTo>
                <a:lnTo>
                  <a:pt x="861" y="615"/>
                </a:lnTo>
                <a:lnTo>
                  <a:pt x="854" y="632"/>
                </a:lnTo>
                <a:lnTo>
                  <a:pt x="846" y="648"/>
                </a:lnTo>
                <a:lnTo>
                  <a:pt x="838" y="664"/>
                </a:lnTo>
                <a:lnTo>
                  <a:pt x="830" y="678"/>
                </a:lnTo>
                <a:lnTo>
                  <a:pt x="821" y="692"/>
                </a:lnTo>
                <a:lnTo>
                  <a:pt x="813" y="708"/>
                </a:lnTo>
                <a:lnTo>
                  <a:pt x="804" y="720"/>
                </a:lnTo>
                <a:lnTo>
                  <a:pt x="796" y="734"/>
                </a:lnTo>
                <a:lnTo>
                  <a:pt x="788" y="746"/>
                </a:lnTo>
                <a:lnTo>
                  <a:pt x="779" y="759"/>
                </a:lnTo>
                <a:lnTo>
                  <a:pt x="769" y="769"/>
                </a:lnTo>
                <a:lnTo>
                  <a:pt x="761" y="782"/>
                </a:lnTo>
                <a:lnTo>
                  <a:pt x="751" y="792"/>
                </a:lnTo>
                <a:lnTo>
                  <a:pt x="743" y="801"/>
                </a:lnTo>
                <a:lnTo>
                  <a:pt x="733" y="811"/>
                </a:lnTo>
                <a:lnTo>
                  <a:pt x="723" y="820"/>
                </a:lnTo>
                <a:lnTo>
                  <a:pt x="714" y="829"/>
                </a:lnTo>
                <a:lnTo>
                  <a:pt x="704" y="836"/>
                </a:lnTo>
                <a:lnTo>
                  <a:pt x="694" y="843"/>
                </a:lnTo>
                <a:lnTo>
                  <a:pt x="685" y="850"/>
                </a:lnTo>
                <a:lnTo>
                  <a:pt x="675" y="857"/>
                </a:lnTo>
                <a:lnTo>
                  <a:pt x="665" y="862"/>
                </a:lnTo>
                <a:lnTo>
                  <a:pt x="656" y="868"/>
                </a:lnTo>
                <a:lnTo>
                  <a:pt x="645" y="873"/>
                </a:lnTo>
                <a:lnTo>
                  <a:pt x="635" y="876"/>
                </a:lnTo>
                <a:lnTo>
                  <a:pt x="625" y="880"/>
                </a:lnTo>
                <a:lnTo>
                  <a:pt x="614" y="883"/>
                </a:lnTo>
                <a:lnTo>
                  <a:pt x="605" y="885"/>
                </a:lnTo>
                <a:lnTo>
                  <a:pt x="595" y="889"/>
                </a:lnTo>
                <a:lnTo>
                  <a:pt x="584" y="889"/>
                </a:lnTo>
                <a:lnTo>
                  <a:pt x="574" y="890"/>
                </a:lnTo>
                <a:lnTo>
                  <a:pt x="564" y="890"/>
                </a:lnTo>
                <a:lnTo>
                  <a:pt x="554" y="890"/>
                </a:lnTo>
                <a:lnTo>
                  <a:pt x="543" y="889"/>
                </a:lnTo>
                <a:lnTo>
                  <a:pt x="533" y="889"/>
                </a:lnTo>
                <a:lnTo>
                  <a:pt x="522" y="885"/>
                </a:lnTo>
                <a:lnTo>
                  <a:pt x="513" y="883"/>
                </a:lnTo>
                <a:lnTo>
                  <a:pt x="502" y="880"/>
                </a:lnTo>
                <a:lnTo>
                  <a:pt x="492" y="876"/>
                </a:lnTo>
                <a:lnTo>
                  <a:pt x="481" y="873"/>
                </a:lnTo>
                <a:lnTo>
                  <a:pt x="472" y="868"/>
                </a:lnTo>
                <a:lnTo>
                  <a:pt x="462" y="862"/>
                </a:lnTo>
                <a:lnTo>
                  <a:pt x="451" y="855"/>
                </a:lnTo>
                <a:lnTo>
                  <a:pt x="441" y="850"/>
                </a:lnTo>
                <a:lnTo>
                  <a:pt x="432" y="843"/>
                </a:lnTo>
                <a:lnTo>
                  <a:pt x="421" y="834"/>
                </a:lnTo>
                <a:lnTo>
                  <a:pt x="411" y="825"/>
                </a:lnTo>
                <a:lnTo>
                  <a:pt x="401" y="817"/>
                </a:lnTo>
                <a:lnTo>
                  <a:pt x="392" y="808"/>
                </a:lnTo>
                <a:lnTo>
                  <a:pt x="382" y="797"/>
                </a:lnTo>
                <a:lnTo>
                  <a:pt x="372" y="787"/>
                </a:lnTo>
                <a:lnTo>
                  <a:pt x="363" y="774"/>
                </a:lnTo>
                <a:lnTo>
                  <a:pt x="353" y="762"/>
                </a:lnTo>
                <a:lnTo>
                  <a:pt x="343" y="750"/>
                </a:lnTo>
                <a:lnTo>
                  <a:pt x="335" y="738"/>
                </a:lnTo>
                <a:lnTo>
                  <a:pt x="326" y="725"/>
                </a:lnTo>
                <a:lnTo>
                  <a:pt x="318" y="711"/>
                </a:lnTo>
                <a:lnTo>
                  <a:pt x="309" y="699"/>
                </a:lnTo>
                <a:lnTo>
                  <a:pt x="301" y="685"/>
                </a:lnTo>
                <a:lnTo>
                  <a:pt x="294" y="669"/>
                </a:lnTo>
                <a:lnTo>
                  <a:pt x="285" y="655"/>
                </a:lnTo>
                <a:lnTo>
                  <a:pt x="278" y="639"/>
                </a:lnTo>
                <a:lnTo>
                  <a:pt x="278" y="639"/>
                </a:lnTo>
                <a:lnTo>
                  <a:pt x="190" y="1161"/>
                </a:lnTo>
                <a:lnTo>
                  <a:pt x="0" y="1099"/>
                </a:lnTo>
                <a:lnTo>
                  <a:pt x="0" y="1099"/>
                </a:lnTo>
                <a:lnTo>
                  <a:pt x="26" y="1164"/>
                </a:lnTo>
                <a:lnTo>
                  <a:pt x="55" y="1224"/>
                </a:lnTo>
                <a:lnTo>
                  <a:pt x="84" y="1282"/>
                </a:lnTo>
                <a:lnTo>
                  <a:pt x="115" y="1335"/>
                </a:lnTo>
                <a:lnTo>
                  <a:pt x="146" y="1384"/>
                </a:lnTo>
                <a:lnTo>
                  <a:pt x="179" y="1428"/>
                </a:lnTo>
                <a:lnTo>
                  <a:pt x="211" y="1470"/>
                </a:lnTo>
                <a:lnTo>
                  <a:pt x="245" y="1507"/>
                </a:lnTo>
                <a:lnTo>
                  <a:pt x="279" y="1540"/>
                </a:lnTo>
                <a:lnTo>
                  <a:pt x="314" y="1570"/>
                </a:lnTo>
                <a:lnTo>
                  <a:pt x="349" y="1595"/>
                </a:lnTo>
                <a:lnTo>
                  <a:pt x="384" y="1616"/>
                </a:lnTo>
                <a:lnTo>
                  <a:pt x="421" y="1633"/>
                </a:lnTo>
                <a:lnTo>
                  <a:pt x="457" y="1647"/>
                </a:lnTo>
                <a:lnTo>
                  <a:pt x="493" y="1658"/>
                </a:lnTo>
                <a:lnTo>
                  <a:pt x="531" y="1663"/>
                </a:lnTo>
                <a:lnTo>
                  <a:pt x="567" y="1665"/>
                </a:lnTo>
                <a:lnTo>
                  <a:pt x="604" y="1662"/>
                </a:lnTo>
                <a:lnTo>
                  <a:pt x="641" y="1656"/>
                </a:lnTo>
                <a:lnTo>
                  <a:pt x="677" y="1646"/>
                </a:lnTo>
                <a:lnTo>
                  <a:pt x="714" y="1632"/>
                </a:lnTo>
                <a:lnTo>
                  <a:pt x="750" y="1612"/>
                </a:lnTo>
                <a:lnTo>
                  <a:pt x="785" y="1591"/>
                </a:lnTo>
                <a:lnTo>
                  <a:pt x="821" y="1565"/>
                </a:lnTo>
                <a:lnTo>
                  <a:pt x="855" y="1533"/>
                </a:lnTo>
                <a:lnTo>
                  <a:pt x="890" y="1500"/>
                </a:lnTo>
                <a:lnTo>
                  <a:pt x="924" y="1461"/>
                </a:lnTo>
                <a:lnTo>
                  <a:pt x="957" y="1417"/>
                </a:lnTo>
                <a:lnTo>
                  <a:pt x="990" y="1372"/>
                </a:lnTo>
                <a:lnTo>
                  <a:pt x="1021" y="1321"/>
                </a:lnTo>
                <a:lnTo>
                  <a:pt x="1051" y="1266"/>
                </a:lnTo>
                <a:lnTo>
                  <a:pt x="1082" y="1207"/>
                </a:lnTo>
                <a:lnTo>
                  <a:pt x="1101" y="1164"/>
                </a:lnTo>
                <a:lnTo>
                  <a:pt x="1120" y="1121"/>
                </a:lnTo>
                <a:lnTo>
                  <a:pt x="1139" y="1075"/>
                </a:lnTo>
                <a:lnTo>
                  <a:pt x="1155" y="1029"/>
                </a:lnTo>
                <a:lnTo>
                  <a:pt x="1172" y="980"/>
                </a:lnTo>
                <a:lnTo>
                  <a:pt x="1188" y="931"/>
                </a:lnTo>
                <a:lnTo>
                  <a:pt x="1204" y="880"/>
                </a:lnTo>
                <a:lnTo>
                  <a:pt x="1218" y="827"/>
                </a:lnTo>
                <a:lnTo>
                  <a:pt x="1218" y="82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43400" y="3408480"/>
            <a:ext cx="2138400" cy="1322280"/>
          </a:xfrm>
          <a:custGeom>
            <a:avLst/>
            <a:gdLst/>
            <a:ahLst/>
            <a:rect l="l" t="t" r="r" b="b"/>
            <a:pathLst>
              <a:path w="1347" h="1665">
                <a:moveTo>
                  <a:pt x="1218" y="827"/>
                </a:moveTo>
                <a:lnTo>
                  <a:pt x="1347" y="1006"/>
                </a:lnTo>
                <a:lnTo>
                  <a:pt x="1176" y="0"/>
                </a:lnTo>
                <a:lnTo>
                  <a:pt x="734" y="154"/>
                </a:lnTo>
                <a:lnTo>
                  <a:pt x="928" y="425"/>
                </a:lnTo>
                <a:lnTo>
                  <a:pt x="922" y="446"/>
                </a:lnTo>
                <a:lnTo>
                  <a:pt x="916" y="465"/>
                </a:lnTo>
                <a:lnTo>
                  <a:pt x="910" y="486"/>
                </a:lnTo>
                <a:lnTo>
                  <a:pt x="904" y="506"/>
                </a:lnTo>
                <a:lnTo>
                  <a:pt x="896" y="525"/>
                </a:lnTo>
                <a:lnTo>
                  <a:pt x="890" y="544"/>
                </a:lnTo>
                <a:lnTo>
                  <a:pt x="883" y="562"/>
                </a:lnTo>
                <a:lnTo>
                  <a:pt x="876" y="581"/>
                </a:lnTo>
                <a:lnTo>
                  <a:pt x="869" y="599"/>
                </a:lnTo>
                <a:lnTo>
                  <a:pt x="861" y="615"/>
                </a:lnTo>
                <a:lnTo>
                  <a:pt x="854" y="632"/>
                </a:lnTo>
                <a:lnTo>
                  <a:pt x="846" y="648"/>
                </a:lnTo>
                <a:lnTo>
                  <a:pt x="838" y="664"/>
                </a:lnTo>
                <a:lnTo>
                  <a:pt x="830" y="678"/>
                </a:lnTo>
                <a:lnTo>
                  <a:pt x="821" y="692"/>
                </a:lnTo>
                <a:lnTo>
                  <a:pt x="813" y="708"/>
                </a:lnTo>
                <a:lnTo>
                  <a:pt x="804" y="720"/>
                </a:lnTo>
                <a:lnTo>
                  <a:pt x="796" y="734"/>
                </a:lnTo>
                <a:lnTo>
                  <a:pt x="788" y="746"/>
                </a:lnTo>
                <a:lnTo>
                  <a:pt x="779" y="759"/>
                </a:lnTo>
                <a:lnTo>
                  <a:pt x="769" y="769"/>
                </a:lnTo>
                <a:lnTo>
                  <a:pt x="761" y="782"/>
                </a:lnTo>
                <a:lnTo>
                  <a:pt x="751" y="792"/>
                </a:lnTo>
                <a:lnTo>
                  <a:pt x="743" y="801"/>
                </a:lnTo>
                <a:lnTo>
                  <a:pt x="733" y="811"/>
                </a:lnTo>
                <a:lnTo>
                  <a:pt x="723" y="820"/>
                </a:lnTo>
                <a:lnTo>
                  <a:pt x="714" y="829"/>
                </a:lnTo>
                <a:lnTo>
                  <a:pt x="704" y="836"/>
                </a:lnTo>
                <a:lnTo>
                  <a:pt x="694" y="843"/>
                </a:lnTo>
                <a:lnTo>
                  <a:pt x="685" y="850"/>
                </a:lnTo>
                <a:lnTo>
                  <a:pt x="675" y="857"/>
                </a:lnTo>
                <a:lnTo>
                  <a:pt x="665" y="862"/>
                </a:lnTo>
                <a:lnTo>
                  <a:pt x="656" y="868"/>
                </a:lnTo>
                <a:lnTo>
                  <a:pt x="645" y="873"/>
                </a:lnTo>
                <a:lnTo>
                  <a:pt x="635" y="876"/>
                </a:lnTo>
                <a:lnTo>
                  <a:pt x="625" y="880"/>
                </a:lnTo>
                <a:lnTo>
                  <a:pt x="614" y="883"/>
                </a:lnTo>
                <a:lnTo>
                  <a:pt x="605" y="885"/>
                </a:lnTo>
                <a:lnTo>
                  <a:pt x="595" y="889"/>
                </a:lnTo>
                <a:lnTo>
                  <a:pt x="584" y="889"/>
                </a:lnTo>
                <a:lnTo>
                  <a:pt x="574" y="890"/>
                </a:lnTo>
                <a:lnTo>
                  <a:pt x="564" y="890"/>
                </a:lnTo>
                <a:lnTo>
                  <a:pt x="554" y="890"/>
                </a:lnTo>
                <a:lnTo>
                  <a:pt x="543" y="889"/>
                </a:lnTo>
                <a:lnTo>
                  <a:pt x="533" y="889"/>
                </a:lnTo>
                <a:lnTo>
                  <a:pt x="522" y="885"/>
                </a:lnTo>
                <a:lnTo>
                  <a:pt x="513" y="883"/>
                </a:lnTo>
                <a:lnTo>
                  <a:pt x="502" y="880"/>
                </a:lnTo>
                <a:lnTo>
                  <a:pt x="492" y="876"/>
                </a:lnTo>
                <a:lnTo>
                  <a:pt x="481" y="873"/>
                </a:lnTo>
                <a:lnTo>
                  <a:pt x="472" y="868"/>
                </a:lnTo>
                <a:lnTo>
                  <a:pt x="462" y="862"/>
                </a:lnTo>
                <a:lnTo>
                  <a:pt x="451" y="855"/>
                </a:lnTo>
                <a:lnTo>
                  <a:pt x="441" y="850"/>
                </a:lnTo>
                <a:lnTo>
                  <a:pt x="432" y="843"/>
                </a:lnTo>
                <a:lnTo>
                  <a:pt x="421" y="834"/>
                </a:lnTo>
                <a:lnTo>
                  <a:pt x="411" y="825"/>
                </a:lnTo>
                <a:lnTo>
                  <a:pt x="401" y="817"/>
                </a:lnTo>
                <a:lnTo>
                  <a:pt x="392" y="808"/>
                </a:lnTo>
                <a:lnTo>
                  <a:pt x="382" y="797"/>
                </a:lnTo>
                <a:lnTo>
                  <a:pt x="372" y="787"/>
                </a:lnTo>
                <a:lnTo>
                  <a:pt x="363" y="774"/>
                </a:lnTo>
                <a:lnTo>
                  <a:pt x="353" y="762"/>
                </a:lnTo>
                <a:lnTo>
                  <a:pt x="343" y="750"/>
                </a:lnTo>
                <a:lnTo>
                  <a:pt x="335" y="738"/>
                </a:lnTo>
                <a:lnTo>
                  <a:pt x="326" y="725"/>
                </a:lnTo>
                <a:lnTo>
                  <a:pt x="318" y="711"/>
                </a:lnTo>
                <a:lnTo>
                  <a:pt x="309" y="699"/>
                </a:lnTo>
                <a:lnTo>
                  <a:pt x="301" y="685"/>
                </a:lnTo>
                <a:lnTo>
                  <a:pt x="294" y="669"/>
                </a:lnTo>
                <a:lnTo>
                  <a:pt x="285" y="655"/>
                </a:lnTo>
                <a:lnTo>
                  <a:pt x="278" y="639"/>
                </a:lnTo>
                <a:lnTo>
                  <a:pt x="278" y="639"/>
                </a:lnTo>
                <a:lnTo>
                  <a:pt x="190" y="1161"/>
                </a:lnTo>
                <a:lnTo>
                  <a:pt x="0" y="1099"/>
                </a:lnTo>
                <a:lnTo>
                  <a:pt x="0" y="1099"/>
                </a:lnTo>
                <a:lnTo>
                  <a:pt x="26" y="1164"/>
                </a:lnTo>
                <a:lnTo>
                  <a:pt x="55" y="1224"/>
                </a:lnTo>
                <a:lnTo>
                  <a:pt x="84" y="1282"/>
                </a:lnTo>
                <a:lnTo>
                  <a:pt x="115" y="1335"/>
                </a:lnTo>
                <a:lnTo>
                  <a:pt x="146" y="1384"/>
                </a:lnTo>
                <a:lnTo>
                  <a:pt x="179" y="1428"/>
                </a:lnTo>
                <a:lnTo>
                  <a:pt x="211" y="1470"/>
                </a:lnTo>
                <a:lnTo>
                  <a:pt x="245" y="1507"/>
                </a:lnTo>
                <a:lnTo>
                  <a:pt x="279" y="1540"/>
                </a:lnTo>
                <a:lnTo>
                  <a:pt x="314" y="1570"/>
                </a:lnTo>
                <a:lnTo>
                  <a:pt x="349" y="1595"/>
                </a:lnTo>
                <a:lnTo>
                  <a:pt x="384" y="1616"/>
                </a:lnTo>
                <a:lnTo>
                  <a:pt x="421" y="1633"/>
                </a:lnTo>
                <a:lnTo>
                  <a:pt x="457" y="1647"/>
                </a:lnTo>
                <a:lnTo>
                  <a:pt x="493" y="1658"/>
                </a:lnTo>
                <a:lnTo>
                  <a:pt x="531" y="1663"/>
                </a:lnTo>
                <a:lnTo>
                  <a:pt x="567" y="1665"/>
                </a:lnTo>
                <a:lnTo>
                  <a:pt x="604" y="1662"/>
                </a:lnTo>
                <a:lnTo>
                  <a:pt x="641" y="1656"/>
                </a:lnTo>
                <a:lnTo>
                  <a:pt x="677" y="1646"/>
                </a:lnTo>
                <a:lnTo>
                  <a:pt x="714" y="1632"/>
                </a:lnTo>
                <a:lnTo>
                  <a:pt x="750" y="1612"/>
                </a:lnTo>
                <a:lnTo>
                  <a:pt x="785" y="1591"/>
                </a:lnTo>
                <a:lnTo>
                  <a:pt x="821" y="1565"/>
                </a:lnTo>
                <a:lnTo>
                  <a:pt x="855" y="1533"/>
                </a:lnTo>
                <a:lnTo>
                  <a:pt x="890" y="1500"/>
                </a:lnTo>
                <a:lnTo>
                  <a:pt x="924" y="1461"/>
                </a:lnTo>
                <a:lnTo>
                  <a:pt x="957" y="1417"/>
                </a:lnTo>
                <a:lnTo>
                  <a:pt x="990" y="1372"/>
                </a:lnTo>
                <a:lnTo>
                  <a:pt x="1021" y="1321"/>
                </a:lnTo>
                <a:lnTo>
                  <a:pt x="1051" y="1266"/>
                </a:lnTo>
                <a:lnTo>
                  <a:pt x="1082" y="1207"/>
                </a:lnTo>
                <a:lnTo>
                  <a:pt x="1101" y="1164"/>
                </a:lnTo>
                <a:lnTo>
                  <a:pt x="1120" y="1121"/>
                </a:lnTo>
                <a:lnTo>
                  <a:pt x="1139" y="1075"/>
                </a:lnTo>
                <a:lnTo>
                  <a:pt x="1155" y="1029"/>
                </a:lnTo>
                <a:lnTo>
                  <a:pt x="1172" y="980"/>
                </a:lnTo>
                <a:lnTo>
                  <a:pt x="1188" y="931"/>
                </a:lnTo>
                <a:lnTo>
                  <a:pt x="1204" y="880"/>
                </a:lnTo>
                <a:lnTo>
                  <a:pt x="1218" y="827"/>
                </a:lnTo>
                <a:lnTo>
                  <a:pt x="1218" y="8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1981080"/>
            <a:ext cx="1162080" cy="2347920"/>
          </a:xfrm>
          <a:custGeom>
            <a:avLst/>
            <a:gdLst/>
            <a:ahLst/>
            <a:rect l="l" t="t" r="r" b="b"/>
            <a:pathLst>
              <a:path w="732" h="2960">
                <a:moveTo>
                  <a:pt x="181" y="2566"/>
                </a:moveTo>
                <a:lnTo>
                  <a:pt x="0" y="2805"/>
                </a:lnTo>
                <a:lnTo>
                  <a:pt x="477" y="2960"/>
                </a:lnTo>
                <a:lnTo>
                  <a:pt x="646" y="1953"/>
                </a:lnTo>
                <a:lnTo>
                  <a:pt x="475" y="2178"/>
                </a:lnTo>
                <a:lnTo>
                  <a:pt x="469" y="2152"/>
                </a:lnTo>
                <a:lnTo>
                  <a:pt x="465" y="2126"/>
                </a:lnTo>
                <a:lnTo>
                  <a:pt x="458" y="2097"/>
                </a:lnTo>
                <a:lnTo>
                  <a:pt x="454" y="2071"/>
                </a:lnTo>
                <a:lnTo>
                  <a:pt x="449" y="2043"/>
                </a:lnTo>
                <a:lnTo>
                  <a:pt x="445" y="2015"/>
                </a:lnTo>
                <a:lnTo>
                  <a:pt x="442" y="1985"/>
                </a:lnTo>
                <a:lnTo>
                  <a:pt x="438" y="1957"/>
                </a:lnTo>
                <a:lnTo>
                  <a:pt x="435" y="1929"/>
                </a:lnTo>
                <a:lnTo>
                  <a:pt x="433" y="1899"/>
                </a:lnTo>
                <a:lnTo>
                  <a:pt x="431" y="1869"/>
                </a:lnTo>
                <a:lnTo>
                  <a:pt x="428" y="1841"/>
                </a:lnTo>
                <a:lnTo>
                  <a:pt x="427" y="1811"/>
                </a:lnTo>
                <a:lnTo>
                  <a:pt x="426" y="1781"/>
                </a:lnTo>
                <a:lnTo>
                  <a:pt x="426" y="1751"/>
                </a:lnTo>
                <a:lnTo>
                  <a:pt x="426" y="1722"/>
                </a:lnTo>
                <a:lnTo>
                  <a:pt x="426" y="1686"/>
                </a:lnTo>
                <a:lnTo>
                  <a:pt x="427" y="1651"/>
                </a:lnTo>
                <a:lnTo>
                  <a:pt x="428" y="1618"/>
                </a:lnTo>
                <a:lnTo>
                  <a:pt x="429" y="1583"/>
                </a:lnTo>
                <a:lnTo>
                  <a:pt x="432" y="1549"/>
                </a:lnTo>
                <a:lnTo>
                  <a:pt x="435" y="1516"/>
                </a:lnTo>
                <a:lnTo>
                  <a:pt x="438" y="1483"/>
                </a:lnTo>
                <a:lnTo>
                  <a:pt x="443" y="1451"/>
                </a:lnTo>
                <a:lnTo>
                  <a:pt x="446" y="1418"/>
                </a:lnTo>
                <a:lnTo>
                  <a:pt x="451" y="1386"/>
                </a:lnTo>
                <a:lnTo>
                  <a:pt x="457" y="1354"/>
                </a:lnTo>
                <a:lnTo>
                  <a:pt x="463" y="1323"/>
                </a:lnTo>
                <a:lnTo>
                  <a:pt x="469" y="1293"/>
                </a:lnTo>
                <a:lnTo>
                  <a:pt x="477" y="1263"/>
                </a:lnTo>
                <a:lnTo>
                  <a:pt x="484" y="1233"/>
                </a:lnTo>
                <a:lnTo>
                  <a:pt x="491" y="1205"/>
                </a:lnTo>
                <a:lnTo>
                  <a:pt x="500" y="1177"/>
                </a:lnTo>
                <a:lnTo>
                  <a:pt x="508" y="1149"/>
                </a:lnTo>
                <a:lnTo>
                  <a:pt x="517" y="1123"/>
                </a:lnTo>
                <a:lnTo>
                  <a:pt x="526" y="1096"/>
                </a:lnTo>
                <a:lnTo>
                  <a:pt x="536" y="1072"/>
                </a:lnTo>
                <a:lnTo>
                  <a:pt x="546" y="1047"/>
                </a:lnTo>
                <a:lnTo>
                  <a:pt x="556" y="1022"/>
                </a:lnTo>
                <a:lnTo>
                  <a:pt x="567" y="1000"/>
                </a:lnTo>
                <a:lnTo>
                  <a:pt x="578" y="977"/>
                </a:lnTo>
                <a:lnTo>
                  <a:pt x="590" y="956"/>
                </a:lnTo>
                <a:lnTo>
                  <a:pt x="602" y="936"/>
                </a:lnTo>
                <a:lnTo>
                  <a:pt x="615" y="917"/>
                </a:lnTo>
                <a:lnTo>
                  <a:pt x="628" y="898"/>
                </a:lnTo>
                <a:lnTo>
                  <a:pt x="640" y="880"/>
                </a:lnTo>
                <a:lnTo>
                  <a:pt x="653" y="864"/>
                </a:lnTo>
                <a:lnTo>
                  <a:pt x="668" y="849"/>
                </a:lnTo>
                <a:lnTo>
                  <a:pt x="668" y="849"/>
                </a:lnTo>
                <a:lnTo>
                  <a:pt x="544" y="522"/>
                </a:lnTo>
                <a:lnTo>
                  <a:pt x="732" y="0"/>
                </a:lnTo>
                <a:lnTo>
                  <a:pt x="697" y="14"/>
                </a:lnTo>
                <a:lnTo>
                  <a:pt x="663" y="32"/>
                </a:lnTo>
                <a:lnTo>
                  <a:pt x="630" y="53"/>
                </a:lnTo>
                <a:lnTo>
                  <a:pt x="598" y="77"/>
                </a:lnTo>
                <a:lnTo>
                  <a:pt x="565" y="106"/>
                </a:lnTo>
                <a:lnTo>
                  <a:pt x="534" y="135"/>
                </a:lnTo>
                <a:lnTo>
                  <a:pt x="503" y="169"/>
                </a:lnTo>
                <a:lnTo>
                  <a:pt x="474" y="206"/>
                </a:lnTo>
                <a:lnTo>
                  <a:pt x="445" y="244"/>
                </a:lnTo>
                <a:lnTo>
                  <a:pt x="417" y="286"/>
                </a:lnTo>
                <a:lnTo>
                  <a:pt x="389" y="330"/>
                </a:lnTo>
                <a:lnTo>
                  <a:pt x="364" y="378"/>
                </a:lnTo>
                <a:lnTo>
                  <a:pt x="339" y="427"/>
                </a:lnTo>
                <a:lnTo>
                  <a:pt x="314" y="478"/>
                </a:lnTo>
                <a:lnTo>
                  <a:pt x="291" y="532"/>
                </a:lnTo>
                <a:lnTo>
                  <a:pt x="268" y="589"/>
                </a:lnTo>
                <a:lnTo>
                  <a:pt x="248" y="648"/>
                </a:lnTo>
                <a:lnTo>
                  <a:pt x="227" y="708"/>
                </a:lnTo>
                <a:lnTo>
                  <a:pt x="209" y="771"/>
                </a:lnTo>
                <a:lnTo>
                  <a:pt x="191" y="835"/>
                </a:lnTo>
                <a:lnTo>
                  <a:pt x="175" y="901"/>
                </a:lnTo>
                <a:lnTo>
                  <a:pt x="160" y="970"/>
                </a:lnTo>
                <a:lnTo>
                  <a:pt x="146" y="1038"/>
                </a:lnTo>
                <a:lnTo>
                  <a:pt x="134" y="1109"/>
                </a:lnTo>
                <a:lnTo>
                  <a:pt x="122" y="1182"/>
                </a:lnTo>
                <a:lnTo>
                  <a:pt x="112" y="1256"/>
                </a:lnTo>
                <a:lnTo>
                  <a:pt x="104" y="1330"/>
                </a:lnTo>
                <a:lnTo>
                  <a:pt x="98" y="1407"/>
                </a:lnTo>
                <a:lnTo>
                  <a:pt x="92" y="1484"/>
                </a:lnTo>
                <a:lnTo>
                  <a:pt x="88" y="1562"/>
                </a:lnTo>
                <a:lnTo>
                  <a:pt x="86" y="1641"/>
                </a:lnTo>
                <a:lnTo>
                  <a:pt x="84" y="1722"/>
                </a:lnTo>
                <a:lnTo>
                  <a:pt x="86" y="1776"/>
                </a:lnTo>
                <a:lnTo>
                  <a:pt x="87" y="1832"/>
                </a:lnTo>
                <a:lnTo>
                  <a:pt x="88" y="1887"/>
                </a:lnTo>
                <a:lnTo>
                  <a:pt x="91" y="1941"/>
                </a:lnTo>
                <a:lnTo>
                  <a:pt x="94" y="1996"/>
                </a:lnTo>
                <a:lnTo>
                  <a:pt x="99" y="2050"/>
                </a:lnTo>
                <a:lnTo>
                  <a:pt x="104" y="2104"/>
                </a:lnTo>
                <a:lnTo>
                  <a:pt x="110" y="2157"/>
                </a:lnTo>
                <a:lnTo>
                  <a:pt x="116" y="2212"/>
                </a:lnTo>
                <a:lnTo>
                  <a:pt x="123" y="2264"/>
                </a:lnTo>
                <a:lnTo>
                  <a:pt x="130" y="2315"/>
                </a:lnTo>
                <a:lnTo>
                  <a:pt x="139" y="2368"/>
                </a:lnTo>
                <a:lnTo>
                  <a:pt x="149" y="2417"/>
                </a:lnTo>
                <a:lnTo>
                  <a:pt x="160" y="2468"/>
                </a:lnTo>
                <a:lnTo>
                  <a:pt x="169" y="2517"/>
                </a:lnTo>
                <a:lnTo>
                  <a:pt x="181" y="2566"/>
                </a:lnTo>
                <a:lnTo>
                  <a:pt x="181" y="256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1981080"/>
            <a:ext cx="1162080" cy="2347920"/>
          </a:xfrm>
          <a:custGeom>
            <a:avLst/>
            <a:gdLst/>
            <a:ahLst/>
            <a:rect l="l" t="t" r="r" b="b"/>
            <a:pathLst>
              <a:path w="732" h="2960">
                <a:moveTo>
                  <a:pt x="181" y="2566"/>
                </a:moveTo>
                <a:lnTo>
                  <a:pt x="0" y="2805"/>
                </a:lnTo>
                <a:lnTo>
                  <a:pt x="477" y="2960"/>
                </a:lnTo>
                <a:lnTo>
                  <a:pt x="646" y="1953"/>
                </a:lnTo>
                <a:lnTo>
                  <a:pt x="475" y="2178"/>
                </a:lnTo>
                <a:lnTo>
                  <a:pt x="469" y="2152"/>
                </a:lnTo>
                <a:lnTo>
                  <a:pt x="465" y="2126"/>
                </a:lnTo>
                <a:lnTo>
                  <a:pt x="458" y="2097"/>
                </a:lnTo>
                <a:lnTo>
                  <a:pt x="454" y="2071"/>
                </a:lnTo>
                <a:lnTo>
                  <a:pt x="449" y="2043"/>
                </a:lnTo>
                <a:lnTo>
                  <a:pt x="445" y="2015"/>
                </a:lnTo>
                <a:lnTo>
                  <a:pt x="442" y="1985"/>
                </a:lnTo>
                <a:lnTo>
                  <a:pt x="438" y="1957"/>
                </a:lnTo>
                <a:lnTo>
                  <a:pt x="435" y="1929"/>
                </a:lnTo>
                <a:lnTo>
                  <a:pt x="433" y="1899"/>
                </a:lnTo>
                <a:lnTo>
                  <a:pt x="431" y="1869"/>
                </a:lnTo>
                <a:lnTo>
                  <a:pt x="428" y="1841"/>
                </a:lnTo>
                <a:lnTo>
                  <a:pt x="427" y="1811"/>
                </a:lnTo>
                <a:lnTo>
                  <a:pt x="426" y="1781"/>
                </a:lnTo>
                <a:lnTo>
                  <a:pt x="426" y="1751"/>
                </a:lnTo>
                <a:lnTo>
                  <a:pt x="426" y="1722"/>
                </a:lnTo>
                <a:lnTo>
                  <a:pt x="426" y="1686"/>
                </a:lnTo>
                <a:lnTo>
                  <a:pt x="427" y="1651"/>
                </a:lnTo>
                <a:lnTo>
                  <a:pt x="428" y="1618"/>
                </a:lnTo>
                <a:lnTo>
                  <a:pt x="429" y="1583"/>
                </a:lnTo>
                <a:lnTo>
                  <a:pt x="432" y="1549"/>
                </a:lnTo>
                <a:lnTo>
                  <a:pt x="435" y="1516"/>
                </a:lnTo>
                <a:lnTo>
                  <a:pt x="438" y="1483"/>
                </a:lnTo>
                <a:lnTo>
                  <a:pt x="443" y="1451"/>
                </a:lnTo>
                <a:lnTo>
                  <a:pt x="446" y="1418"/>
                </a:lnTo>
                <a:lnTo>
                  <a:pt x="451" y="1386"/>
                </a:lnTo>
                <a:lnTo>
                  <a:pt x="457" y="1354"/>
                </a:lnTo>
                <a:lnTo>
                  <a:pt x="463" y="1323"/>
                </a:lnTo>
                <a:lnTo>
                  <a:pt x="469" y="1293"/>
                </a:lnTo>
                <a:lnTo>
                  <a:pt x="477" y="1263"/>
                </a:lnTo>
                <a:lnTo>
                  <a:pt x="484" y="1233"/>
                </a:lnTo>
                <a:lnTo>
                  <a:pt x="491" y="1205"/>
                </a:lnTo>
                <a:lnTo>
                  <a:pt x="500" y="1177"/>
                </a:lnTo>
                <a:lnTo>
                  <a:pt x="508" y="1149"/>
                </a:lnTo>
                <a:lnTo>
                  <a:pt x="517" y="1123"/>
                </a:lnTo>
                <a:lnTo>
                  <a:pt x="526" y="1096"/>
                </a:lnTo>
                <a:lnTo>
                  <a:pt x="536" y="1072"/>
                </a:lnTo>
                <a:lnTo>
                  <a:pt x="546" y="1047"/>
                </a:lnTo>
                <a:lnTo>
                  <a:pt x="556" y="1022"/>
                </a:lnTo>
                <a:lnTo>
                  <a:pt x="567" y="1000"/>
                </a:lnTo>
                <a:lnTo>
                  <a:pt x="578" y="977"/>
                </a:lnTo>
                <a:lnTo>
                  <a:pt x="590" y="956"/>
                </a:lnTo>
                <a:lnTo>
                  <a:pt x="602" y="936"/>
                </a:lnTo>
                <a:lnTo>
                  <a:pt x="615" y="917"/>
                </a:lnTo>
                <a:lnTo>
                  <a:pt x="628" y="898"/>
                </a:lnTo>
                <a:lnTo>
                  <a:pt x="640" y="880"/>
                </a:lnTo>
                <a:lnTo>
                  <a:pt x="653" y="864"/>
                </a:lnTo>
                <a:lnTo>
                  <a:pt x="668" y="849"/>
                </a:lnTo>
                <a:lnTo>
                  <a:pt x="668" y="849"/>
                </a:lnTo>
                <a:lnTo>
                  <a:pt x="544" y="522"/>
                </a:lnTo>
                <a:lnTo>
                  <a:pt x="732" y="0"/>
                </a:lnTo>
                <a:lnTo>
                  <a:pt x="697" y="14"/>
                </a:lnTo>
                <a:lnTo>
                  <a:pt x="663" y="32"/>
                </a:lnTo>
                <a:lnTo>
                  <a:pt x="630" y="53"/>
                </a:lnTo>
                <a:lnTo>
                  <a:pt x="598" y="77"/>
                </a:lnTo>
                <a:lnTo>
                  <a:pt x="565" y="106"/>
                </a:lnTo>
                <a:lnTo>
                  <a:pt x="534" y="135"/>
                </a:lnTo>
                <a:lnTo>
                  <a:pt x="503" y="169"/>
                </a:lnTo>
                <a:lnTo>
                  <a:pt x="474" y="206"/>
                </a:lnTo>
                <a:lnTo>
                  <a:pt x="445" y="244"/>
                </a:lnTo>
                <a:lnTo>
                  <a:pt x="417" y="286"/>
                </a:lnTo>
                <a:lnTo>
                  <a:pt x="389" y="330"/>
                </a:lnTo>
                <a:lnTo>
                  <a:pt x="364" y="378"/>
                </a:lnTo>
                <a:lnTo>
                  <a:pt x="339" y="427"/>
                </a:lnTo>
                <a:lnTo>
                  <a:pt x="314" y="478"/>
                </a:lnTo>
                <a:lnTo>
                  <a:pt x="291" y="532"/>
                </a:lnTo>
                <a:lnTo>
                  <a:pt x="268" y="589"/>
                </a:lnTo>
                <a:lnTo>
                  <a:pt x="248" y="648"/>
                </a:lnTo>
                <a:lnTo>
                  <a:pt x="227" y="708"/>
                </a:lnTo>
                <a:lnTo>
                  <a:pt x="209" y="771"/>
                </a:lnTo>
                <a:lnTo>
                  <a:pt x="191" y="835"/>
                </a:lnTo>
                <a:lnTo>
                  <a:pt x="175" y="901"/>
                </a:lnTo>
                <a:lnTo>
                  <a:pt x="160" y="970"/>
                </a:lnTo>
                <a:lnTo>
                  <a:pt x="146" y="1038"/>
                </a:lnTo>
                <a:lnTo>
                  <a:pt x="134" y="1109"/>
                </a:lnTo>
                <a:lnTo>
                  <a:pt x="122" y="1182"/>
                </a:lnTo>
                <a:lnTo>
                  <a:pt x="112" y="1256"/>
                </a:lnTo>
                <a:lnTo>
                  <a:pt x="104" y="1330"/>
                </a:lnTo>
                <a:lnTo>
                  <a:pt x="98" y="1407"/>
                </a:lnTo>
                <a:lnTo>
                  <a:pt x="92" y="1484"/>
                </a:lnTo>
                <a:lnTo>
                  <a:pt x="88" y="1562"/>
                </a:lnTo>
                <a:lnTo>
                  <a:pt x="86" y="1641"/>
                </a:lnTo>
                <a:lnTo>
                  <a:pt x="84" y="1722"/>
                </a:lnTo>
                <a:lnTo>
                  <a:pt x="86" y="1776"/>
                </a:lnTo>
                <a:lnTo>
                  <a:pt x="87" y="1832"/>
                </a:lnTo>
                <a:lnTo>
                  <a:pt x="88" y="1887"/>
                </a:lnTo>
                <a:lnTo>
                  <a:pt x="91" y="1941"/>
                </a:lnTo>
                <a:lnTo>
                  <a:pt x="94" y="1996"/>
                </a:lnTo>
                <a:lnTo>
                  <a:pt x="99" y="2050"/>
                </a:lnTo>
                <a:lnTo>
                  <a:pt x="104" y="2104"/>
                </a:lnTo>
                <a:lnTo>
                  <a:pt x="110" y="2157"/>
                </a:lnTo>
                <a:lnTo>
                  <a:pt x="116" y="2212"/>
                </a:lnTo>
                <a:lnTo>
                  <a:pt x="123" y="2264"/>
                </a:lnTo>
                <a:lnTo>
                  <a:pt x="130" y="2315"/>
                </a:lnTo>
                <a:lnTo>
                  <a:pt x="139" y="2368"/>
                </a:lnTo>
                <a:lnTo>
                  <a:pt x="149" y="2417"/>
                </a:lnTo>
                <a:lnTo>
                  <a:pt x="160" y="2468"/>
                </a:lnTo>
                <a:lnTo>
                  <a:pt x="169" y="2517"/>
                </a:lnTo>
                <a:lnTo>
                  <a:pt x="181" y="2566"/>
                </a:lnTo>
                <a:lnTo>
                  <a:pt x="181" y="256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9240" y="3009960"/>
            <a:ext cx="103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31120" y="324000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27360" y="4732200"/>
            <a:ext cx="106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aturit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74760" y="248760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lexibility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39200" y="270036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pdate/ad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93840" y="291312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20760" y="357660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lexibility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5200" y="378936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pdate/ad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79160" y="4000680"/>
            <a:ext cx="60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6400" y="3225960"/>
            <a:ext cx="73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ucce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66840" y="1949400"/>
            <a:ext cx="156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n-line subscrip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5000" y="4432320"/>
            <a:ext cx="134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n-line forum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8480" y="4645080"/>
            <a:ext cx="166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lic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ments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61520" y="4856040"/>
            <a:ext cx="125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89840" y="1968480"/>
            <a:ext cx="169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ransfer of own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94840" y="504828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velop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42840" y="5261040"/>
            <a:ext cx="165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artnership networ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78600" y="4519440"/>
            <a:ext cx="168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letion of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96280" y="3014640"/>
            <a:ext cx="14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ared failures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75040" y="4068720"/>
            <a:ext cx="1488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 monito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41280" y="3622680"/>
            <a:ext cx="143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ject eval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8200" y="3224160"/>
            <a:ext cx="120024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8200" y="3224160"/>
            <a:ext cx="1200240" cy="557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400" y="339084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Progra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2080" y="128916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PoA Strateg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2960" y="1550880"/>
            <a:ext cx="1605240" cy="474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1960" y="1717560"/>
            <a:ext cx="120168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7560" y="1717560"/>
            <a:ext cx="1203480" cy="55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4960" y="1779480"/>
            <a:ext cx="79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Main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of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3000" y="2332080"/>
            <a:ext cx="480960" cy="780840"/>
          </a:xfrm>
          <a:custGeom>
            <a:avLst/>
            <a:gdLst/>
            <a:ahLst/>
            <a:rect l="l" t="t" r="r" b="b"/>
            <a:pathLst>
              <a:path w="303" h="983">
                <a:moveTo>
                  <a:pt x="152" y="983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0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73000" y="2332080"/>
            <a:ext cx="480960" cy="780840"/>
          </a:xfrm>
          <a:custGeom>
            <a:avLst/>
            <a:gdLst/>
            <a:ahLst/>
            <a:rect l="l" t="t" r="r" b="b"/>
            <a:pathLst>
              <a:path w="303" h="983">
                <a:moveTo>
                  <a:pt x="152" y="983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0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73000" y="3894120"/>
            <a:ext cx="480960" cy="779400"/>
          </a:xfrm>
          <a:custGeom>
            <a:avLst/>
            <a:gdLst/>
            <a:ahLst/>
            <a:rect l="l" t="t" r="r" b="b"/>
            <a:pathLst>
              <a:path w="303" h="984">
                <a:moveTo>
                  <a:pt x="152" y="984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1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73000" y="3894120"/>
            <a:ext cx="480960" cy="779400"/>
          </a:xfrm>
          <a:custGeom>
            <a:avLst/>
            <a:gdLst/>
            <a:ahLst/>
            <a:rect l="l" t="t" r="r" b="b"/>
            <a:pathLst>
              <a:path w="303" h="984">
                <a:moveTo>
                  <a:pt x="152" y="984"/>
                </a:moveTo>
                <a:lnTo>
                  <a:pt x="0" y="492"/>
                </a:lnTo>
                <a:lnTo>
                  <a:pt x="91" y="632"/>
                </a:lnTo>
                <a:lnTo>
                  <a:pt x="31" y="0"/>
                </a:lnTo>
                <a:lnTo>
                  <a:pt x="152" y="141"/>
                </a:lnTo>
                <a:lnTo>
                  <a:pt x="273" y="0"/>
                </a:lnTo>
                <a:lnTo>
                  <a:pt x="212" y="632"/>
                </a:lnTo>
                <a:lnTo>
                  <a:pt x="303" y="492"/>
                </a:lnTo>
                <a:lnTo>
                  <a:pt x="152" y="98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2360" y="5346720"/>
            <a:ext cx="658800" cy="1443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2360" y="5346720"/>
            <a:ext cx="658800" cy="1443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360" y="5491080"/>
            <a:ext cx="54288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2360" y="5491080"/>
            <a:ext cx="54288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5680" y="57135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524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524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65240" y="5346720"/>
            <a:ext cx="662040" cy="144360"/>
          </a:xfrm>
          <a:custGeom>
            <a:avLst/>
            <a:gdLst/>
            <a:ahLst/>
            <a:rect l="l" t="t" r="r" b="b"/>
            <a:pathLst>
              <a:path w="417" h="183">
                <a:moveTo>
                  <a:pt x="344" y="183"/>
                </a:moveTo>
                <a:lnTo>
                  <a:pt x="0" y="183"/>
                </a:lnTo>
                <a:lnTo>
                  <a:pt x="73" y="0"/>
                </a:lnTo>
                <a:lnTo>
                  <a:pt x="417" y="0"/>
                </a:lnTo>
                <a:lnTo>
                  <a:pt x="344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65240" y="5346720"/>
            <a:ext cx="662040" cy="144360"/>
          </a:xfrm>
          <a:custGeom>
            <a:avLst/>
            <a:gdLst/>
            <a:ahLst/>
            <a:rect l="l" t="t" r="r" b="b"/>
            <a:pathLst>
              <a:path w="417" h="183">
                <a:moveTo>
                  <a:pt x="344" y="183"/>
                </a:moveTo>
                <a:lnTo>
                  <a:pt x="0" y="183"/>
                </a:lnTo>
                <a:lnTo>
                  <a:pt x="73" y="0"/>
                </a:lnTo>
                <a:lnTo>
                  <a:pt x="417" y="0"/>
                </a:lnTo>
                <a:lnTo>
                  <a:pt x="344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5240" y="5491080"/>
            <a:ext cx="54612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65240" y="5491080"/>
            <a:ext cx="54612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99080" y="57135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1136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11360" y="5346720"/>
            <a:ext cx="115920" cy="777960"/>
          </a:xfrm>
          <a:custGeom>
            <a:avLst/>
            <a:gdLst/>
            <a:ahLst/>
            <a:rect l="l" t="t" r="r" b="b"/>
            <a:pathLst>
              <a:path w="73" h="981">
                <a:moveTo>
                  <a:pt x="73" y="798"/>
                </a:moveTo>
                <a:lnTo>
                  <a:pt x="0" y="981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9640" y="4714920"/>
            <a:ext cx="660240" cy="144360"/>
          </a:xfrm>
          <a:custGeom>
            <a:avLst/>
            <a:gdLst/>
            <a:ahLst/>
            <a:rect l="l" t="t" r="r" b="b"/>
            <a:pathLst>
              <a:path w="416" h="182">
                <a:moveTo>
                  <a:pt x="343" y="182"/>
                </a:moveTo>
                <a:lnTo>
                  <a:pt x="0" y="182"/>
                </a:lnTo>
                <a:lnTo>
                  <a:pt x="73" y="0"/>
                </a:lnTo>
                <a:lnTo>
                  <a:pt x="416" y="0"/>
                </a:lnTo>
                <a:lnTo>
                  <a:pt x="343" y="18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9640" y="4714920"/>
            <a:ext cx="660240" cy="144360"/>
          </a:xfrm>
          <a:custGeom>
            <a:avLst/>
            <a:gdLst/>
            <a:ahLst/>
            <a:rect l="l" t="t" r="r" b="b"/>
            <a:pathLst>
              <a:path w="416" h="182">
                <a:moveTo>
                  <a:pt x="343" y="182"/>
                </a:moveTo>
                <a:lnTo>
                  <a:pt x="0" y="182"/>
                </a:lnTo>
                <a:lnTo>
                  <a:pt x="73" y="0"/>
                </a:lnTo>
                <a:lnTo>
                  <a:pt x="416" y="0"/>
                </a:lnTo>
                <a:lnTo>
                  <a:pt x="343" y="182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9640" y="4859280"/>
            <a:ext cx="54432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9640" y="4859280"/>
            <a:ext cx="544320" cy="633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2680" y="50817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53960" y="471492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2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53960" y="471492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2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1480" y="2722680"/>
            <a:ext cx="374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98680" y="2647800"/>
            <a:ext cx="187200" cy="14616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84"/>
                </a:moveTo>
                <a:lnTo>
                  <a:pt x="0" y="93"/>
                </a:lnTo>
                <a:lnTo>
                  <a:pt x="118" y="0"/>
                </a:lnTo>
                <a:lnTo>
                  <a:pt x="118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30400" y="2647800"/>
            <a:ext cx="189000" cy="14616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0" y="0"/>
                </a:moveTo>
                <a:lnTo>
                  <a:pt x="119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22520" y="4089240"/>
            <a:ext cx="3744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50800" y="4014720"/>
            <a:ext cx="189000" cy="14616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119" y="184"/>
                </a:moveTo>
                <a:lnTo>
                  <a:pt x="0" y="93"/>
                </a:lnTo>
                <a:lnTo>
                  <a:pt x="119" y="0"/>
                </a:lnTo>
                <a:lnTo>
                  <a:pt x="119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82880" y="4014720"/>
            <a:ext cx="187200" cy="14616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0" y="0"/>
                </a:moveTo>
                <a:lnTo>
                  <a:pt x="118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73800" y="1550880"/>
            <a:ext cx="1584360" cy="474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75560" y="5383080"/>
            <a:ext cx="658800" cy="14472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75560" y="5383080"/>
            <a:ext cx="658800" cy="14472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75560" y="5527800"/>
            <a:ext cx="5428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75560" y="5527800"/>
            <a:ext cx="542880" cy="63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88880" y="574992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8440" y="538308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8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218440" y="5383080"/>
            <a:ext cx="115920" cy="77796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8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29720" y="5162400"/>
            <a:ext cx="36360" cy="371520"/>
          </a:xfrm>
          <a:custGeom>
            <a:avLst/>
            <a:gdLst/>
            <a:ahLst/>
            <a:rect l="l" t="t" r="r" b="b"/>
            <a:pathLst>
              <a:path w="23" h="469">
                <a:moveTo>
                  <a:pt x="23" y="17"/>
                </a:moveTo>
                <a:lnTo>
                  <a:pt x="23" y="51"/>
                </a:lnTo>
                <a:lnTo>
                  <a:pt x="23" y="54"/>
                </a:lnTo>
                <a:lnTo>
                  <a:pt x="21" y="58"/>
                </a:lnTo>
                <a:lnTo>
                  <a:pt x="20" y="59"/>
                </a:lnTo>
                <a:lnTo>
                  <a:pt x="19" y="63"/>
                </a:lnTo>
                <a:lnTo>
                  <a:pt x="18" y="65"/>
                </a:lnTo>
                <a:lnTo>
                  <a:pt x="15" y="66"/>
                </a:lnTo>
                <a:lnTo>
                  <a:pt x="13" y="66"/>
                </a:lnTo>
                <a:lnTo>
                  <a:pt x="11" y="66"/>
                </a:lnTo>
                <a:lnTo>
                  <a:pt x="8" y="66"/>
                </a:lnTo>
                <a:lnTo>
                  <a:pt x="7" y="66"/>
                </a:lnTo>
                <a:lnTo>
                  <a:pt x="5" y="65"/>
                </a:lnTo>
                <a:lnTo>
                  <a:pt x="3" y="63"/>
                </a:lnTo>
                <a:lnTo>
                  <a:pt x="1" y="59"/>
                </a:lnTo>
                <a:lnTo>
                  <a:pt x="1" y="58"/>
                </a:lnTo>
                <a:lnTo>
                  <a:pt x="0" y="54"/>
                </a:lnTo>
                <a:lnTo>
                  <a:pt x="0" y="51"/>
                </a:lnTo>
                <a:lnTo>
                  <a:pt x="0" y="17"/>
                </a:lnTo>
                <a:lnTo>
                  <a:pt x="0" y="14"/>
                </a:lnTo>
                <a:lnTo>
                  <a:pt x="1" y="10"/>
                </a:lnTo>
                <a:lnTo>
                  <a:pt x="1" y="7"/>
                </a:lnTo>
                <a:lnTo>
                  <a:pt x="3" y="5"/>
                </a:lnTo>
                <a:lnTo>
                  <a:pt x="5" y="3"/>
                </a:lnTo>
                <a:lnTo>
                  <a:pt x="7" y="1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5" y="1"/>
                </a:lnTo>
                <a:lnTo>
                  <a:pt x="18" y="3"/>
                </a:lnTo>
                <a:lnTo>
                  <a:pt x="19" y="5"/>
                </a:lnTo>
                <a:lnTo>
                  <a:pt x="20" y="7"/>
                </a:lnTo>
                <a:lnTo>
                  <a:pt x="21" y="10"/>
                </a:lnTo>
                <a:lnTo>
                  <a:pt x="23" y="14"/>
                </a:lnTo>
                <a:lnTo>
                  <a:pt x="23" y="17"/>
                </a:lnTo>
                <a:lnTo>
                  <a:pt x="23" y="17"/>
                </a:lnTo>
                <a:close/>
                <a:moveTo>
                  <a:pt x="23" y="117"/>
                </a:moveTo>
                <a:lnTo>
                  <a:pt x="23" y="151"/>
                </a:lnTo>
                <a:lnTo>
                  <a:pt x="23" y="154"/>
                </a:lnTo>
                <a:lnTo>
                  <a:pt x="21" y="158"/>
                </a:lnTo>
                <a:lnTo>
                  <a:pt x="20" y="159"/>
                </a:lnTo>
                <a:lnTo>
                  <a:pt x="19" y="163"/>
                </a:lnTo>
                <a:lnTo>
                  <a:pt x="18" y="165"/>
                </a:lnTo>
                <a:lnTo>
                  <a:pt x="15" y="166"/>
                </a:lnTo>
                <a:lnTo>
                  <a:pt x="13" y="166"/>
                </a:lnTo>
                <a:lnTo>
                  <a:pt x="11" y="168"/>
                </a:lnTo>
                <a:lnTo>
                  <a:pt x="8" y="166"/>
                </a:lnTo>
                <a:lnTo>
                  <a:pt x="7" y="166"/>
                </a:lnTo>
                <a:lnTo>
                  <a:pt x="5" y="165"/>
                </a:lnTo>
                <a:lnTo>
                  <a:pt x="3" y="163"/>
                </a:lnTo>
                <a:lnTo>
                  <a:pt x="1" y="159"/>
                </a:lnTo>
                <a:lnTo>
                  <a:pt x="1" y="158"/>
                </a:lnTo>
                <a:lnTo>
                  <a:pt x="0" y="154"/>
                </a:lnTo>
                <a:lnTo>
                  <a:pt x="0" y="151"/>
                </a:lnTo>
                <a:lnTo>
                  <a:pt x="0" y="117"/>
                </a:lnTo>
                <a:lnTo>
                  <a:pt x="0" y="114"/>
                </a:lnTo>
                <a:lnTo>
                  <a:pt x="1" y="110"/>
                </a:lnTo>
                <a:lnTo>
                  <a:pt x="1" y="108"/>
                </a:lnTo>
                <a:lnTo>
                  <a:pt x="3" y="105"/>
                </a:lnTo>
                <a:lnTo>
                  <a:pt x="5" y="103"/>
                </a:lnTo>
                <a:lnTo>
                  <a:pt x="7" y="101"/>
                </a:lnTo>
                <a:lnTo>
                  <a:pt x="8" y="101"/>
                </a:lnTo>
                <a:lnTo>
                  <a:pt x="11" y="100"/>
                </a:lnTo>
                <a:lnTo>
                  <a:pt x="13" y="101"/>
                </a:lnTo>
                <a:lnTo>
                  <a:pt x="15" y="101"/>
                </a:lnTo>
                <a:lnTo>
                  <a:pt x="18" y="103"/>
                </a:lnTo>
                <a:lnTo>
                  <a:pt x="19" y="105"/>
                </a:lnTo>
                <a:lnTo>
                  <a:pt x="20" y="108"/>
                </a:lnTo>
                <a:lnTo>
                  <a:pt x="21" y="110"/>
                </a:lnTo>
                <a:lnTo>
                  <a:pt x="23" y="114"/>
                </a:lnTo>
                <a:lnTo>
                  <a:pt x="23" y="117"/>
                </a:lnTo>
                <a:lnTo>
                  <a:pt x="23" y="117"/>
                </a:lnTo>
                <a:close/>
                <a:moveTo>
                  <a:pt x="23" y="217"/>
                </a:moveTo>
                <a:lnTo>
                  <a:pt x="23" y="251"/>
                </a:lnTo>
                <a:lnTo>
                  <a:pt x="23" y="254"/>
                </a:lnTo>
                <a:lnTo>
                  <a:pt x="21" y="258"/>
                </a:lnTo>
                <a:lnTo>
                  <a:pt x="20" y="260"/>
                </a:lnTo>
                <a:lnTo>
                  <a:pt x="19" y="263"/>
                </a:lnTo>
                <a:lnTo>
                  <a:pt x="18" y="265"/>
                </a:lnTo>
                <a:lnTo>
                  <a:pt x="15" y="267"/>
                </a:lnTo>
                <a:lnTo>
                  <a:pt x="13" y="267"/>
                </a:lnTo>
                <a:lnTo>
                  <a:pt x="11" y="268"/>
                </a:lnTo>
                <a:lnTo>
                  <a:pt x="8" y="267"/>
                </a:lnTo>
                <a:lnTo>
                  <a:pt x="7" y="267"/>
                </a:lnTo>
                <a:lnTo>
                  <a:pt x="5" y="265"/>
                </a:lnTo>
                <a:lnTo>
                  <a:pt x="3" y="263"/>
                </a:lnTo>
                <a:lnTo>
                  <a:pt x="1" y="260"/>
                </a:lnTo>
                <a:lnTo>
                  <a:pt x="1" y="258"/>
                </a:lnTo>
                <a:lnTo>
                  <a:pt x="0" y="254"/>
                </a:lnTo>
                <a:lnTo>
                  <a:pt x="0" y="251"/>
                </a:lnTo>
                <a:lnTo>
                  <a:pt x="0" y="217"/>
                </a:lnTo>
                <a:lnTo>
                  <a:pt x="0" y="214"/>
                </a:lnTo>
                <a:lnTo>
                  <a:pt x="1" y="210"/>
                </a:lnTo>
                <a:lnTo>
                  <a:pt x="1" y="209"/>
                </a:lnTo>
                <a:lnTo>
                  <a:pt x="3" y="205"/>
                </a:lnTo>
                <a:lnTo>
                  <a:pt x="5" y="203"/>
                </a:lnTo>
                <a:lnTo>
                  <a:pt x="7" y="202"/>
                </a:lnTo>
                <a:lnTo>
                  <a:pt x="8" y="202"/>
                </a:lnTo>
                <a:lnTo>
                  <a:pt x="11" y="202"/>
                </a:lnTo>
                <a:lnTo>
                  <a:pt x="13" y="202"/>
                </a:lnTo>
                <a:lnTo>
                  <a:pt x="15" y="202"/>
                </a:lnTo>
                <a:lnTo>
                  <a:pt x="18" y="203"/>
                </a:lnTo>
                <a:lnTo>
                  <a:pt x="19" y="205"/>
                </a:lnTo>
                <a:lnTo>
                  <a:pt x="20" y="209"/>
                </a:lnTo>
                <a:lnTo>
                  <a:pt x="21" y="210"/>
                </a:lnTo>
                <a:lnTo>
                  <a:pt x="23" y="214"/>
                </a:lnTo>
                <a:lnTo>
                  <a:pt x="23" y="217"/>
                </a:lnTo>
                <a:lnTo>
                  <a:pt x="23" y="217"/>
                </a:lnTo>
                <a:close/>
                <a:moveTo>
                  <a:pt x="23" y="318"/>
                </a:moveTo>
                <a:lnTo>
                  <a:pt x="23" y="351"/>
                </a:lnTo>
                <a:lnTo>
                  <a:pt x="23" y="354"/>
                </a:lnTo>
                <a:lnTo>
                  <a:pt x="21" y="358"/>
                </a:lnTo>
                <a:lnTo>
                  <a:pt x="20" y="361"/>
                </a:lnTo>
                <a:lnTo>
                  <a:pt x="19" y="363"/>
                </a:lnTo>
                <a:lnTo>
                  <a:pt x="18" y="365"/>
                </a:lnTo>
                <a:lnTo>
                  <a:pt x="15" y="367"/>
                </a:lnTo>
                <a:lnTo>
                  <a:pt x="13" y="368"/>
                </a:lnTo>
                <a:lnTo>
                  <a:pt x="11" y="368"/>
                </a:lnTo>
                <a:lnTo>
                  <a:pt x="8" y="368"/>
                </a:lnTo>
                <a:lnTo>
                  <a:pt x="7" y="367"/>
                </a:lnTo>
                <a:lnTo>
                  <a:pt x="5" y="365"/>
                </a:lnTo>
                <a:lnTo>
                  <a:pt x="3" y="363"/>
                </a:lnTo>
                <a:lnTo>
                  <a:pt x="1" y="361"/>
                </a:lnTo>
                <a:lnTo>
                  <a:pt x="1" y="358"/>
                </a:lnTo>
                <a:lnTo>
                  <a:pt x="0" y="354"/>
                </a:lnTo>
                <a:lnTo>
                  <a:pt x="0" y="351"/>
                </a:lnTo>
                <a:lnTo>
                  <a:pt x="0" y="318"/>
                </a:lnTo>
                <a:lnTo>
                  <a:pt x="0" y="314"/>
                </a:lnTo>
                <a:lnTo>
                  <a:pt x="1" y="312"/>
                </a:lnTo>
                <a:lnTo>
                  <a:pt x="1" y="309"/>
                </a:lnTo>
                <a:lnTo>
                  <a:pt x="3" y="307"/>
                </a:lnTo>
                <a:lnTo>
                  <a:pt x="5" y="303"/>
                </a:lnTo>
                <a:lnTo>
                  <a:pt x="7" y="303"/>
                </a:lnTo>
                <a:lnTo>
                  <a:pt x="8" y="302"/>
                </a:lnTo>
                <a:lnTo>
                  <a:pt x="11" y="302"/>
                </a:lnTo>
                <a:lnTo>
                  <a:pt x="13" y="302"/>
                </a:lnTo>
                <a:lnTo>
                  <a:pt x="15" y="303"/>
                </a:lnTo>
                <a:lnTo>
                  <a:pt x="18" y="303"/>
                </a:lnTo>
                <a:lnTo>
                  <a:pt x="19" y="307"/>
                </a:lnTo>
                <a:lnTo>
                  <a:pt x="20" y="309"/>
                </a:lnTo>
                <a:lnTo>
                  <a:pt x="21" y="312"/>
                </a:lnTo>
                <a:lnTo>
                  <a:pt x="23" y="314"/>
                </a:lnTo>
                <a:lnTo>
                  <a:pt x="23" y="318"/>
                </a:lnTo>
                <a:lnTo>
                  <a:pt x="23" y="318"/>
                </a:lnTo>
                <a:close/>
                <a:moveTo>
                  <a:pt x="23" y="418"/>
                </a:moveTo>
                <a:lnTo>
                  <a:pt x="23" y="451"/>
                </a:lnTo>
                <a:lnTo>
                  <a:pt x="23" y="455"/>
                </a:lnTo>
                <a:lnTo>
                  <a:pt x="21" y="458"/>
                </a:lnTo>
                <a:lnTo>
                  <a:pt x="20" y="462"/>
                </a:lnTo>
                <a:lnTo>
                  <a:pt x="19" y="463"/>
                </a:lnTo>
                <a:lnTo>
                  <a:pt x="18" y="465"/>
                </a:lnTo>
                <a:lnTo>
                  <a:pt x="15" y="467"/>
                </a:lnTo>
                <a:lnTo>
                  <a:pt x="13" y="469"/>
                </a:lnTo>
                <a:lnTo>
                  <a:pt x="11" y="469"/>
                </a:lnTo>
                <a:lnTo>
                  <a:pt x="8" y="469"/>
                </a:lnTo>
                <a:lnTo>
                  <a:pt x="7" y="467"/>
                </a:lnTo>
                <a:lnTo>
                  <a:pt x="5" y="465"/>
                </a:lnTo>
                <a:lnTo>
                  <a:pt x="3" y="463"/>
                </a:lnTo>
                <a:lnTo>
                  <a:pt x="1" y="462"/>
                </a:lnTo>
                <a:lnTo>
                  <a:pt x="1" y="458"/>
                </a:lnTo>
                <a:lnTo>
                  <a:pt x="0" y="455"/>
                </a:lnTo>
                <a:lnTo>
                  <a:pt x="0" y="451"/>
                </a:lnTo>
                <a:lnTo>
                  <a:pt x="0" y="418"/>
                </a:lnTo>
                <a:lnTo>
                  <a:pt x="0" y="414"/>
                </a:lnTo>
                <a:lnTo>
                  <a:pt x="1" y="412"/>
                </a:lnTo>
                <a:lnTo>
                  <a:pt x="1" y="409"/>
                </a:lnTo>
                <a:lnTo>
                  <a:pt x="3" y="407"/>
                </a:lnTo>
                <a:lnTo>
                  <a:pt x="5" y="405"/>
                </a:lnTo>
                <a:lnTo>
                  <a:pt x="7" y="404"/>
                </a:lnTo>
                <a:lnTo>
                  <a:pt x="8" y="402"/>
                </a:lnTo>
                <a:lnTo>
                  <a:pt x="11" y="402"/>
                </a:lnTo>
                <a:lnTo>
                  <a:pt x="13" y="402"/>
                </a:lnTo>
                <a:lnTo>
                  <a:pt x="15" y="404"/>
                </a:lnTo>
                <a:lnTo>
                  <a:pt x="18" y="405"/>
                </a:lnTo>
                <a:lnTo>
                  <a:pt x="19" y="407"/>
                </a:lnTo>
                <a:lnTo>
                  <a:pt x="20" y="409"/>
                </a:lnTo>
                <a:lnTo>
                  <a:pt x="21" y="412"/>
                </a:lnTo>
                <a:lnTo>
                  <a:pt x="23" y="414"/>
                </a:lnTo>
                <a:lnTo>
                  <a:pt x="23" y="418"/>
                </a:lnTo>
                <a:lnTo>
                  <a:pt x="23" y="4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74160" y="127944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mplementation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54760" y="3390840"/>
            <a:ext cx="479520" cy="781200"/>
          </a:xfrm>
          <a:custGeom>
            <a:avLst/>
            <a:gdLst/>
            <a:ahLst/>
            <a:rect l="l" t="t" r="r" b="b"/>
            <a:pathLst>
              <a:path w="302" h="983">
                <a:moveTo>
                  <a:pt x="151" y="0"/>
                </a:moveTo>
                <a:lnTo>
                  <a:pt x="302" y="492"/>
                </a:lnTo>
                <a:lnTo>
                  <a:pt x="211" y="351"/>
                </a:lnTo>
                <a:lnTo>
                  <a:pt x="272" y="983"/>
                </a:lnTo>
                <a:lnTo>
                  <a:pt x="151" y="843"/>
                </a:lnTo>
                <a:lnTo>
                  <a:pt x="30" y="983"/>
                </a:lnTo>
                <a:lnTo>
                  <a:pt x="90" y="351"/>
                </a:lnTo>
                <a:lnTo>
                  <a:pt x="0" y="492"/>
                </a:lnTo>
                <a:lnTo>
                  <a:pt x="15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4760" y="3390840"/>
            <a:ext cx="479520" cy="781200"/>
          </a:xfrm>
          <a:custGeom>
            <a:avLst/>
            <a:gdLst/>
            <a:ahLst/>
            <a:rect l="l" t="t" r="r" b="b"/>
            <a:pathLst>
              <a:path w="302" h="983">
                <a:moveTo>
                  <a:pt x="151" y="0"/>
                </a:moveTo>
                <a:lnTo>
                  <a:pt x="302" y="492"/>
                </a:lnTo>
                <a:lnTo>
                  <a:pt x="211" y="351"/>
                </a:lnTo>
                <a:lnTo>
                  <a:pt x="272" y="983"/>
                </a:lnTo>
                <a:lnTo>
                  <a:pt x="151" y="843"/>
                </a:lnTo>
                <a:lnTo>
                  <a:pt x="30" y="983"/>
                </a:lnTo>
                <a:lnTo>
                  <a:pt x="90" y="351"/>
                </a:lnTo>
                <a:lnTo>
                  <a:pt x="0" y="492"/>
                </a:lnTo>
                <a:lnTo>
                  <a:pt x="15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75560" y="4397400"/>
            <a:ext cx="658800" cy="1461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75560" y="4397400"/>
            <a:ext cx="658800" cy="146160"/>
          </a:xfrm>
          <a:custGeom>
            <a:avLst/>
            <a:gdLst/>
            <a:ahLst/>
            <a:rect l="l" t="t" r="r" b="b"/>
            <a:pathLst>
              <a:path w="415" h="183">
                <a:moveTo>
                  <a:pt x="342" y="183"/>
                </a:moveTo>
                <a:lnTo>
                  <a:pt x="0" y="183"/>
                </a:lnTo>
                <a:lnTo>
                  <a:pt x="73" y="0"/>
                </a:lnTo>
                <a:lnTo>
                  <a:pt x="415" y="0"/>
                </a:lnTo>
                <a:lnTo>
                  <a:pt x="34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5560" y="4543560"/>
            <a:ext cx="5428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75560" y="4543560"/>
            <a:ext cx="542880" cy="63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98600" y="47656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Times New Roman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18440" y="4397400"/>
            <a:ext cx="115920" cy="77940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18440" y="4397400"/>
            <a:ext cx="115920" cy="779400"/>
          </a:xfrm>
          <a:custGeom>
            <a:avLst/>
            <a:gdLst/>
            <a:ahLst/>
            <a:rect l="l" t="t" r="r" b="b"/>
            <a:pathLst>
              <a:path w="73" h="980">
                <a:moveTo>
                  <a:pt x="73" y="797"/>
                </a:moveTo>
                <a:lnTo>
                  <a:pt x="0" y="980"/>
                </a:lnTo>
                <a:lnTo>
                  <a:pt x="0" y="183"/>
                </a:lnTo>
                <a:lnTo>
                  <a:pt x="73" y="0"/>
                </a:lnTo>
                <a:lnTo>
                  <a:pt x="73" y="79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64520" y="2595600"/>
            <a:ext cx="147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Implemented project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52800" y="278460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building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58120" y="2973240"/>
            <a:ext cx="124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for developing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43720" y="3162240"/>
            <a:ext cx="128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information soci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1852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1852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18520" y="2165400"/>
            <a:ext cx="3045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18520" y="2165400"/>
            <a:ext cx="30456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723080" y="208908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23080" y="208908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15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15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1516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1516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20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20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12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1216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01216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1216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1708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528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15280" y="2089080"/>
            <a:ext cx="384120" cy="763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1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5280" y="2165400"/>
            <a:ext cx="304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15280" y="2165400"/>
            <a:ext cx="304920" cy="353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62020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620200" y="208908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6288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6288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62880" y="1809720"/>
            <a:ext cx="304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62880" y="1809720"/>
            <a:ext cx="30492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6780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6780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6780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6780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50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67800" y="1809720"/>
            <a:ext cx="3045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67800" y="1809720"/>
            <a:ext cx="30456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72360" y="173520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72360" y="1735200"/>
            <a:ext cx="7956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5652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56520" y="1735200"/>
            <a:ext cx="384120" cy="74520"/>
          </a:xfrm>
          <a:custGeom>
            <a:avLst/>
            <a:gdLst/>
            <a:ahLst/>
            <a:rect l="l" t="t" r="r" b="b"/>
            <a:pathLst>
              <a:path w="242" h="95">
                <a:moveTo>
                  <a:pt x="192" y="95"/>
                </a:moveTo>
                <a:lnTo>
                  <a:pt x="0" y="95"/>
                </a:lnTo>
                <a:lnTo>
                  <a:pt x="49" y="0"/>
                </a:lnTo>
                <a:lnTo>
                  <a:pt x="242" y="0"/>
                </a:lnTo>
                <a:lnTo>
                  <a:pt x="192" y="9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56520" y="1809720"/>
            <a:ext cx="304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156520" y="1809720"/>
            <a:ext cx="304920" cy="35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6144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61440" y="1735200"/>
            <a:ext cx="79200" cy="430200"/>
          </a:xfrm>
          <a:custGeom>
            <a:avLst/>
            <a:gdLst/>
            <a:ahLst/>
            <a:rect l="l" t="t" r="r" b="b"/>
            <a:pathLst>
              <a:path w="50" h="541">
                <a:moveTo>
                  <a:pt x="50" y="446"/>
                </a:moveTo>
                <a:lnTo>
                  <a:pt x="0" y="541"/>
                </a:lnTo>
                <a:lnTo>
                  <a:pt x="0" y="95"/>
                </a:lnTo>
                <a:lnTo>
                  <a:pt x="50" y="0"/>
                </a:lnTo>
                <a:lnTo>
                  <a:pt x="50" y="44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26400" y="4618080"/>
            <a:ext cx="547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58120" y="4545000"/>
            <a:ext cx="189000" cy="146160"/>
          </a:xfrm>
          <a:custGeom>
            <a:avLst/>
            <a:gdLst/>
            <a:ahLst/>
            <a:rect l="l" t="t" r="r" b="b"/>
            <a:pathLst>
              <a:path w="119" h="185">
                <a:moveTo>
                  <a:pt x="0" y="0"/>
                </a:moveTo>
                <a:lnTo>
                  <a:pt x="119" y="94"/>
                </a:lnTo>
                <a:lnTo>
                  <a:pt x="0" y="1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5760" y="2909880"/>
            <a:ext cx="374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62600" y="2836800"/>
            <a:ext cx="190800" cy="146160"/>
          </a:xfrm>
          <a:custGeom>
            <a:avLst/>
            <a:gdLst/>
            <a:ahLst/>
            <a:rect l="l" t="t" r="r" b="b"/>
            <a:pathLst>
              <a:path w="120" h="184">
                <a:moveTo>
                  <a:pt x="120" y="184"/>
                </a:moveTo>
                <a:lnTo>
                  <a:pt x="0" y="93"/>
                </a:lnTo>
                <a:lnTo>
                  <a:pt x="120" y="0"/>
                </a:lnTo>
                <a:lnTo>
                  <a:pt x="120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65880" y="2846520"/>
            <a:ext cx="189000" cy="145800"/>
          </a:xfrm>
          <a:custGeom>
            <a:avLst/>
            <a:gdLst/>
            <a:ahLst/>
            <a:rect l="l" t="t" r="r" b="b"/>
            <a:pathLst>
              <a:path w="119" h="184">
                <a:moveTo>
                  <a:pt x="0" y="0"/>
                </a:moveTo>
                <a:lnTo>
                  <a:pt x="119" y="93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0120" y="2198520"/>
            <a:ext cx="7972560" cy="187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nformation Society Portal for the ESCWA Region</a:t>
            </a:r>
            <a:br>
              <a:rPr sz="4000"/>
            </a:b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(ISPER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SPER (1/2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52240" y="1760400"/>
            <a:ext cx="80247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Provides tools to enhance efficiency of partnerships and efficiency of development work, communication and cooperation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Deploys modern online tools for collaboration among stakeholders: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al-time discussion forums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llaboratively generated content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yndicated content feeds,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p-to-date content on projects and priorities in the region,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al-time dissemination of statistical indicators.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dd"/>
                </a:solidFill>
                <a:latin typeface="Tahoma"/>
              </a:rPr>
              <a:t>ISPER (2/2)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52240" y="1960560"/>
            <a:ext cx="8024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Constitutes a source of information on the Arab ICT Strategy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Is a one-stop-shop on implementation details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Catalyzes partnerships between project implementers and donors;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Fosters partnerships by: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aising awareness of available project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roviding market intelligence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talyzing community of practice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283860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1f2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08200" y="3924360"/>
            <a:ext cx="392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arah14@un.o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40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RPoA:  Result of Collaborative Efforts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1785960"/>
            <a:ext cx="81057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ab ICT strategy, adopted by the Arab Summit in 200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n-Arab regional conference on WSIS, in Cairo, June 2003, including Cairo declaration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ntative plan of action for the information society in the region, produced by ESCWA in December 200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SIS-Geneva global Plan of Action (PoA)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es of round tables planned by ESCWA during 2004 to address regional specificity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orts of th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skforce on Realization of the Arab Strategy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edback from the ESCWA Second Regional Preparatory Conference for WSIS and an online forum</a:t>
            </a:r>
            <a:endParaRPr b="0" lang="en-US" sz="24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85920"/>
            <a:ext cx="7772400" cy="401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Listed in chronolog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5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Evolving RPoA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2228400"/>
            <a:ext cx="40957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centralization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ults-based management (RBM) 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dular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en-endedness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vernment priority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95320" y="2243160"/>
            <a:ext cx="43513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olling projects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ading responsibil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mplementation upon maturity 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iodic monitoring and reporting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438480" indent="-438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line follow-up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49200" y="876240"/>
            <a:ext cx="8462880" cy="12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 Rounded MT Bold"/>
              </a:rPr>
              <a:t>The RPoA can assimilate future needs of Arab countries along with a mechanism to periodically introduce new regional strategic actions, report on progress of work, and adjust the plan accordingly</a:t>
            </a: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.  Considera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6800" y="240480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RPoA </a:t>
            </a:r>
            <a:br>
              <a:rPr sz="4400"/>
            </a:br>
            <a:r>
              <a:rPr b="1" lang="en-US" sz="4400" spc="-1" strike="noStrike">
                <a:solidFill>
                  <a:srgbClr val="def1f2"/>
                </a:solidFill>
                <a:latin typeface="Tahoma"/>
              </a:rPr>
              <a:t>Strategic Framework</a:t>
            </a:r>
            <a:endParaRPr b="0" lang="en-US" sz="44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35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07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Main components </a:t>
            </a:r>
            <a:br>
              <a:rPr sz="4000"/>
            </a:br>
            <a:r>
              <a:rPr b="1" lang="en-US" sz="4000" spc="-1" strike="noStrike">
                <a:solidFill>
                  <a:srgbClr val="ffffdd"/>
                </a:solidFill>
                <a:latin typeface="Tahoma"/>
              </a:rPr>
              <a:t>of the strategic framework</a:t>
            </a:r>
            <a:endParaRPr b="0" lang="en-US" sz="40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81492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92104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ction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67208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gram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586480"/>
            <a:ext cx="5486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1514520"/>
            <a:ext cx="8672400" cy="1120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 Rounded MT Bold"/>
              </a:rPr>
              <a:t>The strategic framework aims at streamlining actions at the regional level and at promoting the development of national capacity for achieving the transition towards the information society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78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WSIS Action Lines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(International partnership)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600" y="1214280"/>
            <a:ext cx="85330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The role of public governance authorities and all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stakeholders in the promotion of ICTs for developm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2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nformation and communication infrastructur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3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Access to information and knowledg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4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apacity building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5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Building confidence and security in the use of ICTs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6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nabling environm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7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CT Applications: e-government, e-business, e-learning,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-health, e-employment, e-environment, e-agriculture, e-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science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8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8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ultural diversity and identity, linguistic diversity and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local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ontent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9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9: 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Media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0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0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Ethical dimensions of the Information Society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  <a:p>
            <a:pPr marL="275400" indent="-275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1"/>
              </a:buBlip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C11: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	</a:t>
            </a:r>
            <a:r>
              <a:rPr b="1" lang="en-US" sz="2100" spc="-1" strike="noStrike">
                <a:solidFill>
                  <a:srgbClr val="f8f8f8"/>
                </a:solidFill>
                <a:latin typeface="Arial Rounded MT Bold"/>
              </a:rPr>
              <a:t>International and regional cooperation</a:t>
            </a:r>
            <a:endParaRPr b="0" lang="en-US" sz="21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284040"/>
            <a:ext cx="77724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Areas of interest to the regio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(Regional partnership)</a:t>
            </a:r>
            <a:endParaRPr b="0" lang="en-US" sz="3600" spc="-1" strike="noStrike">
              <a:solidFill>
                <a:srgbClr val="ffcc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7720" y="1423800"/>
            <a:ext cx="764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6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Policies and strategies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CT infrastructure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Access to information and knowledge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Capacity building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Building confidence, trust, and security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Enabling environment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CT Applications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Cultural, linguistic, and Arabic content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Media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  <a:p>
            <a:pPr marL="461880" indent="-461880">
              <a:spcBef>
                <a:spcPts val="162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 Rounded MT Bold"/>
              </a:rPr>
              <a:t>International and regional cooperation</a:t>
            </a:r>
            <a:endParaRPr b="0" lang="en-US" sz="2600" spc="-1" strike="noStrike">
              <a:solidFill>
                <a:srgbClr val="f8f8f8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4920" y="236160"/>
            <a:ext cx="11033280" cy="6229800"/>
            <a:chOff x="34920" y="236160"/>
            <a:chExt cx="11033280" cy="6229800"/>
          </a:xfrm>
        </p:grpSpPr>
        <p:sp>
          <p:nvSpPr>
            <p:cNvPr id="124" name=""/>
            <p:cNvSpPr/>
            <p:nvPr/>
          </p:nvSpPr>
          <p:spPr>
            <a:xfrm>
              <a:off x="1924200" y="1615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200" y="3042000"/>
              <a:ext cx="7348680" cy="2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080" y="3090600"/>
              <a:ext cx="277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omen empowerment in the information socie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00" y="5000040"/>
              <a:ext cx="73486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640" y="5060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6280" y="504252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3600" y="50601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80" y="4414680"/>
              <a:ext cx="7347240" cy="30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800" y="4416120"/>
              <a:ext cx="26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reasing community access with emphasis 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480" y="4550400"/>
              <a:ext cx="168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he marginalized and disabl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280" y="2680560"/>
              <a:ext cx="7356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440" y="2730960"/>
              <a:ext cx="149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the ICT s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0" y="5460840"/>
              <a:ext cx="9032760" cy="435240"/>
            </a:xfrm>
            <a:custGeom>
              <a:avLst/>
              <a:gdLst/>
              <a:ahLst/>
              <a:rect l="l" t="t" r="r" b="b"/>
              <a:pathLst>
                <a:path w="5690" h="276">
                  <a:moveTo>
                    <a:pt x="68" y="276"/>
                  </a:moveTo>
                  <a:lnTo>
                    <a:pt x="5622" y="276"/>
                  </a:lnTo>
                  <a:lnTo>
                    <a:pt x="5656" y="266"/>
                  </a:lnTo>
                  <a:lnTo>
                    <a:pt x="5684" y="245"/>
                  </a:lnTo>
                  <a:lnTo>
                    <a:pt x="5690" y="213"/>
                  </a:lnTo>
                  <a:lnTo>
                    <a:pt x="5690" y="64"/>
                  </a:lnTo>
                  <a:lnTo>
                    <a:pt x="5684" y="32"/>
                  </a:lnTo>
                  <a:lnTo>
                    <a:pt x="5656" y="11"/>
                  </a:lnTo>
                  <a:lnTo>
                    <a:pt x="5622" y="0"/>
                  </a:lnTo>
                  <a:lnTo>
                    <a:pt x="68" y="0"/>
                  </a:lnTo>
                  <a:lnTo>
                    <a:pt x="34" y="11"/>
                  </a:lnTo>
                  <a:lnTo>
                    <a:pt x="6" y="32"/>
                  </a:lnTo>
                  <a:lnTo>
                    <a:pt x="0" y="64"/>
                  </a:lnTo>
                  <a:lnTo>
                    <a:pt x="0" y="213"/>
                  </a:lnTo>
                  <a:lnTo>
                    <a:pt x="6" y="245"/>
                  </a:lnTo>
                  <a:lnTo>
                    <a:pt x="34" y="266"/>
                  </a:lnTo>
                  <a:lnTo>
                    <a:pt x="68" y="2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600" y="5569560"/>
              <a:ext cx="271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WSIS Global plan of 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80" y="1986120"/>
              <a:ext cx="735660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60" y="2036880"/>
              <a:ext cx="2967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mpowering Arab NGO’s in the information socie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200" y="4080240"/>
              <a:ext cx="734868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320" y="4130640"/>
              <a:ext cx="224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CT in education and scientific resea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280" y="2338200"/>
              <a:ext cx="735660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00" y="2388600"/>
              <a:ext cx="262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telecommunications infrastruc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20" y="1642320"/>
              <a:ext cx="73468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920" y="1692720"/>
              <a:ext cx="196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veloping e-government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80" y="3384000"/>
              <a:ext cx="7356600" cy="2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240" y="3434760"/>
              <a:ext cx="194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formation society measu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200" y="1299600"/>
              <a:ext cx="7348680" cy="25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640" y="1348560"/>
              <a:ext cx="177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CT for economic develop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80" y="3736080"/>
              <a:ext cx="7356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400" y="3786480"/>
              <a:ext cx="228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omoting digital Arabic content (DA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80" y="236160"/>
              <a:ext cx="8979120" cy="560160"/>
            </a:xfrm>
            <a:custGeom>
              <a:avLst/>
              <a:gdLst/>
              <a:ahLst/>
              <a:rect l="l" t="t" r="r" b="b"/>
              <a:pathLst>
                <a:path w="5656" h="355">
                  <a:moveTo>
                    <a:pt x="5656" y="355"/>
                  </a:moveTo>
                  <a:lnTo>
                    <a:pt x="2828" y="0"/>
                  </a:lnTo>
                  <a:lnTo>
                    <a:pt x="0" y="355"/>
                  </a:lnTo>
                  <a:lnTo>
                    <a:pt x="5656" y="3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3040" y="408240"/>
              <a:ext cx="150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gional plan of 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24760" y="585000"/>
              <a:ext cx="21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wards the Information 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3320" y="1114920"/>
              <a:ext cx="151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artnership programm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14520" y="87228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ain areas of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920" y="5997240"/>
              <a:ext cx="8996400" cy="468720"/>
            </a:xfrm>
            <a:custGeom>
              <a:avLst/>
              <a:gdLst/>
              <a:ahLst/>
              <a:rect l="l" t="t" r="r" b="b"/>
              <a:pathLst>
                <a:path w="5667" h="297">
                  <a:moveTo>
                    <a:pt x="68" y="297"/>
                  </a:moveTo>
                  <a:lnTo>
                    <a:pt x="5599" y="297"/>
                  </a:lnTo>
                  <a:lnTo>
                    <a:pt x="5633" y="292"/>
                  </a:lnTo>
                  <a:lnTo>
                    <a:pt x="5662" y="265"/>
                  </a:lnTo>
                  <a:lnTo>
                    <a:pt x="5667" y="234"/>
                  </a:lnTo>
                  <a:lnTo>
                    <a:pt x="5667" y="64"/>
                  </a:lnTo>
                  <a:lnTo>
                    <a:pt x="5662" y="32"/>
                  </a:lnTo>
                  <a:lnTo>
                    <a:pt x="5633" y="11"/>
                  </a:lnTo>
                  <a:lnTo>
                    <a:pt x="5599" y="0"/>
                  </a:lnTo>
                  <a:lnTo>
                    <a:pt x="68" y="0"/>
                  </a:lnTo>
                  <a:lnTo>
                    <a:pt x="34" y="11"/>
                  </a:lnTo>
                  <a:lnTo>
                    <a:pt x="6" y="3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6" y="265"/>
                  </a:lnTo>
                  <a:lnTo>
                    <a:pt x="34" y="292"/>
                  </a:lnTo>
                  <a:lnTo>
                    <a:pt x="68" y="29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080" y="6121800"/>
              <a:ext cx="236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rab ICT Strate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87360" y="4673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87360" y="477432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7360" y="48754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7360" y="4976280"/>
              <a:ext cx="1800" cy="7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9320" y="6047640"/>
              <a:ext cx="612720" cy="376920"/>
            </a:xfrm>
            <a:custGeom>
              <a:avLst/>
              <a:gdLst/>
              <a:ahLst/>
              <a:rect l="l" t="t" r="r" b="b"/>
              <a:pathLst>
                <a:path w="386" h="239">
                  <a:moveTo>
                    <a:pt x="0" y="117"/>
                  </a:moveTo>
                  <a:lnTo>
                    <a:pt x="11" y="79"/>
                  </a:lnTo>
                  <a:lnTo>
                    <a:pt x="40" y="48"/>
                  </a:lnTo>
                  <a:lnTo>
                    <a:pt x="80" y="21"/>
                  </a:lnTo>
                  <a:lnTo>
                    <a:pt x="136" y="5"/>
                  </a:lnTo>
                  <a:lnTo>
                    <a:pt x="193" y="0"/>
                  </a:lnTo>
                  <a:lnTo>
                    <a:pt x="256" y="5"/>
                  </a:lnTo>
                  <a:lnTo>
                    <a:pt x="307" y="21"/>
                  </a:lnTo>
                  <a:lnTo>
                    <a:pt x="352" y="48"/>
                  </a:lnTo>
                  <a:lnTo>
                    <a:pt x="381" y="79"/>
                  </a:lnTo>
                  <a:lnTo>
                    <a:pt x="386" y="117"/>
                  </a:lnTo>
                  <a:lnTo>
                    <a:pt x="381" y="154"/>
                  </a:lnTo>
                  <a:lnTo>
                    <a:pt x="352" y="191"/>
                  </a:lnTo>
                  <a:lnTo>
                    <a:pt x="307" y="217"/>
                  </a:lnTo>
                  <a:lnTo>
                    <a:pt x="256" y="233"/>
                  </a:lnTo>
                  <a:lnTo>
                    <a:pt x="193" y="239"/>
                  </a:lnTo>
                  <a:lnTo>
                    <a:pt x="136" y="233"/>
                  </a:lnTo>
                  <a:lnTo>
                    <a:pt x="80" y="217"/>
                  </a:lnTo>
                  <a:lnTo>
                    <a:pt x="40" y="191"/>
                  </a:lnTo>
                  <a:lnTo>
                    <a:pt x="11" y="154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880" y="6139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xis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4360" y="6030720"/>
              <a:ext cx="622080" cy="384840"/>
            </a:xfrm>
            <a:custGeom>
              <a:avLst/>
              <a:gdLst/>
              <a:ahLst/>
              <a:rect l="l" t="t" r="r" b="b"/>
              <a:pathLst>
                <a:path w="392" h="244">
                  <a:moveTo>
                    <a:pt x="0" y="122"/>
                  </a:moveTo>
                  <a:lnTo>
                    <a:pt x="11" y="85"/>
                  </a:lnTo>
                  <a:lnTo>
                    <a:pt x="40" y="53"/>
                  </a:lnTo>
                  <a:lnTo>
                    <a:pt x="80" y="27"/>
                  </a:lnTo>
                  <a:lnTo>
                    <a:pt x="136" y="11"/>
                  </a:lnTo>
                  <a:lnTo>
                    <a:pt x="193" y="0"/>
                  </a:lnTo>
                  <a:lnTo>
                    <a:pt x="256" y="11"/>
                  </a:lnTo>
                  <a:lnTo>
                    <a:pt x="307" y="27"/>
                  </a:lnTo>
                  <a:lnTo>
                    <a:pt x="352" y="53"/>
                  </a:lnTo>
                  <a:lnTo>
                    <a:pt x="380" y="85"/>
                  </a:lnTo>
                  <a:lnTo>
                    <a:pt x="392" y="122"/>
                  </a:lnTo>
                  <a:lnTo>
                    <a:pt x="380" y="159"/>
                  </a:lnTo>
                  <a:lnTo>
                    <a:pt x="352" y="197"/>
                  </a:lnTo>
                  <a:lnTo>
                    <a:pt x="307" y="223"/>
                  </a:lnTo>
                  <a:lnTo>
                    <a:pt x="256" y="239"/>
                  </a:lnTo>
                  <a:lnTo>
                    <a:pt x="193" y="244"/>
                  </a:lnTo>
                  <a:lnTo>
                    <a:pt x="136" y="239"/>
                  </a:lnTo>
                  <a:lnTo>
                    <a:pt x="80" y="223"/>
                  </a:lnTo>
                  <a:lnTo>
                    <a:pt x="40" y="197"/>
                  </a:lnTo>
                  <a:lnTo>
                    <a:pt x="11" y="15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0920" y="613152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xis 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0204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004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8040" y="6232320"/>
              <a:ext cx="5544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7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35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3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148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912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712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5120" y="6232320"/>
              <a:ext cx="558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4560" y="623232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92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00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8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16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2456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2560" y="6222960"/>
              <a:ext cx="5544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42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50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800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6564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3640" y="6222960"/>
              <a:ext cx="54000" cy="1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9960" y="864360"/>
              <a:ext cx="78444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25440" y="93816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9960" y="1249200"/>
              <a:ext cx="784440" cy="384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25440" y="134856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19960" y="1902600"/>
              <a:ext cx="78444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71800" y="1976760"/>
              <a:ext cx="55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933040" y="197820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07320" y="16344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07320" y="1735200"/>
              <a:ext cx="1800" cy="48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7320" y="18345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18520" y="1031760"/>
              <a:ext cx="901440" cy="410040"/>
            </a:xfrm>
            <a:custGeom>
              <a:avLst/>
              <a:gdLst/>
              <a:ahLst/>
              <a:rect l="l" t="t" r="r" b="b"/>
              <a:pathLst>
                <a:path w="568" h="260">
                  <a:moveTo>
                    <a:pt x="0" y="260"/>
                  </a:moveTo>
                  <a:lnTo>
                    <a:pt x="159" y="260"/>
                  </a:lnTo>
                  <a:lnTo>
                    <a:pt x="159" y="0"/>
                  </a:lnTo>
                  <a:lnTo>
                    <a:pt x="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8520" y="1424520"/>
              <a:ext cx="901440" cy="645120"/>
            </a:xfrm>
            <a:custGeom>
              <a:avLst/>
              <a:gdLst/>
              <a:ahLst/>
              <a:rect l="l" t="t" r="r" b="b"/>
              <a:pathLst>
                <a:path w="568" h="409">
                  <a:moveTo>
                    <a:pt x="568" y="409"/>
                  </a:moveTo>
                  <a:lnTo>
                    <a:pt x="159" y="409"/>
                  </a:lnTo>
                  <a:lnTo>
                    <a:pt x="15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3600" y="3971160"/>
              <a:ext cx="784080" cy="33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9080" y="404532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3600" y="4338720"/>
              <a:ext cx="784080" cy="384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080" y="443988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54880" y="5000040"/>
              <a:ext cx="784440" cy="33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08520" y="5076000"/>
              <a:ext cx="55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69760" y="50853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886520" y="36856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886520" y="3586320"/>
              <a:ext cx="1800" cy="48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886520" y="3485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886520" y="338364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886520" y="32832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886520" y="3183480"/>
              <a:ext cx="1800" cy="50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886520" y="30826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86520" y="298188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886520" y="288252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886520" y="27813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886520" y="268056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886520" y="258120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86520" y="2480040"/>
              <a:ext cx="180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29040" y="1098000"/>
              <a:ext cx="4317840" cy="5050440"/>
              <a:chOff x="3029040" y="1098000"/>
              <a:chExt cx="4317840" cy="505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3462480" y="1098000"/>
                <a:ext cx="350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2960640" y="3097440"/>
                <a:ext cx="1331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CT infrastruc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1784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6200000">
                <a:off x="3853080" y="3091680"/>
                <a:ext cx="1258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Capacity buildin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69240" y="1098000"/>
                <a:ext cx="377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6200000">
                <a:off x="5785560" y="3116520"/>
                <a:ext cx="2730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rnational and regional coopera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40440" y="1098000"/>
                <a:ext cx="39672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200000">
                <a:off x="4918680" y="3109320"/>
                <a:ext cx="2606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Cultural, linguistic, and local cont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0700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5177880" y="3101400"/>
                <a:ext cx="1221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ICT Appl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2904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200000">
                <a:off x="2429640" y="3127320"/>
                <a:ext cx="1546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olicies and strategi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3280" y="1098000"/>
                <a:ext cx="3524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556520" y="308916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nabling environm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51280" y="1098000"/>
                <a:ext cx="36036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3533040" y="3108600"/>
                <a:ext cx="2762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Building confidence, trust, and securit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94120" y="1098000"/>
                <a:ext cx="3524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745720" y="3126960"/>
                <a:ext cx="2625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ccess to information and knowled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3760" y="5134320"/>
                <a:ext cx="460080" cy="470160"/>
              </a:xfrm>
              <a:custGeom>
                <a:avLst/>
                <a:gdLst/>
                <a:ahLst/>
                <a:rect l="l" t="t" r="r" b="b"/>
                <a:pathLst>
                  <a:path w="290" h="298">
                    <a:moveTo>
                      <a:pt x="142" y="0"/>
                    </a:moveTo>
                    <a:lnTo>
                      <a:pt x="290" y="165"/>
                    </a:lnTo>
                    <a:lnTo>
                      <a:pt x="216" y="133"/>
                    </a:lnTo>
                    <a:lnTo>
                      <a:pt x="290" y="298"/>
                    </a:lnTo>
                    <a:lnTo>
                      <a:pt x="142" y="260"/>
                    </a:lnTo>
                    <a:lnTo>
                      <a:pt x="0" y="298"/>
                    </a:lnTo>
                    <a:lnTo>
                      <a:pt x="74" y="133"/>
                    </a:lnTo>
                    <a:lnTo>
                      <a:pt x="0" y="165"/>
                    </a:lnTo>
                    <a:lnTo>
                      <a:pt x="1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70280" y="5343840"/>
                <a:ext cx="449280" cy="804600"/>
              </a:xfrm>
              <a:custGeom>
                <a:avLst/>
                <a:gdLst/>
                <a:ahLst/>
                <a:rect l="l" t="t" r="r" b="b"/>
                <a:pathLst>
                  <a:path w="283" h="510">
                    <a:moveTo>
                      <a:pt x="141" y="0"/>
                    </a:moveTo>
                    <a:lnTo>
                      <a:pt x="283" y="165"/>
                    </a:lnTo>
                    <a:lnTo>
                      <a:pt x="210" y="133"/>
                    </a:lnTo>
                    <a:lnTo>
                      <a:pt x="283" y="510"/>
                    </a:lnTo>
                    <a:lnTo>
                      <a:pt x="141" y="478"/>
                    </a:lnTo>
                    <a:lnTo>
                      <a:pt x="0" y="510"/>
                    </a:lnTo>
                    <a:lnTo>
                      <a:pt x="68" y="133"/>
                    </a:lnTo>
                    <a:lnTo>
                      <a:pt x="0" y="165"/>
                    </a:lnTo>
                    <a:lnTo>
                      <a:pt x="14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30720" y="5134320"/>
                <a:ext cx="451080" cy="470160"/>
              </a:xfrm>
              <a:custGeom>
                <a:avLst/>
                <a:gdLst/>
                <a:ahLst/>
                <a:rect l="l" t="t" r="r" b="b"/>
                <a:pathLst>
                  <a:path w="284" h="298">
                    <a:moveTo>
                      <a:pt x="142" y="0"/>
                    </a:moveTo>
                    <a:lnTo>
                      <a:pt x="284" y="165"/>
                    </a:lnTo>
                    <a:lnTo>
                      <a:pt x="216" y="133"/>
                    </a:lnTo>
                    <a:lnTo>
                      <a:pt x="284" y="298"/>
                    </a:lnTo>
                    <a:lnTo>
                      <a:pt x="142" y="260"/>
                    </a:lnTo>
                    <a:lnTo>
                      <a:pt x="0" y="298"/>
                    </a:lnTo>
                    <a:lnTo>
                      <a:pt x="68" y="133"/>
                    </a:lnTo>
                    <a:lnTo>
                      <a:pt x="0" y="165"/>
                    </a:lnTo>
                    <a:lnTo>
                      <a:pt x="1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08800" y="1098000"/>
                <a:ext cx="377640" cy="41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6458040" y="3096000"/>
                <a:ext cx="448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Med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8373960" y="5343840"/>
              <a:ext cx="459000" cy="804600"/>
            </a:xfrm>
            <a:custGeom>
              <a:avLst/>
              <a:gdLst/>
              <a:ahLst/>
              <a:rect l="l" t="t" r="r" b="b"/>
              <a:pathLst>
                <a:path w="289" h="510">
                  <a:moveTo>
                    <a:pt x="142" y="0"/>
                  </a:moveTo>
                  <a:lnTo>
                    <a:pt x="289" y="165"/>
                  </a:lnTo>
                  <a:lnTo>
                    <a:pt x="216" y="133"/>
                  </a:lnTo>
                  <a:lnTo>
                    <a:pt x="289" y="510"/>
                  </a:lnTo>
                  <a:lnTo>
                    <a:pt x="142" y="478"/>
                  </a:lnTo>
                  <a:lnTo>
                    <a:pt x="0" y="510"/>
                  </a:lnTo>
                  <a:lnTo>
                    <a:pt x="74" y="133"/>
                  </a:lnTo>
                  <a:lnTo>
                    <a:pt x="0" y="165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000" y="5326920"/>
              <a:ext cx="458640" cy="812520"/>
            </a:xfrm>
            <a:custGeom>
              <a:avLst/>
              <a:gdLst/>
              <a:ahLst/>
              <a:rect l="l" t="t" r="r" b="b"/>
              <a:pathLst>
                <a:path w="289" h="515">
                  <a:moveTo>
                    <a:pt x="147" y="0"/>
                  </a:moveTo>
                  <a:lnTo>
                    <a:pt x="289" y="170"/>
                  </a:lnTo>
                  <a:lnTo>
                    <a:pt x="216" y="138"/>
                  </a:lnTo>
                  <a:lnTo>
                    <a:pt x="289" y="515"/>
                  </a:lnTo>
                  <a:lnTo>
                    <a:pt x="147" y="483"/>
                  </a:lnTo>
                  <a:lnTo>
                    <a:pt x="0" y="515"/>
                  </a:lnTo>
                  <a:lnTo>
                    <a:pt x="74" y="138"/>
                  </a:lnTo>
                  <a:lnTo>
                    <a:pt x="0" y="170"/>
                  </a:lnTo>
                  <a:lnTo>
                    <a:pt x="14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0880" y="1424520"/>
              <a:ext cx="649080" cy="16920"/>
            </a:xfrm>
            <a:custGeom>
              <a:avLst/>
              <a:gdLst/>
              <a:ahLst/>
              <a:rect l="l" t="t" r="r" b="b"/>
              <a:pathLst>
                <a:path w="409" h="11">
                  <a:moveTo>
                    <a:pt x="0" y="11"/>
                  </a:moveTo>
                  <a:lnTo>
                    <a:pt x="409" y="6"/>
                  </a:lnTo>
                  <a:lnTo>
                    <a:pt x="40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5800" y="4138560"/>
              <a:ext cx="901800" cy="402480"/>
            </a:xfrm>
            <a:custGeom>
              <a:avLst/>
              <a:gdLst/>
              <a:ahLst/>
              <a:rect l="l" t="t" r="r" b="b"/>
              <a:pathLst>
                <a:path w="568" h="255">
                  <a:moveTo>
                    <a:pt x="0" y="255"/>
                  </a:moveTo>
                  <a:lnTo>
                    <a:pt x="159" y="255"/>
                  </a:lnTo>
                  <a:lnTo>
                    <a:pt x="159" y="0"/>
                  </a:lnTo>
                  <a:lnTo>
                    <a:pt x="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35800" y="4531320"/>
              <a:ext cx="901800" cy="637560"/>
            </a:xfrm>
            <a:custGeom>
              <a:avLst/>
              <a:gdLst/>
              <a:ahLst/>
              <a:rect l="l" t="t" r="r" b="b"/>
              <a:pathLst>
                <a:path w="568" h="404">
                  <a:moveTo>
                    <a:pt x="568" y="404"/>
                  </a:moveTo>
                  <a:lnTo>
                    <a:pt x="159" y="404"/>
                  </a:lnTo>
                  <a:lnTo>
                    <a:pt x="15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88160" y="4531320"/>
              <a:ext cx="649440" cy="9360"/>
            </a:xfrm>
            <a:custGeom>
              <a:avLst/>
              <a:gdLst/>
              <a:ahLst/>
              <a:rect l="l" t="t" r="r" b="b"/>
              <a:pathLst>
                <a:path w="409" h="6">
                  <a:moveTo>
                    <a:pt x="0" y="6"/>
                  </a:moveTo>
                  <a:lnTo>
                    <a:pt x="409" y="0"/>
                  </a:lnTo>
                  <a:lnTo>
                    <a:pt x="40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44040" y="4723920"/>
              <a:ext cx="144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44040" y="4825080"/>
              <a:ext cx="1440" cy="50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878400"/>
              <a:ext cx="1800" cy="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6:06:35Z</dcterms:created>
  <dc:creator>escwa</dc:creator>
  <dc:description/>
  <dc:language>en-US</dc:language>
  <cp:lastModifiedBy> </cp:lastModifiedBy>
  <dcterms:modified xsi:type="dcterms:W3CDTF">2008-03-28T08:42:45Z</dcterms:modified>
  <cp:revision>357</cp:revision>
  <dc:subject/>
  <dc:title>PowerPoint Presentation</dc:title>
</cp:coreProperties>
</file>