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F24-C439-4A23-B57E-DF35B5E7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9C2-029D-4F3A-AFB4-E47C8128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014-B1D5-4AD5-99DB-F771024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0F8-5D32-479D-830D-7463CA8D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4480-AECA-4A01-A567-3CA008B5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4A7-6F3B-4550-BB85-691E639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D5D0-ACB6-421E-9194-D84EB3EE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670-6C2C-4788-AF36-D145983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AF0-88A0-4456-A9F7-69F3B19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2A1-16B8-4E66-A293-607B8D8A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59B0-152F-49B9-82F1-4BC3D15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7CE-8E0E-4B41-89DB-F6CB4D0B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802D-C7BB-49A2-8883-110D6F4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0088-310C-49F4-A25F-1D22007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5DF2-47BA-4EF0-B2A2-372246E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3C6A-8E4F-46C8-BA80-B872FE5C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2F1D-984F-4B60-B4DD-C6495A5B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DD7-35EA-4B6C-8804-F61A0790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170-C0A3-4C60-9806-084B5959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DB5-7249-47F5-9A9C-AD6B4F9D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0C5-DB1F-45E8-B6F2-E92D524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1BB-25D7-4E7F-BDCB-92861B11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14B-E398-437D-BF7E-93B424D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90B-EC6D-4A76-AE39-D84E706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CB8-FC11-4BE2-887D-870518654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487440"/>
            <a:ext cx="7086600" cy="568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2A37-E702-4BAA-BA98-F7C62150A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87440"/>
            <a:ext cx="7086600" cy="568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إنجازات إدارة تكنولوجيا المعلومات والاتصالات لفترة السنتين </a:t>
            </a:r>
            <a:r>
              <a:rPr b="1" lang="ar-LB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6</a:t>
            </a:r>
            <a:r>
              <a:rPr b="1" lang="ar-LB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-</a:t>
            </a:r>
            <a:r>
              <a:rPr b="1" lang="ar-LB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2025720"/>
            <a:ext cx="7467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الاجتماع الرابع للجنة الإسكوا الاستشار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للتنمية العلمية والتكنولوجية والابتكار التكنولوج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المنامة،  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1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-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2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 نيسان/أبريل 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96080" y="152280"/>
          <a:ext cx="1273320" cy="11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52280"/>
                    <a:ext cx="12733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6680" y="152280"/>
            <a:ext cx="64771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إسكو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أمم المتحدة – اللجنة الاقتصادية والاجتماعية لغربي آسي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شكـراً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هدف برنامج عمل السنتين </a:t>
            </a:r>
            <a:r>
              <a:rPr b="1" lang="ar-SA" sz="4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2006</a:t>
            </a:r>
            <a:r>
              <a:rPr b="1" lang="ar-SA" sz="4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2007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دف برنامج تكنولوجيا المعلومات والاتصالات</a:t>
            </a:r>
            <a:r>
              <a:rPr b="0" lang="ar-LB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ضييق الفجوة الرقمية من أجل بناء مجتمع معلومات شامل واقتصاد قائم على المعرفة بغية تحقيق تنمية شاملة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إنجازات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1/2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926280" indent="0" algn="just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إنجاز الأول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هيئة بيئة مواتية لتطوير مجتمع المعلومات والاقتصاد المبني على المعرفة في المنطق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ؤشرات الإنجا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Arabic Transparent"/>
              </a:rPr>
              <a:t>ازدياد عدد البلدان الأعضاء التي تنفذ استراتيجيات وخطط عمل لبناء مجتمع المعلومات والاقتصاد القائم على المعرفة تمشيا مع الاتفاقات والتوصيات الإقليمية والدولي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قيمة الأساسية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5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5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بلدان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متوقع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0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بلدا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فعلي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1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بل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حقيق البلدان الأعضاء تحسنا في تنفيذ المؤشرين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4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4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من مؤشرات الأهداف الإنمائية للألفية، وفيما يتعلق بالهدف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؛ والغاية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متعلقة بتكنولوجيا المعلومات والاتصال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قيمة الأساسية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5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8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بلدان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متوقع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1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بل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فعلي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3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بل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2628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إنجازات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/2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55440" indent="0" algn="just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إنجاز الثان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نشيط الشراكة في تنفيذ مشاريع تكنولوجيا المعلومات والاتصالات، بغية تحقيق التنمية الاقتصادية والاجتماعية، مع التركيز على الأهداف الإنمائية للألف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ؤشرات الإنجا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Arabic Transparent"/>
              </a:rPr>
              <a:t>ازدياد عدد الشراكات الجديدة القائمة بين أصحاب المصالح في مجتمع المعلومات التي تركز على التنمية في المنطق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قيمة الأساسية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5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5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شراكات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متوقع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0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شراكات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فعلي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1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شراك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يادة عدد المؤسسات الحكومية والجهات المعنية الوطنية المشاركة في الشراكات المتصلة بتكنولوجيا المعلومات والاتصالات وشبكات المعرف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قيمة الأساسية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5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10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مؤسسات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متوقع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30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مؤسس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cs typeface="Arabic Transparent"/>
              </a:rPr>
              <a:t>الإنجاز الفعلي (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2007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):  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46</a:t>
            </a:r>
            <a:r>
              <a:rPr b="0" lang="ar-SA" sz="2000" spc="-1" strike="noStrike">
                <a:solidFill>
                  <a:srgbClr val="0000cc"/>
                </a:solidFill>
                <a:latin typeface="Arial"/>
                <a:ea typeface="Arabic Transparent"/>
              </a:rPr>
              <a:t> مؤسس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5440" indent="0" algn="just" rtl="1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توجهات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سعت إدارة تكنولوجيا المعلومات والاتصالات إلى تحقيق توجهاتها للعامي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2006</a:t>
            </a:r>
            <a:r>
              <a:rPr b="0" lang="ar-SA" sz="2400" spc="-1" strike="noStrike" baseline="30000">
                <a:solidFill>
                  <a:srgbClr val="000000"/>
                </a:solidFill>
                <a:latin typeface="Tahoma"/>
                <a:cs typeface="Arabic Transparent"/>
              </a:rPr>
              <a:t>ـ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2007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 من خلال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قيام بأنشطة تعاون فني مع الدول الأعضاء لتفعيل عملية تنفيذ مقررات القمة العالمية لمجتمع المعلوم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عقد اجتماعات خبراء متخصصة في مجال صياغة وتنفيذ خطط العمل الوطنية المتعلقة ب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بناء قدرات الدول الأعضاء في مجال قياسات مجتمع المعلومات بما فيها مؤشرات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إنشاء الشراكات الإقليمية بهدف بناء مجتمع المعلوم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إعداد الدراسات والتقارير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إطلاق مشاريع ريادية ومتابعت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أنشطة السنتين 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6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7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1/4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وثائق البرلمان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523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00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قرير إلى لجنة الإحصاءات عن القضايا المتصلة بمؤشرات تكنولوجيا المعلومات والاتصال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5146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تماعات الخبرا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48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اجتماع الثالث للجنة الاستشارية للتنمية العلمية والتكنولوجية والابتكارات التكنولوج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تماع خبراء بشأن الحلول البرمجية ذات المصدر المفتوح في القطاع العام في منطقة 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تماع خبراء حول تبني مؤشرات تكنولوجيا المعلومات والاتصالات وجمع بياناتها في المكاتب الإحصائية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تماع خبراء حول بناء الشبكات والشراكات الإقليمية ل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نشرات والدراسات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16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شرة تكنولوجيا المعلومات والاتصالات للتنمية في غربي آسيا (الأعداد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ليل توجيهي لصياغة وتنفيذ سياسات واستراتيجيات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ماذج تشريعات الفضاء السيبراني في الدول الأعضاء ب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وارد المالية، ورأس المال المخاطر، وريادة الأعمال في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لامح الإقليمية لمجتمع المعلومات في غربي آسيا –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00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لامح الوطنية لمجتمع المعلومات في الدول الأعضاء في الإسكوا -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ليل قياس مؤشرات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ؤشرات الأساسية لتكنولوجيا المعلومات والاتصالات (النسخة العربية)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أنشطة السنتين 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6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7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/4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واد التقن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371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وير وصيانة بوابة الكترونية لشراكات تكنولوجيا المعلومات والاتصالات وشبكاتها وقياساته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14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حديث الصفحة الأساسية للإسكوا الخاصة بتكنولوجيا المعلومات والاتصال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819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ات الاستشار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2767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قديم المشورة بناء على طلب الدول الأعضاء لمتابعة نتائج مؤتمر القمة العالمي المعني بمجتمع المعلومات – المرحلة الثانية – خاصة في مجالي صياغة السياسات والاستراتيجيات، وقياسات مجتمع المعلوم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دورات التدريبية وورشات العمل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105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58640" indent="-410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لاث ورشات عمل تدريبية لبناء القدرات اللازمة لتبني مؤشرات تكنولوجيا المعلومات والاتصالات وجمع البيانات وتحليله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-410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رش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عمل حول القضايا المتعلقة بآليات إحداث الشراكة بين القطاع العام والخا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أنشطة السنتين 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6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7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3/4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شاريع الميدان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3716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وير نظام عربي لأسماء النطاقات على شبكة الإنترن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شاء حاضنات لتكنولوجيا المعلومات والاتصالات لتطوير صناعة المحتوى الرقمي العربي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بادرة إقليمية حول استخدام تكنولوجيات جديدة لتقليص الفقر (المراكز التكنولوجية المتعددة المهام)؛ </a:t>
            </a:r>
            <a:r>
              <a:rPr b="0" lang="ar-SA" sz="2400" spc="-1" strike="noStrike">
                <a:solidFill>
                  <a:srgbClr val="ff0033"/>
                </a:solidFill>
                <a:latin typeface="Times New Roman"/>
                <a:ea typeface="Arabic Transparent"/>
              </a:rPr>
              <a:t>(أنج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شر التكنولوجيات الحديثة لزيادة العمالة وتقليص الفقر في الدول الأعضاء في الإسكوا (مشاريع التجمعات الذكية)؛ </a:t>
            </a:r>
            <a:r>
              <a:rPr b="0" lang="ar-SA" sz="2400" spc="-1" strike="noStrike">
                <a:solidFill>
                  <a:srgbClr val="ff0033"/>
                </a:solidFill>
                <a:latin typeface="Times New Roman"/>
                <a:ea typeface="Arabic Transparent"/>
              </a:rPr>
              <a:t>(أنج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زيز القدرات في وضع سياسات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ناء شبكات المعرفة لربط مراكز النفاذ إلى الإنترنت في المجتمعات المهمشة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720" indent="-41904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رأة العربية في العلوم والتكنولوجيا – بالتعاون مع منظمة المرأة العرب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أنشطة السنتين 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6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7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4/4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1:05:41Z</dcterms:created>
  <dc:creator>support</dc:creator>
  <dc:description/>
  <dc:language>en-US</dc:language>
  <cp:lastModifiedBy> </cp:lastModifiedBy>
  <dcterms:modified xsi:type="dcterms:W3CDTF">2008-03-28T07:30:24Z</dcterms:modified>
  <cp:revision>31</cp:revision>
  <dc:subject/>
  <dc:title>PowerPoint Presentation</dc:title>
</cp:coreProperties>
</file>