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0DC-6C9B-4708-AE85-D8308044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5F6-1ADB-47F4-BF25-EB5CE58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63C-882D-4194-B635-88692305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AA9-51E4-4FE1-8F56-5520517B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B29A-377F-472A-8061-1246498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E622-9F90-41D1-AA6E-B9605CA5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A7B-EEEC-4E99-ADAB-353892F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6735-2AB5-443F-B67A-08825C90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8CD1-92D3-468C-A612-42A3732A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5BE5-03AC-4B0F-BBD7-06AB7690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678A-EF09-4D6B-AC9C-3DFC64B5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84D-9902-4869-BE73-67F378C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6CE9-1C1F-4CAD-8C00-F296FBE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1CA5-FDFB-447C-A1A0-A72F1AF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ECBC-609E-4EB8-B343-1C3AF4A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D9BA-BF80-4C16-88AB-498847DE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B0C6-E941-4F3C-B404-BC0DB7DD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684-3540-4E9F-BA42-7A5BEE16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502-09A1-4A54-8B93-0255A0E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7EC-1247-4D1D-BEAE-C6076E6A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A17-3C4F-4D43-9AEB-A12FDBF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02A-23B0-40FC-840C-2A66C5AA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62B-874D-48F9-B177-B2294D4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A21-3688-4C2E-978D-CDCF28D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372-70DB-444F-8E0D-7736FEE11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487440"/>
            <a:ext cx="7086600" cy="568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4625-B63F-4049-AB05-DDA1BCD15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87440"/>
            <a:ext cx="7086600" cy="568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رنامج عمل إدارة تكنولوجيا المعلومات والاتصالات لفترة السنتين </a:t>
            </a:r>
            <a:r>
              <a:rPr b="1" lang="ar-LB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8</a:t>
            </a:r>
            <a:r>
              <a:rPr b="1" lang="ar-LB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-</a:t>
            </a:r>
            <a:r>
              <a:rPr b="1" lang="ar-LB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2025720"/>
            <a:ext cx="7467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الاجتماع الرابع للجنة الإسكوا الاستشار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للتنمية العلمية والتكنولوجية والابتكار التكنولوج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المنامة،  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1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-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2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 نيسان/أبريل </a:t>
            </a:r>
            <a:r>
              <a:rPr b="1" lang="ar-SA" sz="2000" spc="-1" strike="noStrike">
                <a:solidFill>
                  <a:srgbClr val="0000cc"/>
                </a:solidFill>
                <a:latin typeface="Arabic Transparent"/>
                <a:ea typeface="Arabic Transparent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96080" y="152280"/>
          <a:ext cx="1273320" cy="11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52280"/>
                    <a:ext cx="12733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6680" y="152280"/>
            <a:ext cx="64771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إسكو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أمم المتحدة – اللجنة الاقتصادية والاجتماعية لغربي آسي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4582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شاريع الميدان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73760" indent="-423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طوير نظام عربي لأسماء النطاقات على شبكة الإنترن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760" indent="-423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شاء حاضنات لتكنولوجيا المعلومات والاتصالات لتطوير صناعة المحتوى الرقمي العربي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760" indent="-423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ناء شبكات المعرفة لربط مراكز النفاذ إلى الإنترنت في المجتمعات المهمشة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760" indent="-42372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ح جائزة الإسكوا للتميز لأفضل إنجاز في بناء مجتمع المعلوم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760" indent="-42372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سخير تكنولوجيا المعلومات والاتصالات لأغراض التعليم في العراق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760" indent="-42372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م مركز الإسكوا للتكنولوجيا من أجل التنمية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760" indent="-42372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رأة العربية في العلوم والتكنولوجيا – بالتعاون مع منظمة المرأة العرب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رنامج العمل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5/5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شكـراً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الهد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هدف برنامج تكنولوجيا المعلومات والاتصالات</a:t>
            </a:r>
            <a:r>
              <a:rPr b="0" lang="ar-LB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إلى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تقليص الفجوة الرقمية وبناء مجتمع معلومات شامل في منطقة الإسكوا، تنموي التوجّّه ويضع الإنسان في صميم اهتمامه، وفقاً للأهداف والمقاصد الإنمائية المتفق عليها دوليا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إنجازات المتوقعة (</a:t>
            </a:r>
            <a:r>
              <a:rPr b="1" lang="ar-SA" sz="44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1/2</a:t>
            </a:r>
            <a:r>
              <a:rPr b="1" lang="ar-SA" sz="44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إنجاز المتوقع (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زيادة تنفيذ خطة العمل الإقليمية لبناء مجتمع المعلومات، لا سيما فيما يتعلق بقطاع تكنولوجيا المعلومات والاتصال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ؤشرات الإنجا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زيادة عدد البلدان الأعضاء المنفذة لسياسات وخطط عمل ترمي إلى تعزيز قطاع تكنولوجيا المعلومات والاتصال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زيادة عدد المؤشرات الأساسية لتكنولوجيا المعلومات والاتصالات التي تقوم بقياسها جميع البلدان الأعضاء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إنجاز المتوقع (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زيز قدرة البلدان الأعضاء على تقديم خدمات الكترونية باللغة العربية تهدف إلى تحقيق التنمية الاقتصادية والاجتماع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ؤشرات الإنجا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زيادة عدد تطبيقات تكنولوجيا المعلومات والاتصالات التي نفذتها البلدان الأعضاء لتقديم خدمات الكترونية بمساعدة من الإسكوا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3400" indent="0" algn="just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زيادة عدد المشاريع الميدانية لتكنولوجيا المعلومات والاتصالات التي شرعت فيها الإسكوا أو قامت بتعزيزها والتي تستهدف الدوائر الحكومية وتنمية المجتمع المحلي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الإنجازات المتوقعة (</a:t>
            </a:r>
            <a:r>
              <a:rPr b="1" lang="ar-SA" sz="44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/2</a:t>
            </a:r>
            <a:r>
              <a:rPr b="1" lang="ar-SA" sz="44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400" spc="-1" strike="noStrike">
                <a:solidFill>
                  <a:srgbClr val="0000cc"/>
                </a:solidFill>
                <a:latin typeface="Arabic Transparent"/>
                <a:cs typeface="Arabic Transparent"/>
              </a:rPr>
              <a:t>محاور ال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abic Transparent"/>
              </a:rPr>
              <a:t>تسعى إدارة تكنولوجيا المعلومات والاتصالات إلى تحقيق توجهاتها للعامين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2008</a:t>
            </a:r>
            <a:r>
              <a:rPr b="0" lang="ar-SA" sz="2400" spc="-1" strike="noStrike" baseline="30000">
                <a:solidFill>
                  <a:srgbClr val="000000"/>
                </a:solidFill>
                <a:latin typeface="Tahoma"/>
                <a:cs typeface="Arabic Transparent"/>
              </a:rPr>
              <a:t>ـ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2009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 من خلال:</a:t>
            </a:r>
            <a:r>
              <a:rPr b="0" lang="ar-LB" sz="2400" spc="-1" strike="noStrike">
                <a:solidFill>
                  <a:srgbClr val="000000"/>
                </a:solidFill>
                <a:latin typeface="Tahoma"/>
                <a:ea typeface="Arabic Transparen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العمل على تكييف تنفيذ مقررات القمة العالمية لمجتمع المعلومات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wsi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، وخصوصاً برنامج عمل تونس لكي يخدم المنطقة بشكل أفضل؛</a:t>
            </a:r>
            <a:r>
              <a:rPr b="0" lang="ar-LB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إجراء دراسات تحليلية، وعقد اجتماعات،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cs typeface="Arabic Transparent"/>
              </a:rPr>
              <a:t>وإطلاق وتنفيذ المشاريع الرائده. وتقديم الخدمات الاستشاريه التي تهدف الى بناء القدرات ؛</a:t>
            </a:r>
            <a:r>
              <a:rPr b="0" lang="ar-LB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تقييم خطط العمل وتنقيحها، ورصد التقدم المحرز وتقييم الآثار ومرجعيات التنمية الوطنية مع البلدان الأخرى؛</a:t>
            </a:r>
            <a:r>
              <a:rPr b="0" lang="ar-LB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التركيز تركيزاً خاصاً على استخدام التطور في التطبيقات المواضيعية لتكنولوجيا المعلومات والاتصالات، مثل الحكومة الالكترونية والمحتوى الرقمي باللغة العربية؛</a:t>
            </a:r>
            <a:r>
              <a:rPr b="0" lang="ar-LB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تعزيز التعاون والشراكات على الصعيد الإقليمي في الأنشطة ال</a:t>
            </a:r>
            <a:r>
              <a:rPr b="0" lang="ar-LB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تي تفضي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 إلى بناء مجتمع معلومات شامل يركز على السكان؛</a:t>
            </a:r>
            <a:r>
              <a:rPr b="0" lang="ar-LB" sz="2400" spc="-1" strike="noStrike">
                <a:solidFill>
                  <a:srgbClr val="000000"/>
                </a:solidFill>
                <a:latin typeface="Arial Unicode MS"/>
                <a:ea typeface="Arabic Transparen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Unicode MS"/>
                <a:cs typeface="Arabic Transparent"/>
              </a:rPr>
              <a:t>المساهمة في جهود جمع الأموال الرامية إلى تسخير تكنولوجيا المعلومات والاتصالات لأغراض التنمية الاقتصادية والاجتماع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رنامج العمل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1/5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وثائق البرلمان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95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24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قرير بشأن إنشاء المركز التكنولوجي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4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قرير بشأن متابعة نتائج جدول أعمال تونس للقمة العالمية لمجتمع المعلوم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666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3400" indent="-509400"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تماعات الخبرا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79160" indent="-42840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طوير قطاع تكنولوجيا المعلومات والاتصالات في منطقة 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9160" indent="-42840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اجتماع الرابع للجنة الاستشارية للتنمية العلمية والتكنولوجية والابتكار التكنولوجي </a:t>
            </a:r>
            <a:r>
              <a:rPr b="0" lang="ar-LB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9160" indent="-42840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طبيقات تكنولوجيا المعلومات والاتصالات وخدماتها الالكترونية في القطاع العام في منطقة 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9160" indent="-42840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تابعة الإقليمية لنتائج جدول أعمال تونس للقمة العالمية لمجتمع المعلومات (خطة العمل الإقليمية للإسكوا لبناء مجتمع المعلوم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نشرات والدراسات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67652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9760" indent="-45576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شرة تكنولوجيا المعلومات والاتصالات للتنمية في غربي آسيا – الأعداد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لامح الإقليمية لمجتمع المعلومات في غربي آسيا –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لامح الوطنية لمجتمع المعلومات في الدول الأعضاء في 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ناء الثقة في الخدمات الإلكترونية في منطقة 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just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ثر تكنولوجيا المعلومات والاتصالات على تنمية المجتمعات المحلية في البلدان الأعضاء في الإسكو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وكمة الإنترنت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حديات والتوقعات في المنطقة العرب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رنامج العمل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2/5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مواد التقن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طوير وصيانة بوابة إلكترونية لشراكات تكنولوجيا المعلومات والاتصالات وشبكاتها وقياساتها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طوير وتنقيح المصطلحات العربية في مجال تكنولوجيات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حديث وتطوير نظام المعلومات الإحصائية للإسكوا/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حديث الصفحة الأساسية للإسكوا الخاصة بتكنولوجيا المعلومات والاتصال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رنامج العمل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3/5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2362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3400" indent="-509400"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خدمات الإستشار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8195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نفيذ خطة العمل الإقليمية لبناء مجتمع المعلوم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3400" indent="-509400"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دورات التدريبية وورشات العمل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962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36240" indent="-30060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قديم الخدمات الإلكترونية في المجتمع المدني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006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قامة شراكات بين القطاعين العام والخاص من أجل مبادرات 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006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ستثمار في قطاع تكنولوجيا المعلومات والاتصالات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006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شريعات السيبرانية وتنفيذ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990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3400" indent="-509400"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ثائق للاجتماعات المشتركة بين الوكالات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447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9760" indent="-455760" algn="r" rtl="1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إسهامات الإقليمية في الدورتين الحادية عشرة والثانية عشر للجنة المعنية بتسخير العلم والتكنولوجيا لأغراض التنمي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رنامج العمل (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4/5</a:t>
            </a:r>
            <a:r>
              <a:rPr b="1" lang="ar-SA" sz="4000" spc="-1" strike="noStrike">
                <a:solidFill>
                  <a:srgbClr val="0000cc"/>
                </a:solidFill>
                <a:latin typeface="Times New Roman"/>
                <a:ea typeface="Arabic Transparent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1:05:41Z</dcterms:created>
  <dc:creator>support</dc:creator>
  <dc:description/>
  <dc:language>en-US</dc:language>
  <cp:lastModifiedBy> </cp:lastModifiedBy>
  <dcterms:modified xsi:type="dcterms:W3CDTF">2008-03-28T07:29:27Z</dcterms:modified>
  <cp:revision>30</cp:revision>
  <dc:subject/>
  <dc:title>PowerPoint Presentation</dc:title>
</cp:coreProperties>
</file>