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4.wmf" ContentType="image/x-wmf"/>
  <Override PartName="/ppt/media/image3.png" ContentType="image/png"/>
  <Override PartName="/ppt/media/image17.jpeg" ContentType="image/jpeg"/>
  <Override PartName="/ppt/media/image10.wmf" ContentType="image/x-wmf"/>
  <Override PartName="/ppt/media/image25.png" ContentType="image/png"/>
  <Override PartName="/ppt/media/image2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20.wmf" ContentType="image/x-wmf"/>
  <Override PartName="/ppt/media/image18.jpeg" ContentType="image/jpeg"/>
  <Override PartName="/ppt/media/image21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10560"/>
            <a:ext cx="822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1056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1056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10560"/>
            <a:ext cx="264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10560"/>
            <a:ext cx="264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10560"/>
            <a:ext cx="264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0880-DE91-480B-80E4-3407E761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1B3-E8B3-47FF-9ADF-48C49903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FEA-6569-40A7-8C9D-2680E66F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607-F61E-45C0-A7FD-68E0266B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79A-5C3C-457D-8DFF-4B4D4059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08E-1153-4C67-A693-94EA5E8E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1056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CC5-EA17-4FAC-8417-F6DC7B5B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1056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C55-C552-47C2-AE2F-6F9A62E7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10560"/>
            <a:ext cx="822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C4C-F73C-438F-BEEB-4F185DA8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10560"/>
            <a:ext cx="822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9A6-4A8D-40C6-B131-927A7027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1056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1056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6BF-B7B7-47EC-AAB2-70041572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10560"/>
            <a:ext cx="264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10560"/>
            <a:ext cx="264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10560"/>
            <a:ext cx="264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9AA-E6D0-4B6D-BA5E-A41CE29F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1056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1056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10560"/>
            <a:ext cx="8229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5A2C-65CD-40D4-90B2-CCD5614A4B2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6183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&amp;D Needs and Technological Tools for Water Management in the GCC Countries</a:t>
            </a:r>
            <a:br>
              <a:rPr sz="4200"/>
            </a:b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81080" y="4132440"/>
            <a:ext cx="655344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. Waleed K Al-Zub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ian Gulf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leed@agu.edu.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03640" y="44280"/>
            <a:ext cx="40323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740720" y="2060640"/>
            <a:ext cx="358560" cy="3168720"/>
          </a:xfrm>
          <a:prstGeom prst="downArrow">
            <a:avLst>
              <a:gd name="adj1" fmla="val 35398"/>
              <a:gd name="adj2" fmla="val 12351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5800" y="2060640"/>
            <a:ext cx="358920" cy="2520720"/>
          </a:xfrm>
          <a:prstGeom prst="downArrow">
            <a:avLst>
              <a:gd name="adj1" fmla="val 42481"/>
              <a:gd name="adj2" fmla="val 153012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9507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Garamond"/>
                <a:ea typeface="Arial"/>
              </a:rPr>
              <a:t>GCC Future Water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11280" y="1916280"/>
          <a:ext cx="614052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614052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6610320" y="5084640"/>
            <a:ext cx="22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Baseline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10320" y="4437000"/>
            <a:ext cx="235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Supply Au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08880" y="3233880"/>
            <a:ext cx="25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ugmentation &amp; Policy Remedies (W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15920"/>
            <a:ext cx="867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ff"/>
                </a:solidFill>
                <a:latin typeface="Garamond"/>
                <a:ea typeface="Arial"/>
              </a:rPr>
              <a:t>Cont., Alternative Scenarios for Water Polic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80160" y="206064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162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198900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1280" y="90792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399"/>
                </a:solidFill>
                <a:latin typeface="Garamond"/>
                <a:ea typeface="Arial"/>
              </a:rPr>
              <a:t>Water Resources Management Strategie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3286080"/>
            <a:ext cx="82296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Garamond"/>
                <a:ea typeface="Arial"/>
              </a:rPr>
              <a:t>1. Demand Management &amp; Conservation in the Agricultural Sect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4743360"/>
            <a:ext cx="7848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Garamond"/>
                <a:ea typeface="Arial"/>
              </a:rPr>
              <a:t>2. Supply Management &amp; Augmentation: Desalination &amp; Treated Wastewat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Demand Management in the Agricultural Sector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1916280"/>
            <a:ext cx="7993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Increase in Areas under Irrigation in GCC, 1965-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74920" y="2332080"/>
          <a:ext cx="655308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332080"/>
                    <a:ext cx="655308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732720" y="65181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OSTAT,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41840" y="2836800"/>
            <a:ext cx="9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"/>
                <a:ea typeface="Arial"/>
              </a:rPr>
              <a:t>KSA (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05120" y="370044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  <a:ea typeface="Arial"/>
              </a:rPr>
              <a:t>UAE (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30920" y="3971880"/>
            <a:ext cx="11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Oman (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35640" y="4259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Arial"/>
                <a:ea typeface="Arial"/>
              </a:rPr>
              <a:t>Kuwait (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62440" y="4780080"/>
            <a:ext cx="11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"/>
                <a:ea typeface="Arial"/>
              </a:rPr>
              <a:t>Qatar (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4564080"/>
            <a:ext cx="110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hrain (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938560" y="4637160"/>
            <a:ext cx="129960" cy="58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881400" y="4780080"/>
            <a:ext cx="6516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50939" r="0" b="1147"/>
          <a:stretch/>
        </p:blipFill>
        <p:spPr>
          <a:xfrm>
            <a:off x="324000" y="1916280"/>
            <a:ext cx="8496000" cy="4306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95280" y="131616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Example: Wadi Al-Sarhan, K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333360"/>
            <a:ext cx="837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  <a:ea typeface="Arial"/>
              </a:rPr>
              <a:t>Cont., Water Management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920" y="1193760"/>
            <a:ext cx="712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Garamond"/>
              </a:rPr>
              <a:t>Irrigation Water Share of Total Groundwater Abstraction in the GCC, 2000</a:t>
            </a:r>
            <a:endParaRPr b="0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403280" y="2271600"/>
          <a:ext cx="6481800" cy="396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271600"/>
                    <a:ext cx="6481800" cy="39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516720" y="638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B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9640" y="909720"/>
            <a:ext cx="8136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is now the main groundwater consumer (8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rrigation efficiencies low at 30-45%; major “real” water savings can be achie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irrigation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monitoring &amp; tariffs for irrigatio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value &amp; high water consumption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gent need to apply demand manage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 move towards modern irrigation and agricultural techniques (e.g., soilless cultu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333360"/>
            <a:ext cx="837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  <a:ea typeface="Arial"/>
              </a:rPr>
              <a:t>Cont., Water Management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6553440" cy="4768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435640" y="4581360"/>
            <a:ext cx="3708360" cy="22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2" name=""/>
          <p:cNvSpPr/>
          <p:nvPr/>
        </p:nvSpPr>
        <p:spPr>
          <a:xfrm rot="2943600">
            <a:off x="6120000" y="4473360"/>
            <a:ext cx="647640" cy="285840"/>
          </a:xfrm>
          <a:prstGeom prst="rightArrow">
            <a:avLst>
              <a:gd name="adj1" fmla="val 50000"/>
              <a:gd name="adj2" fmla="val 566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51664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Desertification of Agricultural Lands due to Water degradation, Bah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33360"/>
            <a:ext cx="837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  <a:ea typeface="Arial"/>
              </a:rPr>
              <a:t>Cont., Water Management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gricultural Sector Constra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ter (quantity &amp; quali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ds and Soil (limited arable lands, majority infert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(restrictive, high evaporation losses due to use of traditional agricultural method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agricultural sector contribution GDP (less than 1%, and decreas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employment of national working force (mainly unskilled foreign lab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ative advantage (heavy subsidies), free trade, and external competi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333360"/>
            <a:ext cx="837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  <a:ea typeface="Arial"/>
              </a:rPr>
              <a:t>Cont., Water Management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424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0099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L-Mohanad"/>
              </a:rPr>
              <a:t>A Proposed Area of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825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L-Mohanad"/>
              </a:rPr>
              <a:t>Modern Agricultural Techniques: Soil-less Agricul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ohanad"/>
              </a:rPr>
              <a:t>To over-come agricultur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ohanad"/>
              </a:rPr>
              <a:t>To achieve sustainable agriculture (expan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ohanad"/>
              </a:rPr>
              <a:t>To create more national employment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ohanad"/>
              </a:rPr>
              <a:t>Increase agricultural sector contribution to the 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ohanad"/>
              </a:rPr>
              <a:t>Enhance Foo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48360" y="4137120"/>
            <a:ext cx="3816360" cy="26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2"/>
          <a:srcRect l="2746" t="-1591" r="4385" b="0"/>
          <a:stretch/>
        </p:blipFill>
        <p:spPr>
          <a:xfrm>
            <a:off x="250920" y="4118040"/>
            <a:ext cx="3816360" cy="262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"/>
          <p:cNvSpPr/>
          <p:nvPr/>
        </p:nvSpPr>
        <p:spPr>
          <a:xfrm flipH="1">
            <a:off x="4284000" y="5191200"/>
            <a:ext cx="647640" cy="414360"/>
          </a:xfrm>
          <a:prstGeom prst="leftArrow">
            <a:avLst>
              <a:gd name="adj1" fmla="val 50000"/>
              <a:gd name="adj2" fmla="val 39075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33360"/>
            <a:ext cx="837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  <a:ea typeface="Arial"/>
              </a:rPr>
              <a:t>Cont., Water Management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69960" y="1960560"/>
            <a:ext cx="3327480" cy="2386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803840" y="1960560"/>
            <a:ext cx="3906720" cy="2398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5716440"/>
            <a:ext cx="4191120" cy="11912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ahoma"/>
                <a:cs typeface="AL-Mohanad"/>
              </a:rPr>
              <a:t>الزراعة المحمية التقليدية السائدة بدول الخليج العرب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5715000"/>
            <a:ext cx="4114800" cy="825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ahoma"/>
                <a:cs typeface="AL-Mohanad"/>
              </a:rPr>
              <a:t>الزراعة المحمية المتطورة والزراعة بدون تر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803840" y="3295800"/>
            <a:ext cx="1807920" cy="1103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H="1">
            <a:off x="7117920" y="1754280"/>
            <a:ext cx="73080" cy="477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031760" y="3519000"/>
            <a:ext cx="506520" cy="1019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2913120" y="3927240"/>
            <a:ext cx="504720" cy="610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04840" y="1550880"/>
            <a:ext cx="144360" cy="681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292400"/>
            <a:ext cx="14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00"/>
                </a:solidFill>
                <a:latin typeface="Tahoma"/>
                <a:cs typeface="AL-Mohanad"/>
              </a:rPr>
              <a:t>زراعة محم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94360" y="1685880"/>
            <a:ext cx="216000" cy="546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26040" y="135900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ahoma"/>
                <a:cs typeface="AL-Mohanad"/>
              </a:rPr>
              <a:t>زراعة محم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51400" y="1143000"/>
            <a:ext cx="224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ahoma"/>
                <a:cs typeface="AL-Mohanad"/>
              </a:rPr>
              <a:t>زراعة مدفئة (الشتاء) ومبردة (الصيف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622240" y="1754280"/>
            <a:ext cx="290520" cy="88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7360" y="1143000"/>
            <a:ext cx="21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00"/>
                </a:solidFill>
                <a:latin typeface="Tahoma"/>
                <a:cs typeface="AL-Mohanad"/>
              </a:rPr>
              <a:t>زراعة مدفئة (الشتاء) غير مبردة (الصيف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22600" y="4538520"/>
            <a:ext cx="141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00"/>
                </a:solidFill>
                <a:latin typeface="Tahoma"/>
                <a:cs typeface="AL-Mohanad"/>
              </a:rPr>
              <a:t>ري بالتنقيط (مياه جوفي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7624440" y="4267080"/>
            <a:ext cx="361800" cy="271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45784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ahoma"/>
                <a:cs typeface="AL-Mohanad"/>
              </a:rPr>
              <a:t>ري بالتنقيط (مياه قليلة الملوحة وبمحلول مغذي) يعاد تدويرها باستمرا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538520"/>
            <a:ext cx="15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00"/>
                </a:solidFill>
                <a:latin typeface="Tahoma"/>
                <a:cs typeface="AL-Mohanad"/>
              </a:rPr>
              <a:t>زراعة في التربة مسمد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527800" y="3790440"/>
            <a:ext cx="579240" cy="814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4538520"/>
            <a:ext cx="16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ahoma"/>
                <a:cs typeface="AL-Mohanad"/>
              </a:rPr>
              <a:t>زراعة بدون تربة (خفان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033600" y="1754280"/>
            <a:ext cx="1157400" cy="169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094360" y="3995640"/>
            <a:ext cx="2892240" cy="542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7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  <a:ea typeface="AL-Mohanad"/>
              </a:rPr>
              <a:t>Modern vs. Traditional Agricultural Systems</a:t>
            </a:r>
            <a:endParaRPr b="0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Garamond"/>
              </a:rPr>
              <a:t>Overview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278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Water Resources &amp;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cenarios for Water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Water Resources Management Strate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Management in Agri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al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water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4191120" y="1390680"/>
          <a:ext cx="4165560" cy="24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390680"/>
                    <a:ext cx="416556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4920" y="1406520"/>
          <a:ext cx="4157640" cy="24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406520"/>
                    <a:ext cx="415764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419720" y="4376880"/>
          <a:ext cx="3962160" cy="22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376880"/>
                    <a:ext cx="39621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80880" y="4300560"/>
          <a:ext cx="4191120" cy="236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4300560"/>
                    <a:ext cx="419112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79280" y="1076400"/>
            <a:ext cx="881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AL-Mohanad"/>
              </a:rPr>
              <a:t>Water Cost (L/Kg): savings 74-9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4014720"/>
            <a:ext cx="83818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AL-Mohanad"/>
              </a:rPr>
              <a:t>Land Productivity (kg/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ahoma"/>
                <a:ea typeface="AL-Mohanad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AL-Mohanad"/>
              </a:rPr>
              <a:t> area): increase 200-9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07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Experimental Results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362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ment of 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gri-Industrial Park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e to food security without endangering water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 in the transformation of the agricultural sector from a marginal sector to a sustainable expanding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e to national econom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small &amp; medium size national projects to enhance socio-economic develop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497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ly the main source of water to meet spiraling domestic water supply requirements (quantity &amp; quality) in major cities in G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directly or blended blended with ground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419640" y="3220920"/>
          <a:ext cx="5545080" cy="35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3220920"/>
                    <a:ext cx="554508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0" y="3860280"/>
            <a:ext cx="3276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velopment of Desalination Capacity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n GCC Countries,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980-2000</a:t>
            </a:r>
            <a:endParaRPr b="0" lang="en-US" sz="2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  <a:ea typeface="Arial"/>
              </a:rPr>
              <a:t>Supply Augmentation: Desalin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961920"/>
            <a:ext cx="91440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Garamond"/>
              </a:rPr>
              <a:t>Desalination Capacity in the GCC Countries</a:t>
            </a:r>
            <a:br>
              <a:rPr sz="2800"/>
            </a:br>
            <a:r>
              <a:rPr b="0" lang="en-US" sz="2800" spc="-1" strike="noStrike">
                <a:solidFill>
                  <a:srgbClr val="ff6600"/>
                </a:solidFill>
                <a:latin typeface="Garamond"/>
              </a:rPr>
              <a:t> (43% of world total capacity)</a:t>
            </a:r>
            <a:endParaRPr b="0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11280" y="2133720"/>
            <a:ext cx="7848360" cy="4124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877080" y="6381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ESCWA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333360"/>
            <a:ext cx="837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  <a:ea typeface="Arial"/>
              </a:rPr>
              <a:t>Cont., Water Management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915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installation of desalination plants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lination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cost of desalination plants installed up to 2001 is US$ 21 billion (heavy burden on national bud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roduction cost in GCC range: US$ 1-2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ared to current US$ 0.70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life (15-25 y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ne pollution (thermal, brine, residual treatment chemicals, 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pollution by emitted oxides (mostly using oi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orted Technology: GCC still do not own the technology completely, does not add to the national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33360"/>
            <a:ext cx="837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  <a:ea typeface="Arial"/>
              </a:rPr>
              <a:t>Cont., Water Management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68000" y="2204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 Desalination C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Reliability of Desalination as a Water Re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Value Added to GCC Economy from Desalination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 Environmental Imp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hance Cooperation among GCC and Arab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9223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  <a:ea typeface="Tahoma"/>
              </a:rPr>
              <a:t>Goals of Desalination R&amp;D in GCC (Bushnak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333360"/>
            <a:ext cx="837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  <a:ea typeface="Arial"/>
              </a:rPr>
              <a:t>Cont., Water Management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2803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ing Capital Cost of Plants / New Mate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ing the cost of O&amp;M and Energy Con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ding the Economic Life of Pl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Value Added by Co-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ing Innovative Less Costly Proces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112536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  <a:ea typeface="Tahoma"/>
              </a:rPr>
              <a:t>Reducing the Cost of Desalinated Wa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333360"/>
            <a:ext cx="837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  <a:ea typeface="Arial"/>
              </a:rPr>
              <a:t>Cont., Water Management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9280" y="2276640"/>
            <a:ext cx="8280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lizing O&amp;M and Plant Refurbis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ategic Storage of Excess Desalinated Water using ASR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lizing Design, Fabrication and Construction of Pl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l Manufacturing of Key Spare Parts &amp; Compon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90792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  <a:ea typeface="Tahoma"/>
              </a:rPr>
              <a:t>Increasing Reliability of Desalination as a Water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333360"/>
            <a:ext cx="837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  <a:ea typeface="Arial"/>
              </a:rPr>
              <a:t>Cont., Water Management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39280" y="1989000"/>
            <a:ext cx="842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lifying Local Labor to Work in Desalination Indus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lizing Design, Fabrication, &amp; Construction Capa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imizing the Benefits of Co-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rdinating Energy Policy with Water &amp; Power Poli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very of Rare Minerals from Desalination Brines (Li, Br, etc.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83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  <a:ea typeface="Tahoma"/>
              </a:rPr>
              <a:t>Increasing Value Added to GCC Economy from Desal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333360"/>
            <a:ext cx="837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  <a:ea typeface="Arial"/>
              </a:rPr>
              <a:t>Cont., Water Management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escalating urban wat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most all countries operating modern treatment facilities with tertiary and advanced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SE represents only about 20% of the to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icip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er vol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tewater discharge and health                                   hazard problems (pollution of                                              shallow groundwater, coastlines                                             and marine environment, water                                                              table rise in urban cent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used TSE does not exceed 12%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available domestic water                                                                supply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about 60% of treated                                      waste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016680" y="3068640"/>
          <a:ext cx="3092400" cy="371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6680" y="3068640"/>
                    <a:ext cx="30924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 rot="16200000">
            <a:off x="7198200" y="5117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7845840" y="5333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Garamond"/>
                <a:ea typeface="Arial"/>
              </a:rPr>
              <a:t>Supply Augmentation: Treated Wastewat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51280" y="3133800"/>
            <a:ext cx="5257800" cy="3751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3351240"/>
            <a:ext cx="3087720" cy="1554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37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Garamond"/>
              </a:rPr>
              <a:t>Introduction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d to extremely arid climatic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and irregular rainfall in space &amp; time (&lt;100 mm/y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vaporation rates ( &gt;3000 mm/y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devoid of surface water resources, depends mainly on groundwater, desalination, and reuse of T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5013360"/>
          <a:ext cx="3166920" cy="17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5013360"/>
                    <a:ext cx="316692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6840" y="1125360"/>
            <a:ext cx="8435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nstraints for re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-Zubari, 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vy minerals accumulation in so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ial waste discharge in domestic waste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crobial pollution (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o design conventional treatment plants that complies with the requirement of the WHO Health guidelines for treated wastewater reu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333360"/>
            <a:ext cx="837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  <a:ea typeface="Arial"/>
              </a:rPr>
              <a:t>Cont., Water Management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8360" y="312840"/>
            <a:ext cx="7956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Garamond"/>
                <a:ea typeface="Arial"/>
              </a:rPr>
              <a:t>Suggested Fra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WATER a prominent place in the national and regional ag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ion of proactive strategic Integrated Water Resources Planning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 shift towards demand management, conservation, and prot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regional investments and cooperation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&amp;D in non-conventional water technologies (desalination and treatment technolog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&amp;D Modern Agricultural technolo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34720" y="1557360"/>
            <a:ext cx="638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ff"/>
                </a:solidFill>
                <a:latin typeface="Garamond"/>
              </a:rPr>
              <a:t>Thank You!</a:t>
            </a:r>
            <a:endParaRPr b="0" lang="en-US" sz="112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241200"/>
            <a:ext cx="82296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ff"/>
                </a:solidFill>
                <a:latin typeface="Garamond"/>
              </a:rPr>
              <a:t>Cont., Introduction</a:t>
            </a:r>
            <a:endParaRPr b="0" lang="en-US" sz="17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362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d development growth since the mid 197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the economic base, rapid improvement in the standard of living, and high rates of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opulation growth rates (&gt;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al increase in water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3652920"/>
          <a:ext cx="3959280" cy="27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652920"/>
                    <a:ext cx="3959280" cy="27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924440" y="3214800"/>
            <a:ext cx="38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GCC Total Water Demands, B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6440" y="3141720"/>
            <a:ext cx="38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GCC Population, Mill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788000" y="3662280"/>
          <a:ext cx="3529080" cy="277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3662280"/>
                    <a:ext cx="35290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9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rcity of natural water resources is aggravated by high population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is becoming an increasingly scarce commodity and its availability is decreasing wit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03640" y="3068640"/>
          <a:ext cx="561636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068640"/>
                    <a:ext cx="56163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66560" y="3789360"/>
            <a:ext cx="25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er Capita Available Water Share in GC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1950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826920" y="241200"/>
            <a:ext cx="82296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ff"/>
                </a:solidFill>
                <a:latin typeface="Garamond"/>
              </a:rPr>
              <a:t>Cont., Introduction</a:t>
            </a:r>
            <a:endParaRPr b="0" lang="en-US" sz="17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4000" y="1052640"/>
            <a:ext cx="8001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is situation continue, GCC countries will experience a series of major water problems due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calating water demands and lack of effective conservation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ous deterioration of groundwater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rates of water resources aug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st programs for wastewater treatment in rapidly developing urban comm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k of solution to the issue of population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Cont., Introduction</a:t>
            </a:r>
            <a:endParaRPr b="0" lang="en-US" sz="20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5146560" y="2714760"/>
          <a:ext cx="225612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2714760"/>
                    <a:ext cx="225612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42160" y="2376360"/>
            <a:ext cx="169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ndw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08720" y="1900080"/>
            <a:ext cx="1689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ated Wastew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27440" y="1838160"/>
            <a:ext cx="1384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alinated W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1240" y="5430960"/>
            <a:ext cx="16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1240" y="5073480"/>
            <a:ext cx="16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  <a:ea typeface="Arial"/>
              </a:rPr>
              <a:t>Muni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1240" y="3929040"/>
            <a:ext cx="16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Agricul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95080" y="40482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5.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95080" y="53164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.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84200" y="5316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343640" y="5568840"/>
            <a:ext cx="33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98920" y="407052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39988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Agricultural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98920" y="515160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870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  <a:ea typeface="Arial"/>
              </a:rPr>
              <a:t>Population &amp; Urb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98920" y="550404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54388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Growi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60360" y="2846520"/>
            <a:ext cx="341280" cy="792000"/>
          </a:xfrm>
          <a:prstGeom prst="downArrow">
            <a:avLst>
              <a:gd name="adj1" fmla="val 50000"/>
              <a:gd name="adj2" fmla="val 5801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1989000"/>
            <a:ext cx="165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Pres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312840"/>
            <a:ext cx="75596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Garamond"/>
                <a:ea typeface="Arial"/>
              </a:rPr>
              <a:t>GCC Water Resources &amp;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4920" y="1052280"/>
            <a:ext cx="8443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ly 3 future policy option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pulation Policy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igh political risk, long term imp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gricultural Policy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edium political risk, medium term impac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ter Policy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ower political risk, short term imp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mbination of two or three of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ed: Water Policies: 3 extrem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I: Baseline Scenario (Do nothing!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II: Augmentation of Water Supply (continue current polic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III: Augmentation and Policy Reme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-34920" y="245880"/>
            <a:ext cx="91440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Garamond"/>
              </a:rPr>
              <a:t>Alternative Scenarios for Water Policies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370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Policies for Scenario I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ing on demand management, conservation, and prote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ority of water supply for domestic, agriculture, and Industry, respectiv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tional water use &amp; al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ndwater management and pro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 water use efficiency &amp; economic produ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ter pollution control and environmental pro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itutional reforms and capacity buil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44360"/>
            <a:ext cx="867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ff"/>
                </a:solidFill>
                <a:latin typeface="Garamond"/>
                <a:ea typeface="Arial"/>
              </a:rPr>
              <a:t>Cont., Alternative Scenarios for Water Polic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5T16:12:47Z</dcterms:created>
  <dc:creator>AV Department</dc:creator>
  <dc:description/>
  <dc:language>en-US</dc:language>
  <cp:lastModifiedBy>ZBG</cp:lastModifiedBy>
  <dcterms:modified xsi:type="dcterms:W3CDTF">2008-04-08T09:38:21Z</dcterms:modified>
  <cp:revision>164</cp:revision>
  <dc:subject/>
  <dc:title>Guidelines for Groundwater Protection and Pollution Control in the GCC countries</dc:title>
</cp:coreProperties>
</file>