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7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C47E2E-9FDD-4BEC-82F7-F7B0D049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82346E-CC81-459B-A391-6434E4F5513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74FFB7-D8CF-4CAF-B353-F42E1CAC52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3BE-40E9-4585-9089-9CE7CB6A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326-F4EB-48A1-A5AA-90DCA63E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F4F-9DC2-4FB3-AB3A-AAF365E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AA7-52C4-4E0F-9F3A-0F823C91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4638-B8D7-4B99-BAEE-2EAF3811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C3AC-3FCB-4879-A7AF-A49E7BEE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FB98-55F8-4A1F-9438-E1514353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A24-25B9-43B8-81F2-533D842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1C04-FA64-4132-86B3-82A0218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766-D7DC-40D7-9E35-DD74067A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D97-1095-44B3-AA93-6295D56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B5A-42EA-4BD9-AEC7-0E87D17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791D-3110-46E6-AF51-C394F64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D8B9-714D-4769-BE91-ED3B1B6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CF09-0AA3-48C1-A2B3-33B66C5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196-6553-46F8-93B8-AD04139D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1134-C1FC-4004-B40F-BCB24388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672-FDA2-41F5-B8FD-BE91D273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FF3-6F2C-4552-8A12-3010DEE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FCE-5D29-41C8-ACBC-0DBB2C03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900-6B78-491A-8679-66882E36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2F6-A059-4781-B9CA-F3F51E9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000-B32D-433B-9D6A-6287392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0CF-ACD8-4646-914F-989C527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1b587c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1b587c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1b587c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1b587c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1b587c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1b587c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1544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699FD0-DA99-4378-9C0E-A768B6F7D8B3}" type="slidenum">
              <a:rPr b="0" lang="en-US" sz="1600" spc="-1" strike="noStrike">
                <a:solidFill>
                  <a:srgbClr val="1544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1b587c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1b587c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1b587c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174d6d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174d6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51F427-CD53-43BD-B24A-F1AD58A8CE3E}" type="slidenum">
              <a:rPr b="0" lang="en-US" sz="1600" spc="-1" strike="noStrike">
                <a:solidFill>
                  <a:srgbClr val="174d6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2936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4e8542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604878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5400" spc="-1" strike="noStrike">
                <a:solidFill>
                  <a:schemeClr val="accent1"/>
                </a:solidFill>
                <a:latin typeface="GE SS TV Bold"/>
                <a:cs typeface="GE SS TV Bold"/>
              </a:rPr>
              <a:t>المعمل الإلكتروني المتنقل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Picture 2" descr="C:\Users\Irns\Desktop\CLL2.jpg"/>
          <p:cNvPicPr/>
          <p:nvPr/>
        </p:nvPicPr>
        <p:blipFill>
          <a:blip r:embed="rId1"/>
          <a:srcRect l="0" t="0" r="0" b="18962"/>
          <a:stretch/>
        </p:blipFill>
        <p:spPr>
          <a:xfrm>
            <a:off x="2286000" y="2882880"/>
            <a:ext cx="4571640" cy="298404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pic>
        <p:nvPicPr>
          <p:cNvPr id="117" name="Picture 3" descr="escwa_logo.gif"/>
          <p:cNvPicPr/>
          <p:nvPr/>
        </p:nvPicPr>
        <p:blipFill>
          <a:blip r:embed="rId2"/>
          <a:stretch/>
        </p:blipFill>
        <p:spPr>
          <a:xfrm>
            <a:off x="4114800" y="372240"/>
            <a:ext cx="837720" cy="7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ستنتاجات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05276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380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1" lang="ar-SA" sz="1900" spc="-1" strike="noStrike">
                <a:solidFill>
                  <a:srgbClr val="000000"/>
                </a:solidFill>
                <a:latin typeface="Georgia"/>
              </a:rPr>
              <a:t>تبنت العديد من دول العالم فكرة المعمل المتنقل لنشر تقنية استخدام الحاسب الألي  لسهولة تجهيزه ونقله 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380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1" lang="ar-SA" sz="1900" spc="-1" strike="noStrike">
                <a:solidFill>
                  <a:srgbClr val="000000"/>
                </a:solidFill>
                <a:latin typeface="Georgia"/>
              </a:rPr>
              <a:t>ثبت ان المعمل المتنقل هو ارخص وسيلة لنشر تعليم مهارات الحاسب الألي  قياساً على الفرد 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380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1" lang="ar-SA" sz="1900" spc="-1" strike="noStrike">
                <a:solidFill>
                  <a:srgbClr val="000000"/>
                </a:solidFill>
                <a:latin typeface="Georgia"/>
              </a:rPr>
              <a:t>تبين ان اسلوب التعليم الجماعي الذي يوفرة المعمل المتنقل عامل هام في كسر رهاب تعلم التقنية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380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1" lang="ar-SA" sz="1900" spc="-1" strike="noStrike">
                <a:solidFill>
                  <a:srgbClr val="000000"/>
                </a:solidFill>
                <a:latin typeface="Georgia"/>
              </a:rPr>
              <a:t>تبين ان تعلم استخدام الحاسب الالي حافز لحيازة جهاز حاسب الي كأداة عمل أنتاجي 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380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1" lang="ar-SA" sz="1900" spc="-1" strike="noStrike">
                <a:solidFill>
                  <a:srgbClr val="000000"/>
                </a:solidFill>
                <a:latin typeface="Georgia"/>
              </a:rPr>
              <a:t>اثر تعلم مهارات الحاسب الالي في تحسين الواقع الأجتماعي والأقتصادي لعدد كبير ممن تلقوا التدريب في المعمل المتنقل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r" rtl="1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0" name="Picture 3" descr="escwa_logo.gif"/>
          <p:cNvPicPr/>
          <p:nvPr/>
        </p:nvPicPr>
        <p:blipFill>
          <a:blip r:embed="rId1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توصيات</a:t>
            </a:r>
            <a:r>
              <a:rPr b="0" lang="en-US" sz="3300" spc="-1" strike="noStrike">
                <a:solidFill>
                  <a:srgbClr val="174d6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توسع في تطبيق فكرة المعمل الألكتروني المتنقل في الدول اعضاء الاسكوا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ستقصاء الاساليب والطرق التي استخدمت في تدريب مهارات الحاسب الالي لاكساب المتلقين على اختلاف خلفياتهم التعليمية القدرات المناسبة لتأهيلهم للتعامل مع التقنية بطريقة منتج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ستحثاث مؤسسات المجتمع المدني والمؤسسات الاقتصادية العامة والخاصة على الاسهام بجهودها ومواردها في سبيل تيسير توفير المعامل الألكترونية المتنقلة لفئات المجتمع المحتاج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استصدار تشريعات وقرارت حكومية من شأنها تيسير استيراد وتجهيز المعامل المتنقلة واعفاء توفيرها من الرسوم والضرائب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200" spc="-1" strike="noStrike">
                <a:solidFill>
                  <a:schemeClr val="accent1"/>
                </a:solidFill>
                <a:latin typeface="Georgia"/>
              </a:rPr>
              <a:t>لنجعل الحياة أفضل</a:t>
            </a: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3" descr="j0430642.jpg"/>
          <p:cNvPicPr/>
          <p:nvPr/>
        </p:nvPicPr>
        <p:blipFill>
          <a:blip r:embed="rId1"/>
          <a:stretch/>
        </p:blipFill>
        <p:spPr>
          <a:xfrm>
            <a:off x="2057400" y="2895480"/>
            <a:ext cx="4952520" cy="329652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 SS TV Bold"/>
                <a:cs typeface="GE SS TV Bold"/>
              </a:rPr>
              <a:t>المعمل الإلكتروني المتنقل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chemeClr val="accent1"/>
                </a:solidFill>
                <a:latin typeface="GE SS TV Bold"/>
                <a:cs typeface="GE SS TV Bold"/>
              </a:rPr>
              <a:t>الفكرة الرئيس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ar-SA" sz="2200" spc="-1" strike="noStrike">
                <a:solidFill>
                  <a:srgbClr val="323232"/>
                </a:solidFill>
                <a:latin typeface="Georgia"/>
                <a:cs typeface="GE SS TV Bold"/>
              </a:rPr>
              <a:t>حافلات مجهزة تجهيزاً كاملاً بالمعدات و الأجهزة الحاسوبية و البرامج التعليمية و التعلُمية بحيث تكون كمعامل إلكترونية متنقلة تسَهِل الوصول إلى أكبر عدد من الفئات المستهدفة لها و تقدم خدماتها بأسعار رمزية أو بالمجان</a:t>
            </a:r>
            <a:r>
              <a:rPr b="0" lang="en-US" sz="2200" spc="-1" strike="noStrike">
                <a:solidFill>
                  <a:srgbClr val="323232"/>
                </a:solidFill>
                <a:latin typeface="Georgia"/>
                <a:ea typeface="GE SS TV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chemeClr val="accent1"/>
                </a:solidFill>
                <a:latin typeface="GE SS TV Bold"/>
                <a:cs typeface="GE SS TV Bold"/>
              </a:rPr>
              <a:t>الفئات المستهدفة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ar-SA" sz="2200" spc="-1" strike="noStrike">
                <a:solidFill>
                  <a:srgbClr val="323232"/>
                </a:solidFill>
                <a:latin typeface="Georgia"/>
                <a:cs typeface="GE SS TV Bold"/>
              </a:rPr>
              <a:t>غالباً تستهدف هذه المعامل الفئات التي لا يمكنها تعاطي التقنية بشكل يومي أو لا تسمح لها ظروفها بإقتناء المعدات و الأجهزة و البرامج التعليمية</a:t>
            </a:r>
            <a:r>
              <a:rPr b="0" lang="en-US" sz="2200" spc="-1" strike="noStrike">
                <a:solidFill>
                  <a:srgbClr val="323232"/>
                </a:solidFill>
                <a:latin typeface="Georgia"/>
                <a:ea typeface="GE SS TV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0" name="Picture 3" descr="escwa_logo.gif"/>
          <p:cNvPicPr/>
          <p:nvPr/>
        </p:nvPicPr>
        <p:blipFill>
          <a:blip r:embed="rId1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5400" spc="-1" strike="noStrike">
                <a:solidFill>
                  <a:schemeClr val="accent1"/>
                </a:solidFill>
                <a:latin typeface="GE SS TV Bold"/>
                <a:cs typeface="GE SS TV Bold"/>
              </a:rPr>
              <a:t>التجارب العالمية</a:t>
            </a:r>
            <a:r>
              <a:rPr b="0" lang="en-US" sz="5400" spc="-1" strike="noStrike">
                <a:solidFill>
                  <a:schemeClr val="accent1"/>
                </a:solidFill>
                <a:latin typeface="GE SS TV Bold"/>
                <a:ea typeface="GE SS TV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3160" y="2742840"/>
            <a:ext cx="3352320" cy="3352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123" name="TextBox 8"/>
          <p:cNvSpPr/>
          <p:nvPr/>
        </p:nvSpPr>
        <p:spPr>
          <a:xfrm>
            <a:off x="4648320" y="2895480"/>
            <a:ext cx="4070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تجارب من بعض الدو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الولايات المتحدة الأمريك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بريط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اله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لبن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السعو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scwa_logo.gif"/>
          <p:cNvPicPr/>
          <p:nvPr/>
        </p:nvPicPr>
        <p:blipFill>
          <a:blip r:embed="rId2">
            <a:lum contrast="-46000"/>
          </a:blip>
          <a:stretch/>
        </p:blipFill>
        <p:spPr>
          <a:xfrm>
            <a:off x="4343400" y="37836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لولايات المتحدة الأمريكي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761760" cy="613080"/>
          </a:xfrm>
          <a:prstGeom prst="rect">
            <a:avLst/>
          </a:prstGeom>
          <a:ln w="9525">
            <a:noFill/>
          </a:ln>
        </p:spPr>
      </p:pic>
      <p:sp>
        <p:nvSpPr>
          <p:cNvPr id="127" name="Content Placeholder 3"/>
          <p:cNvSpPr/>
          <p:nvPr/>
        </p:nvSpPr>
        <p:spPr>
          <a:xfrm>
            <a:off x="4114800" y="1676520"/>
            <a:ext cx="469044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0000"/>
          </a:bodyPr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شروع الحافلة الإلكترونية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Bu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شيكاغو ،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1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ستة حافلات مجهزة بمجموعة من الحاسبات الآلية و البرامج التعليمية و مرتبطة بالانترنت عن طريق الأقمار الصناعية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ثمرة تعاون بين كلية مجتمع و منظمات اجتماعية وكبار رجال الأعما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chemeClr val="accent1"/>
                </a:solidFill>
                <a:latin typeface="Georgia"/>
              </a:rPr>
              <a:t>الهدف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تدريب المجتمعات المحلية ذات الدخل المنخفض على استخدام الحاسب الآلي و الانترنت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6880" indent="-236880" algn="just" rtl="1"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LL7.jpg"/>
          <p:cNvPicPr/>
          <p:nvPr/>
        </p:nvPicPr>
        <p:blipFill>
          <a:blip r:embed="rId2"/>
          <a:srcRect l="0" t="0" r="0" b="19953"/>
          <a:stretch/>
        </p:blipFill>
        <p:spPr>
          <a:xfrm>
            <a:off x="457200" y="1752480"/>
            <a:ext cx="3428640" cy="2209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9" name="Picture 3" descr="CLL4.jpg"/>
          <p:cNvPicPr/>
          <p:nvPr/>
        </p:nvPicPr>
        <p:blipFill>
          <a:blip r:embed="rId3"/>
          <a:srcRect l="5071" t="11469" r="6299" b="34550"/>
          <a:stretch/>
        </p:blipFill>
        <p:spPr>
          <a:xfrm>
            <a:off x="457200" y="4415040"/>
            <a:ext cx="3428640" cy="1680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0" name="Picture 7" descr="escwa_logo.gif"/>
          <p:cNvPicPr/>
          <p:nvPr/>
        </p:nvPicPr>
        <p:blipFill>
          <a:blip r:embed="rId4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05320" y="1527120"/>
            <a:ext cx="53002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شروع بدايات جديدة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5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9760"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w Beginnings Learning B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9760" indent="-23976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عبارة عن حافلة مجهزة تجهيزاً كاملاً و مهيئة لتقديم دروس في تقنية المعلومات و استخدام الحاسب الآلي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9760" indent="-23976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أهداف المشروع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80240" indent="-239760" algn="just" rtl="1">
              <a:lnSpc>
                <a:spcPct val="100000"/>
              </a:lnSpc>
              <a:spcBef>
                <a:spcPts val="43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1" lang="ar-SA" sz="2200" spc="-1" strike="noStrike">
                <a:solidFill>
                  <a:srgbClr val="323232"/>
                </a:solidFill>
                <a:latin typeface="Georgia"/>
              </a:rPr>
              <a:t>مبادرات تعليم الكبار </a:t>
            </a: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20360" indent="-19980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مساعدة الكبار للعودة إلى بيئة التعلم.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720360" indent="-19980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نقطة انطلاق نحو تعلم استخدام الحاسب الآلي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1" marL="480240" indent="-239760" algn="just" rtl="1">
              <a:lnSpc>
                <a:spcPct val="100000"/>
              </a:lnSpc>
              <a:spcBef>
                <a:spcPts val="43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1" lang="ar-SA" sz="2200" spc="-1" strike="noStrike">
                <a:solidFill>
                  <a:srgbClr val="323232"/>
                </a:solidFill>
                <a:latin typeface="Georgia"/>
              </a:rPr>
              <a:t>تعليم الشباب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20360" indent="-19980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تمكين الشباب من التقدم في الدراسة و تشجيعهم على التمتع بالتعليم في ظل بيئة صحية ومجتمع آمن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720360" indent="-19980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رفع انجازاتهم من خلال استخدام تكنولوجيا المعلومات والاتصالات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Picture 2" descr="C:\Users\Irns\Desktop\bus_4_small.jpg"/>
          <p:cNvPicPr/>
          <p:nvPr/>
        </p:nvPicPr>
        <p:blipFill>
          <a:blip r:embed="rId1"/>
          <a:stretch/>
        </p:blipFill>
        <p:spPr>
          <a:xfrm>
            <a:off x="304920" y="1752480"/>
            <a:ext cx="3174480" cy="18792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3" name="Picture 3" descr="C:\Users\Irns\Desktop\Top%20Deck%20Classroom.jpg"/>
          <p:cNvPicPr/>
          <p:nvPr/>
        </p:nvPicPr>
        <p:blipFill>
          <a:blip r:embed="rId2"/>
          <a:stretch/>
        </p:blipFill>
        <p:spPr>
          <a:xfrm>
            <a:off x="304920" y="3886200"/>
            <a:ext cx="3200040" cy="2400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4" name="Picture 5" descr="escwa_logo.gif"/>
          <p:cNvPicPr/>
          <p:nvPr/>
        </p:nvPicPr>
        <p:blipFill>
          <a:blip r:embed="rId3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لمملكة المتحدة – بريطانيا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6934320" y="391320"/>
            <a:ext cx="837720" cy="675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لهند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76720" y="1527120"/>
            <a:ext cx="55288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شروع معهد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TT  2004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خمس حافلات متنقله قام البنك الدولي بدعمها تشتمل كل منها على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2080" indent="-266040" algn="just" rtl="1">
              <a:lnSpc>
                <a:spcPct val="100000"/>
              </a:lnSpc>
              <a:spcBef>
                <a:spcPts val="45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18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 جهاز حاسب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32080" indent="-266040" algn="just" rtl="1">
              <a:lnSpc>
                <a:spcPct val="100000"/>
              </a:lnSpc>
              <a:spcBef>
                <a:spcPts val="45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4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 معلمين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أهداف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2080" indent="-266040" algn="just" rtl="1">
              <a:lnSpc>
                <a:spcPct val="100000"/>
              </a:lnSpc>
              <a:spcBef>
                <a:spcPts val="43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 تعزيز المناطق الفقيرة من خلال القيام بتعليم المهارات الأساسية في استخدام الحاسب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2080" indent="-266040" algn="just" rtl="1">
              <a:lnSpc>
                <a:spcPct val="100000"/>
              </a:lnSpc>
              <a:spcBef>
                <a:spcPts val="45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ar-SA" sz="2300" spc="-1" strike="noStrike">
                <a:solidFill>
                  <a:srgbClr val="323232"/>
                </a:solidFill>
                <a:latin typeface="Georgia"/>
              </a:rPr>
              <a:t>زيارة 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40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 قرية فقيرة وخدمة 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6300</a:t>
            </a:r>
            <a:r>
              <a:rPr b="0" lang="en-US" sz="2300" spc="-1" strike="noStrike">
                <a:solidFill>
                  <a:srgbClr val="323232"/>
                </a:solidFill>
                <a:latin typeface="Georgia"/>
              </a:rPr>
              <a:t> طالب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7981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9" name="Picture 2" descr="C:\Users\Irns\Desktop\Picture1.jpg"/>
          <p:cNvPicPr/>
          <p:nvPr/>
        </p:nvPicPr>
        <p:blipFill>
          <a:blip r:embed="rId1"/>
          <a:stretch/>
        </p:blipFill>
        <p:spPr>
          <a:xfrm>
            <a:off x="457200" y="2462760"/>
            <a:ext cx="2742840" cy="2413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0" name="Picture 5" descr="escwa_logo.gif"/>
          <p:cNvPicPr/>
          <p:nvPr/>
        </p:nvPicPr>
        <p:blipFill>
          <a:blip r:embed="rId2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971280" cy="758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لجمهورية اللبناني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9000" y="1527120"/>
            <a:ext cx="5376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27880" indent="-227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شروع القاطرة الإلكترونية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Carav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7880"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7880" indent="-227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لبنان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5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6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7880" indent="-227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كونات الحافل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56480" indent="-227880" algn="just" rtl="1">
              <a:lnSpc>
                <a:spcPct val="100000"/>
              </a:lnSpc>
              <a:spcBef>
                <a:spcPts val="43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ar-SA" sz="2200" spc="-1" strike="noStrike">
                <a:solidFill>
                  <a:srgbClr val="323232"/>
                </a:solidFill>
                <a:latin typeface="Georgia"/>
              </a:rPr>
              <a:t>عشرة اجهزة حاسوبية, طابعة ليزر واحدة , بروجكتور مع شاشة عرض </a:t>
            </a: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LCD</a:t>
            </a: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  , جهازين ملقم , نظام تكييف الهواء , منزلق للمعاقين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27880" indent="-227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داعمين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84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منظمة الإسكوا  , منظمة سردار ,  بنك عودة ,  السفارة البريطانية في لبنان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7880" indent="-227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هدف:تعريف المجتمعات المحلية من المنطقة المحتلة سابقا في جنوب لبنان بعالم تقنية المعلومات عبر حافلة متنقلة مجهزة تجهيزاً كاملاً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56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863280" cy="6955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5" descr="C:\Users\Irns\Desktop\ecaravan-majdlzoun.jpg"/>
          <p:cNvPicPr/>
          <p:nvPr/>
        </p:nvPicPr>
        <p:blipFill>
          <a:blip r:embed="rId2"/>
          <a:stretch/>
        </p:blipFill>
        <p:spPr>
          <a:xfrm>
            <a:off x="457200" y="1504800"/>
            <a:ext cx="2971440" cy="2228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6" name="Picture 6" descr="C:\Users\Irns\Desktop\ecaravan-redribbon.jpg"/>
          <p:cNvPicPr/>
          <p:nvPr/>
        </p:nvPicPr>
        <p:blipFill>
          <a:blip r:embed="rId3"/>
          <a:stretch/>
        </p:blipFill>
        <p:spPr>
          <a:xfrm>
            <a:off x="457200" y="4038480"/>
            <a:ext cx="2990520" cy="199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7" name="Picture 6" descr="escwa_logo.gif"/>
          <p:cNvPicPr/>
          <p:nvPr/>
        </p:nvPicPr>
        <p:blipFill>
          <a:blip r:embed="rId4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المملكة العربية السعودية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7120"/>
            <a:ext cx="85006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230760"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عمل سيمانور الإلكتروني المتنقل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0760" indent="-23076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مكونات الحافل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جهاز حاسوبي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بشبكة داخلية 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شبكة الانترنت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marL="230760" indent="-23076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رعا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وزارة التربية والتعليم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شركة انتل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شركة مايكروسوفت 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توشيبا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693720" indent="-192600" algn="r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شركة زاي السعودية. 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marL="693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0760" indent="-230760" algn="r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هدف: اعطاء فرصة لاكبر عدد من الطلاب و المعلمين للتعرف على احدث تقنيات  التعليم الالكتروني  من خلال نظام متصفح سيمانور التعليمي 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0" name="Picture 3" descr="C:\Users\Irns\Desktop\IMGP2259.JPG"/>
          <p:cNvPicPr/>
          <p:nvPr/>
        </p:nvPicPr>
        <p:blipFill>
          <a:blip r:embed="rId1"/>
          <a:stretch/>
        </p:blipFill>
        <p:spPr>
          <a:xfrm>
            <a:off x="304920" y="1752480"/>
            <a:ext cx="4419360" cy="3314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758160" cy="61092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5" descr="escwa_logo.gif"/>
          <p:cNvPicPr/>
          <p:nvPr/>
        </p:nvPicPr>
        <p:blipFill>
          <a:blip r:embed="rId3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3300" spc="-1" strike="noStrike">
                <a:solidFill>
                  <a:srgbClr val="174d6d"/>
                </a:solidFill>
                <a:latin typeface="Georgia"/>
              </a:rPr>
              <a:t>معمل سيمانور الإلكتروني المتنقل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86200" y="1527120"/>
            <a:ext cx="4919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طريقة العمل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880" indent="0" algn="just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زيارات صباحية للمدارس داخل و خارج مدينة الرياض و زيارة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للتجمعات مثل المجمعات التجارية و المجمعات السكنية و المستشفيات بالتنسيق  مع اقسام العلاقات العامة فيها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880" indent="0" algn="just" rtl="1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880" indent="-245880" algn="just" rtl="1">
              <a:lnSpc>
                <a:spcPct val="100000"/>
              </a:lnSpc>
              <a:spcBef>
                <a:spcPts val="54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</a:rPr>
              <a:t>النتائج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38000" indent="-20484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التواصل المباشر مع القطاع المستهدف و تمكنه من التعامل مع الكمبيوتر و الانظمة التعليمية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738000" indent="-20484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التشجيع على استخدام التقنية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738000" indent="-20484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لاقى المشروع قبول واسع في جميع القطاعات والتي انعكس عبر الاتصالات و المراسلات الكثيفة و التي تطلب حجز مواعيد للزيارة 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2" marL="738000" indent="-204840" algn="just" rtl="1">
              <a:lnSpc>
                <a:spcPct val="100000"/>
              </a:lnSpc>
              <a:spcBef>
                <a:spcPts val="4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طلب شركات كبرى مثل ارامكو بتبني اكثر من عشر معامل متنقلة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</p:txBody>
      </p:sp>
      <p:pic>
        <p:nvPicPr>
          <p:cNvPr id="155" name="Picture 2" descr="C:\Users\Irns\Desktop\IMG_0006.jpg"/>
          <p:cNvPicPr/>
          <p:nvPr/>
        </p:nvPicPr>
        <p:blipFill>
          <a:blip r:embed="rId1"/>
          <a:stretch/>
        </p:blipFill>
        <p:spPr>
          <a:xfrm>
            <a:off x="685800" y="1523880"/>
            <a:ext cx="2819160" cy="2114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6" name="Picture 3" descr="C:\Users\Irns\Desktop\IMG_0007.jpg"/>
          <p:cNvPicPr/>
          <p:nvPr/>
        </p:nvPicPr>
        <p:blipFill>
          <a:blip r:embed="rId2"/>
          <a:stretch/>
        </p:blipFill>
        <p:spPr>
          <a:xfrm>
            <a:off x="609480" y="3809880"/>
            <a:ext cx="2971440" cy="2228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7" name="Picture 5" descr="escwa_logo.gif"/>
          <p:cNvPicPr/>
          <p:nvPr/>
        </p:nvPicPr>
        <p:blipFill>
          <a:blip r:embed="rId3">
            <a:lum contrast="-46000"/>
          </a:blip>
          <a:stretch/>
        </p:blipFill>
        <p:spPr>
          <a:xfrm>
            <a:off x="304920" y="304920"/>
            <a:ext cx="914040" cy="8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862</TotalTime>
  <Application>LibreOffice/7.4.7.2$Linux_X86_64 LibreOffice_project/40$Build-2</Application>
  <AppVersion>15.0000</AppVersion>
  <Words>534</Words>
  <Paragraphs>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0:14:07Z</dcterms:created>
  <dc:creator>Irns</dc:creator>
  <dc:description/>
  <dc:language>en-US</dc:language>
  <cp:lastModifiedBy>Fawzia</cp:lastModifiedBy>
  <dcterms:modified xsi:type="dcterms:W3CDTF">2008-03-31T05:32:33Z</dcterms:modified>
  <cp:revision>9</cp:revision>
  <dc:subject/>
  <dc:title>المعمل الإلكتروني المتنق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