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9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FE3-40DA-4868-A0C6-B07C12FB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C1F-3DAC-4A2E-B764-E167CC98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56D-2A1E-4348-A43C-F7A5FE6A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68B-4D57-4183-887B-CFDF70A2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9D0C-E040-4AA8-9022-476AA34D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FB3B-E573-46E1-8B44-13C48C23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0DA1-DC28-48B2-AD9A-F2C85445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B783-FBD4-4C95-9405-A4EDA2E7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1DB3-8DF1-42B3-948D-23427ECE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C24F-3F17-4B64-AD91-B35648A4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39F4-FDE6-4F83-81FB-5B51F008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0AA-6076-4C4A-A42D-D9AD6C07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871A-F08E-4E44-8A05-4531BA01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C6F8-BE7E-4FD0-BB43-6CC77AD1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5CF4-B8FF-4D98-9BF4-C8DC21B7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9368-DECC-4311-B6A8-DAC403F9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5865-BAE4-4B3C-861E-D59DF95E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9A5-7D5F-4FE9-9C11-4870FC60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785-F6F5-4F27-8C70-B10C21F5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C6E-86EB-42E7-9017-37580D00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124-8D25-4C85-B790-E9566190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F47-048A-4873-8A4A-4BD1738C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057-CBDE-40EF-B433-57892EAA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F1F-A1B8-4C20-8796-4C945DAC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3857-34AB-4B4A-936D-BDE9222514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AB83-8C3B-40B2-9CFC-54B92C506E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Meeting of ESCWA-ESTIC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047760"/>
            <a:ext cx="70102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ESCWA TECHNOLOGY CENT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DETAILED ASSESSMENT OF REGIONAL NEEDS &amp; PRIORITIES AND IDENTIFICATION OF IMPLEMENTATION MECHANI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.H. Kouyoumji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CTD - ESCW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153280" y="304920"/>
            <a:ext cx="45108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3A0A-BF96-470D-AF49-EBCE6B1F291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Verdana"/>
              </a:rPr>
              <a:t>How is the local TECH market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power: lacking in quality and availa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hnology-free transfers result in employment defic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core activities not outsourc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lue added per worker wan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stemic issues that need to be address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 based and not much value added to ex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CC6-3FD6-4907-AA5B-C17A3CDE0D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What are major regional needs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52704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62120" y="2666880"/>
            <a:ext cx="2133360" cy="1981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29000" y="2209680"/>
            <a:ext cx="457200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ob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adication of poverty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cio-economic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429000"/>
            <a:ext cx="4572000" cy="1219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quisition of scientific &amp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ological capa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iated with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ment 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4800600"/>
            <a:ext cx="45720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benchmarking of 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ess through agreed 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 of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EF0-23A7-4185-AE7E-18AF138013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What are major regional needs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’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527040" cy="609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62120" y="2666880"/>
            <a:ext cx="2209680" cy="1981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52680" y="2209680"/>
            <a:ext cx="480060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 linkages between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 priorities &amp; diffuse best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429000"/>
            <a:ext cx="4800600" cy="1066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ilitate agricultural and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wth and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4800600"/>
            <a:ext cx="48006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rove management of water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F6A-722E-4A8E-8F29-246E4724BE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CWA TECHNOLOGY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ENTRE FOR DEVELOP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3366"/>
                </a:solidFill>
                <a:uFillTx/>
                <a:latin typeface="Verdana"/>
              </a:rPr>
              <a:t>Mis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TO ASSIST MEMBER COUNTRIES AND THEIR PUBLIC AND PRIVATE ORGNIZATIONS TO ACQUIRE THE NECESSARY TOOLS AND CAPABILITIES TO ACCELERATE SOCIO-ECONOMIC DEVELOPMENT IN ORDER TO ATTAIN TECHNOLOGICAL PARITY WITH OTHER NATIONS AND REG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53352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272-34F4-48AE-8C9E-9051AD05D3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OBJECTIVES OF ESCWA T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contribute to the strengthening of national STI syst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develop capabilities in problem solving and policy form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foster synergy and complementarity at the regional level in the application of technolo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support the attainment of MD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72F-3FB1-4F56-A83D-F7D97BC76C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How will this be done !!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y addressing the following major issu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1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19200" indent="-61920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tion of systematic issues that obstruct national and regional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1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19200" indent="-61920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ing insight and assistance to EMCs on effective mechanisms of technology acquisition and accu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8EF-9178-43F9-9139-9FFFD79A6A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on’t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ing available through out-sourcing the considerable technological capabilities sequestered in existing national indust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ing mechanisms for a more effective utilization of national infrastructures and the massive human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ing assistance in strengthening national STI policies and disseminating best practi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09F-0B77-4DF1-8B8D-BA2296749ED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on’t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ating access t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at low c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ing assistance t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Cs in achieving the MD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945040" y="2031840"/>
            <a:ext cx="1347840" cy="1482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162920" y="3886200"/>
            <a:ext cx="1295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3CE-9C37-439D-8734-23F8A4CCF6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TO TAKE OFF: a 4-track approa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stemic iss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regional technolog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organized critica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21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229600" y="22860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9A2-8052-4C6A-95E1-A773163309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TRACK 1: Information serv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ponse to reque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-line availability of inf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 of STI observato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D1A-2268-4839-8A94-C1E30BFA11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HISTORIC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CWA 2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inisterial session:   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“</a:t>
            </a:r>
            <a:r>
              <a:rPr b="0" i="1" lang="en-US" sz="3000" spc="-1" strike="noStrike" u="sng">
                <a:solidFill>
                  <a:srgbClr val="cc0000"/>
                </a:solidFill>
                <a:uFillTx/>
                <a:latin typeface="Verdana"/>
              </a:rPr>
              <a:t>Decided to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Verdana"/>
              </a:rPr>
              <a:t> </a:t>
            </a:r>
            <a:r>
              <a:rPr b="0" i="1" lang="en-US" sz="3000" spc="-1" strike="noStrike" u="sng">
                <a:solidFill>
                  <a:srgbClr val="cc0000"/>
                </a:solidFill>
                <a:uFillTx/>
                <a:latin typeface="Verdana"/>
              </a:rPr>
              <a:t>prepare for the establishment of ESCWA TC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527040" cy="609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" y="4114800"/>
            <a:ext cx="914400" cy="48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3733920"/>
            <a:ext cx="6629400" cy="1676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re-feasibility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ment of the ESCWA Technology C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5BE-9500-4538-8122-145717E4E0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TRACK 2:  Systemic iss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imination of structural obstac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uring missing capabil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reasing labour produc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ing skill cert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moting outsourc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quiring industry related serv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CA3-27FC-40A8-996C-DEBD1AF550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Verdana"/>
              </a:rPr>
              <a:t>Trade in services / GDP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19051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9051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8229600" y="22860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840-A203-40A5-B3FE-C32D5D9C9F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Verdana"/>
              </a:rPr>
              <a:t>Agricultural productiv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udi Arabia: 6-fold increase over the past 10 yea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 other Arab countries: 1.2–1.6 fol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Verdana"/>
              </a:rPr>
              <a:t>Value added per farmer is 5% of farmers in industrialized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826-DA5D-4CE2-8895-19F8F3C310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TRACK 3:  Regional technology </a:t>
            </a: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    market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coop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quiring capabilities for competi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dertaking forward and backward link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quiring capacity to innovate in process and desig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ablishing foundations for knowledge based econo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84C-D7B3-403D-8A3B-22706E470C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TRACK 4:  Self-organized criticalit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bilize human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talyzes complementar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mote Internet based network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246-904F-4FF3-B89C-7544D7D62E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OMAINS OF ATTEN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ricul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truction indust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ustrial technolog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w material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tc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172200" y="4495680"/>
            <a:ext cx="2286000" cy="1447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172200" y="1676520"/>
            <a:ext cx="220968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2E7-E310-4C32-9656-4C832CC85C6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3880" y="1755720"/>
            <a:ext cx="6172200" cy="4324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53352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09480" y="914400"/>
            <a:ext cx="3200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5BA-1B28-4B38-9E6B-0274AB1B509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Verdana"/>
              </a:rPr>
              <a:t>BUDGET </a:t>
            </a:r>
            <a:r>
              <a:rPr b="0" lang="en-US" sz="1600" spc="-1" strike="noStrike">
                <a:solidFill>
                  <a:srgbClr val="cc3300"/>
                </a:solidFill>
                <a:latin typeface="Verdana"/>
              </a:rPr>
              <a:t>in  US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828800"/>
            <a:ext cx="7967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nual operations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sonnel, services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 u="sng">
                <a:solidFill>
                  <a:srgbClr val="cc3300"/>
                </a:solidFill>
                <a:uFillTx/>
                <a:latin typeface="Verdana"/>
              </a:rPr>
              <a:t>9 000 0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t-up co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Verdana"/>
              </a:rPr>
              <a:t>11 000 0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477120" y="24382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44E-D531-4AB3-8504-9A5E0F8414C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PARTNERSHI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3520" y="1752480"/>
            <a:ext cx="8001000" cy="4267440"/>
            <a:chOff x="533520" y="1752480"/>
            <a:chExt cx="8001000" cy="4267440"/>
          </a:xfrm>
        </p:grpSpPr>
        <p:sp>
          <p:nvSpPr>
            <p:cNvPr id="196" name=""/>
            <p:cNvSpPr/>
            <p:nvPr/>
          </p:nvSpPr>
          <p:spPr>
            <a:xfrm>
              <a:off x="533520" y="1752480"/>
              <a:ext cx="8001000" cy="42674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60426"/>
            <p:cNvSpPr/>
            <p:nvPr/>
          </p:nvSpPr>
          <p:spPr>
            <a:xfrm>
              <a:off x="3733920" y="2476440"/>
              <a:ext cx="1600200" cy="1600200"/>
            </a:xfrm>
            <a:prstGeom prst="ellipse">
              <a:avLst/>
            </a:prstGeom>
            <a:solidFill>
              <a:srgbClr val="3366ff">
                <a:alpha val="50000"/>
              </a:srgbClr>
            </a:solidFill>
            <a:ln w="4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60427"/>
            <p:cNvSpPr/>
            <p:nvPr/>
          </p:nvSpPr>
          <p:spPr>
            <a:xfrm>
              <a:off x="3733920" y="1917720"/>
              <a:ext cx="1600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336699"/>
                  </a:solidFill>
                  <a:latin typeface="Verdana"/>
                </a:rPr>
                <a:t>UN-ESCW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Verdana"/>
                </a:rPr>
                <a:t>TECHNOLOGY  CENT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60428"/>
            <p:cNvSpPr/>
            <p:nvPr/>
          </p:nvSpPr>
          <p:spPr>
            <a:xfrm>
              <a:off x="4260960" y="3390840"/>
              <a:ext cx="1600200" cy="160020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60429"/>
            <p:cNvSpPr/>
            <p:nvPr/>
          </p:nvSpPr>
          <p:spPr>
            <a:xfrm>
              <a:off x="5891400" y="4670280"/>
              <a:ext cx="16002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RODUCTIV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EC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60430"/>
            <p:cNvSpPr/>
            <p:nvPr/>
          </p:nvSpPr>
          <p:spPr>
            <a:xfrm>
              <a:off x="3205440" y="3389400"/>
              <a:ext cx="1600200" cy="160020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4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60431"/>
            <p:cNvSpPr/>
            <p:nvPr/>
          </p:nvSpPr>
          <p:spPr>
            <a:xfrm>
              <a:off x="1575000" y="4668840"/>
              <a:ext cx="1600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Verdana"/>
                </a:rPr>
                <a:t>CENTRES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Verdana"/>
                </a:rPr>
                <a:t>EXCELL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60984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461280" y="176220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VIABLE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95320" y="2514600"/>
            <a:ext cx="25909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1676520"/>
            <a:ext cx="19810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VIABLE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AD5-EBC9-4323-A6F8-035A6D9F38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60984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 rot="10800000">
            <a:off x="6858000" y="4327560"/>
            <a:ext cx="495288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noFill/>
                <a:latin typeface="Arial Black"/>
              </a:rPr>
              <a:t>Thank You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A83-4118-46B6-A1B6-7566A3B0EBB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HISTORIC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CWA 2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inisterial sessio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“</a:t>
            </a:r>
            <a:r>
              <a:rPr b="0" i="1" lang="en-US" sz="3000" spc="-1" strike="noStrike" u="sng">
                <a:solidFill>
                  <a:srgbClr val="cc0000"/>
                </a:solidFill>
                <a:uFillTx/>
                <a:latin typeface="Verdana"/>
              </a:rPr>
              <a:t>approved, in principle, the establishment of the ESCWA TC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527040" cy="609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4114800"/>
            <a:ext cx="914400" cy="48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3733920"/>
            <a:ext cx="6629400" cy="1676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ailed Assessment of Regional Need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orities and Identific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794-3A02-493F-831D-1CBCDC05F5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this decision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e to collective realization that , although major advances have been marked in fields like education and health, the ESCWA Region was lagging behind newly industrialized count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52704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210040" cy="23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911-F98A-499A-8F59-DC9B5A878A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077320" y="457200"/>
            <a:ext cx="603000" cy="68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521000" y="1854360"/>
          <a:ext cx="609120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1000" y="1854360"/>
                    <a:ext cx="609120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144-2197-4273-8083-821190F8382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SP in OECD countries %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371600" y="182880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82880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743200" y="495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648320"/>
            <a:ext cx="1371600" cy="3045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7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886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3581280"/>
            <a:ext cx="129528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581280" y="274284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2590920"/>
            <a:ext cx="1371600" cy="304560"/>
          </a:xfrm>
          <a:prstGeom prst="rect">
            <a:avLst/>
          </a:prstGeom>
          <a:solidFill>
            <a:srgbClr val="0066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8077320" y="457200"/>
            <a:ext cx="603000" cy="68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DEF-F93A-47DD-A199-9B85B14FD0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hallan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CONVERTING KNOWLEDGE EMBODIED IN HUMAN CAPITAL INTO SOCIO-ECONOMIC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5270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867280" y="4038480"/>
            <a:ext cx="2384640" cy="18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886-D6A0-4A62-9DC4-2EC80EF92D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Verdana"/>
              </a:rPr>
              <a:t>THIS IS BEST DONE BY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bilizing and/or transforming available capabilities and  resourc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chno-acquisition becomes integral part of national and regional econo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better knowledge of the market pl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C1C-94CE-42AB-B704-4173A2CDF2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92504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hrain, 1-2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280-D5B9-4E42-880E-098496835A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TIC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8:34:00Z</dcterms:created>
  <dc:creator>ESCWA</dc:creator>
  <dc:description/>
  <dc:language>en-US</dc:language>
  <cp:lastModifiedBy> </cp:lastModifiedBy>
  <dcterms:modified xsi:type="dcterms:W3CDTF">2008-03-28T08:56:57Z</dcterms:modified>
  <cp:revision>62</cp:revision>
  <dc:subject/>
  <dc:title>ESCTIC 4 2-3 March 2008</dc:title>
</cp:coreProperties>
</file>