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755-249B-4940-9947-0B3DCA24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CFA-DFD0-4422-8389-875E6E53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82C-5974-45CA-B0C1-72B01573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AC8-B3B8-4736-969D-870EFE1F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D94-4079-4F3E-A511-3D366B0D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2FA-DC5F-4872-B064-C7B8863D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C3C-DC24-43B9-B11B-3E30E776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036-4E7F-4841-AED6-D32AF61B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20A-53DD-4D77-AE28-57605300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C55-4915-4E94-8043-1712FEF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AC3-AF1D-48DC-9B8C-54F7746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248-0D9E-4769-8902-F7E9EC81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9EA8-16B5-4032-81D1-A4828329B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-Price Estimation of National Account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 National and Regional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OPE AND COVER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-ESC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– 25 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iro, Eg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Backgroun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WA received a request for practice-oriented training from COSIT on six topics vi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thods of Compiling and Updating Input-Output Transaction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ital and Financial Accounts of General Government and Financial Corporation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ply and Use Tables – compilation methods and methods of estimating miss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ial Accounting Matrix (SAM) – Compilation Methods and Data 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ional Accounts Indicators at constant p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ional Accounts Indicators – its evaluation, use for projection and regional level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Times New Roman"/>
              </a:rPr>
              <a:t>Background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ing priority to topics relating to NAS compiled at present, the workshop is designed to cover the last tw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conducting the workshop, we would like to learn from you about the status of compila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-Output Transaction / Supply-Use Ta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ccount and financial account for the financial corporation and general Govern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ing and improving methods of compiling NAS at constant prices following an integrated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ing the best feasible methods of estimating NAS aggregates at constant prices, with the data available at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ing the data required to adopt the theoretically sound methods for estimating NAS aggregates at constan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ing a framework for compiling production-side aggregates at the regional lev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Scope (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ing Constant-price Estimates at the n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-side aggregates – Output, Intermediate Consumption and Valu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diture Aggregates  -  Final consumption expenditure of households, Government and NPISHs, Gross fixed capital formation, Change in st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-side aggregates – GNI and Disposable In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ing Regional level production-side aggreg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of ensuring completeness and consistency of supply-side and use-side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Scope (2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workshop is not designed to address the problems relating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on of aggregates at current-prices – but aims to identify methods for compiling constant-price estimates consistent with current-price esti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ilation of IOTT or SUT – but would refer to their uses for compiling constant-price esti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on of expenditure- and income-side aggregates at the regional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ules of the Worksho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y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ementary Level of Aggreg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for compilation of GDP in Ir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tical framework of estimating NA aggregates at constant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viewing present methods followed by exploring for improved methods and applying them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ying the best sources and methods for estimating production-side aggregates at the regional (Governorate) level and applying them for compiling the estimates for one Govern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s of Balancing Constant Price Estimates of Production- and Use-side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Expected Outc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erials for compiling guidelines for Estimation of NA Aggregates at Constant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ipants becoming capable of compiling constant-price estimates of NA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ipants developing an understanding of use of various volume and price indices for compilation of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cation of sources and methods for compilation of Regional Domestic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ipants developing an understanding of methods of balancing Production- and Use-side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9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ﺸﻛﺮﺍ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6:53:18Z</dcterms:created>
  <dc:creator>Aloke Kar</dc:creator>
  <dc:description/>
  <dc:language>en-US</dc:language>
  <cp:lastModifiedBy> </cp:lastModifiedBy>
  <dcterms:modified xsi:type="dcterms:W3CDTF">2007-10-16T14:17:50Z</dcterms:modified>
  <cp:revision>30</cp:revision>
  <dc:subject>National Accounts</dc:subject>
  <dc:title>Estimation of Gross Domestic Product at Constant Prices</dc:title>
</cp:coreProperties>
</file>