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382-A905-45AA-B090-A3A81A05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B74-FAED-4520-A77B-6C9D1F23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2B0-54B3-46AB-B91A-F143B1B1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BFB-E9A2-47C7-B893-6FBE7420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22B-152C-4F12-8F70-41BF40F0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25F-9A10-44D6-A30E-E58825C1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85F-1D36-4A1A-9CAD-5CACFBF5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086-38EC-4F5D-AB9D-1968F085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9E5-4710-4643-A285-25996D7F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7DA-7686-48B8-A0DF-05799488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A95-AD4E-4A61-BF58-34845D9A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2F4-EE66-4BD9-932D-42105942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C12A-2DC5-4CF1-A3B9-FA78E9E34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ramework of Compilation of Regional (Governorate) Domestic Produc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-ESC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– 25 Septemb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eneral Principles of RDP Compilation (1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economic territories should be clearly defined. For Iraq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verno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ly, the sum of regional-level estimates should be equal to the national-level estim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there are territories – extra-regional – that do not form part of any region like national air space, territorial waters, territorial enclaves (embassies) located outside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 of extra-regional territories are not includ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D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y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E02-44B3-4243-A743-6724D7C41E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eneral Principles of RDP Compilation (2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sets used for national level estimation should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– estimation, indicators/ indices for deflation / extrapolation – used for regional estimation should be the same as, or at least consistent with, those used for national level esti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BD1-93A0-4268-8C82-EF6F32D2E8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eneral Methodology of RDP Compi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ly, one of the two methods – top-down and bottom-up – for an economic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ottom-up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gional level estimates are independently arrived at from data collected at the unit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p-down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ational level estimate is distributed over the regions using appropriate indica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inciple, priority is given to bottom-up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95D-EC11-44CA-BF80-91DC4782CC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op-down Metho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used when only national level estimates are available, in case of economic activities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scheduled road transport, retail trade (survey-base national level estimate &amp; regional-level estimates not reli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ecommunication (supra-regional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volume or a quantity indicator is found most suitable, the current-price and constant-price national-level estimate is distributed over the reg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stant price /current-price estimate at regional level is derived from the current-price /constant price estimate, using  a suitable price index or indicator, which is also used at national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BFA-4F7C-440D-A1DC-E37355E1F6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op-down Metho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volume / quantity indica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employees in the region for distributing CE, and volume of credit for distributing OS for banking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taxis in the region for unscheduled road transpor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telephone connections in the region for telecommun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ngth of railway track in the region for railw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454-7067-43C7-95C5-D8382D92B9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We will now examine availability of Production-related statistics at the Governorate lev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the national accounts, Regional Accounts should provide an integrated and comprehensive set of estimates of macroeconomic aggregates like production, income, consumption and invest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evelopment of regional accounts has lagged far behind, owing mainly to a number of conceptual, estimational and operational issues involved, which are not encountered in such serious form in national accou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148-2679-4BA9-A842-806544FEAE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Accounts – Main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within countries are open econom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flow of men, materials and means of transportation between reg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which hardly any data are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need data are compiled only at the national level – thru sample surveys that do not produce reliable estimates at the sub-national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of ‘resident’ in the context of regional accou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75A-C141-47F2-9C3E-A6C9AE342A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s Estimated at Regional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ing to these problems, no country attempts full system of accounts at regional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ly, regional accounts are limited to estimation of production by industry, capital formation by broad categories of assets and rarely estimates of household and government consump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workshop, only estimation of production by industry would be attemp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4A6-1819-47C4-815C-2B1FE07784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Accounts in UN-S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N-SNA does not make any specific recommendation about system of regional accou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has left the countries to develop their own systems of regional accou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1993 SNA has identified three types of institutional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ose with centre of interest in and most of its activities confined to one reg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regional units with centre of interest in more than one region, but does not relate to the entire count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s functioning at a national dimension – whose centre of inter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not be attached to geographical domains of the country (Supra-regional sector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F46-EA02-40C5-B11E-0DC07145F0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Concept of Regional In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Income or Regional Domestic Product (RDP) is a measure in monetary terms of the volume of all goods and services produced in the region or residents of the region during a given period of time (generally a year) accounted without duplic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stimates of Regional Income can be prepared by adopting two approaches, nam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 accru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 origina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E26-B66F-470B-9EDF-5DD165366E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come Accruing Approac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income accruing to the normal residents of a Reg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is measures the income that become available to the residents of a region, it provides a better measure of welfare of the residents of the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rresponds to the concep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national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needs data on flows of factor incomes across the boundaries of the regions as well as flows to/from abro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undaries of regions being open to all kinds of economic transactions, it is very difficult to obtain data on flows of factor incomes to/from outside the reg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16D-4725-4CA3-9FE2-EF9FE11CB9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come Originating Approac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come originating to the factors of production engaged in economic activities that are carried out within the geographical boundary of the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presents the volume, in monetary terms, of gross/net value of goods and services produced within the region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gional Domestic Product (RDP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-pri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the concep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mestic 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national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ly used for regional accou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C92-DBFD-44F1-9A2F-A62060DFFE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upra-regional Sector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ain economic activities, by their very nature are carried out cross regional boundaries. These are called ‘Supra-regional sectors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Railways, Communication, Banking &amp; insurance, and federal govern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economic contribution cannot be attributed to any one region or group of reg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stimates for these supra regional activities are compiled for the economy as a whole and allocated to the regions on the basis of relevant indica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929-3786-43A8-87D6-7A49CC7976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6:53:18Z</dcterms:created>
  <dc:creator>Aloke Kar</dc:creator>
  <dc:description/>
  <dc:language>en-US</dc:language>
  <cp:lastModifiedBy> </cp:lastModifiedBy>
  <dcterms:modified xsi:type="dcterms:W3CDTF">2007-10-16T14:08:35Z</dcterms:modified>
  <cp:revision>148</cp:revision>
  <dc:subject>National Accounts</dc:subject>
  <dc:title>Estimation of Gross Domestic Product at Constant Prices</dc:title>
</cp:coreProperties>
</file>