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8B19-EDDB-4313-BC83-3A7EB5DB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BCC-826F-4ED8-AF93-86392B28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6D96-AB1B-4AFF-80BB-23BBF122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1781-0217-48DC-B6B7-0B6355EE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2266-EBA4-42C5-8F73-5FC84DAC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0D00-EEE8-4817-85AB-0F95D810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C3A4-1AB4-41A3-A547-C5707B97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B65-6ECE-47B0-8247-4F2C3AA5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7A8E-70F3-442A-B99E-71001EB6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FB3B-0A96-411E-99AC-688632C5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35F7-86DD-4E37-8E88-EE055AEF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3EC-27C8-4881-9C86-B45D3D72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E3FF-6D49-4D35-A581-AAC0ECDD6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enditure Aggregates and Components of GDP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t Constant Prices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-ESC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 – 25 September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i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HFCE and CPI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- Conceptual Difference (2)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-life insurance ser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LO Manual on CPI recommends   exclusion of this item from CPI basket, since implicit service charge cannot be obser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ST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nd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ommend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changes in gross premiums rates for def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mponent of HFCE at current prices should be deflated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DP defl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s done for the production-side estim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A02-D0AE-4197-9BAE-0ED7EF0159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HFCE at Constant Pric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, B and C method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‘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’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eflation of HFCE at current prices using ‘appropriate’ CPIs,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based on actual price paid (incld. VAT) for exactly the same (group of) product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proper account of changes in the quality of produc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ther adjusted or supplemented by other price data to attain consistency with NA concep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‘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’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 of CPIs that are not ‘appropriate’ or adjusted PP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ommended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eflation of goods consumption by appropriate CPIs and of services consumption by the deflator used for Production-side estimates at constant pr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28A6-4A32-4596-AA27-CA7E017B4F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GFCE and Final Consumption of NPISH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equence of accounts, it is necessary to distinguish between ‘individual’ and ‘collective’ components of GFCE. (Final consumption of NPISH entirely is considered to be ‘individual’ consumption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sumption expenditure of the General Government and NPISH = output of non-market g&amp;s – receipts from the sales of non-market g&amp;s + g&amp;s purchased and transferred to households, un-transform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dividual Component of GF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first two components, constant-price estimates can be derived extrapolation of the base year value by output volume indicators used for production-side estimates. [s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nd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EE2A-E5A2-4181-BA7E-F8BFAFC631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GFCE and Final Consumption of NPISH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third component, ideally the commodity-specific CPIs should be used as deflato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estimates of the third component (usually has an insignificant share) are oft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vailable by products. Thus, the CPI for ‘food &amp; clothing’ may be used as deflat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ther altern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eflation of output at current prices by a compound price index for total observed input of production facto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llective Component of GF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ption is the “Other alternative” stated ab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7A4-8F46-457B-81B1-5617043E5F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GFCF at Constant Pr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ss fixed capital formation (GFCF) - tangible and intangible  - represents a large range of different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requires deflation a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tailed disaggregated product lev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stimating GFCF at constant pr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, separate estimates are required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ings and other construction work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ry and equipment,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or vehicles and other transport equipm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CF can be measured from either the supply or demand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pply side approach – being less resource intensive - is more commonly used as the main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64B-967F-46E9-86CC-FE4C66306B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GFCF in Buildings and other construction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stant-price estimates of GFCF is derived as part of the derivation of estimates for output for the construction indust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method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rapolation by volume indicators like square meters of finished construction work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lation by output price indices for buildings &amp; constructions – ‘hedonic’ approach or ‘model pricing’ or ‘specification pricing’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lation by input price indices for buildings &amp; constructions. Deflation by implicit price deflator of Construction industry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rapolation by volume indicator based on factor inputs - CE, IC and CFC at constant pric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CE9E-7F06-45B2-A90A-7B176EE67C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FCF in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chinery and Equip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FCF in machinery and equipment and motor vehicles and other transport equipment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red metho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ation at the most disaggregated level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ely weighted price deflators like (i) Composite (Paasche) PI of PPIs of relevant components,. (ii) UVI for imports of capital goo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ropriate weigh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hares of domestic supply to the domestic market and imports shares of total supply to the domestic markets of each type of capital go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4F77-B7D5-4110-A8E3-5037F7448A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hange in Inventory (CI) at Constant Pric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per 1993 SNA, for each individual groups of goods, Changes in inventories at current prices = changes in inventories at constant price + nominal holding gains on invent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hould ideally be derived from opening and closing balance sheet val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 when supply and use tables are used for compiling GDP - production and expenditure side at current and constant prices simultaneously -  changes in inventories at current and at constant prices are commonly derived residual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39D-0C14-48A0-8B4C-574EFA1912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hange in Inventory (CI) at Constant Pric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changes in inventories at constant prices by deflating total changes in inventories at current prices is not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, period to period rates of changes in (change in inventories) is not very meaningfu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eaningful volume index for changes in inventories can be defined or construct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A269-8EF0-4027-BC3C-93927031F8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I at Constant Pric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A/B/C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‘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A’ Metho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Requi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i) direct quantity information or value inform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ii) knowledge about the bookkeeping system a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iii) appropriate price information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at quarterly or monthly periodicity, when prices &amp; quantities vary considerably within the year – for calculating CI and holding gai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‘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B’ Metho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Methods of calculating CI and holding gains when the above requirements are not me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‘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C’ Metho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Deflation by proxy or inappropriate indicators or use of commodity flow method without any direct dat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‘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Worst’ Metho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CI in constant prices is calculated as a residual at the macro-leve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BF7E-3FA1-4358-902F-8D2C3C0C17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Expenditure 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usehold Final Consumption Expenditure (HF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overnment Final Consumption Expenditure (GF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al Consumption of NPIS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oss Savings (B.8) – balancing item [discussed later, wit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easures of Real Incom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oss Fixed Capital Formation or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GFC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P.5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 in Inventories (P.5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B5B5-2459-4124-A98C-1BA0E651BC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mports &amp; Exports at Constant Pric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, the estimates of exports and imports at constant prices are obtained by deflating current price estimates by UV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 required for UVI - the value and quantity of shipments – are available from declarations the importers and exporters are required to mak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unit-value indices are incapable of accounting for quality chang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4E3-EEDF-4D39-8B9A-6A669D2B56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mports &amp; Exports at Constant Pric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export and import price indices (XPI &amp; MPI) are much preferred in comparison to UV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compilation of XPI and MPI require detailed specifications of products exported and imported, which are normally not available from the Customs department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second-best and operationally feasible altern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Using UVIs based on the finest level of commodity detail available, disaggregated by country of origin/destin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D899-6DB1-478E-AC97-4A52DDAC66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mports &amp; Export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- A/B/C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‘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’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eflation by quality adjusted XPI &amp; MPI covering all exports and imports, which are are required to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t with the product classif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respectively f.o.b &amp; c.i.f pr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‘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’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(i) Deflation by XPI &amp; MPI without quality adjustment. (ii) UVIs based on product groups that are sufficiently homogeneous ove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‘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’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l other methods, including using UVIs for insufficiently homogeneous product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C944-054D-428D-AAA1-8AFD69D81B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omponents of GDP at Constant Pric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onents of GD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ensation of employees (D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xed income (B.3) + Operating surplus (B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Taxes – subsidies) on production &amp; imports (D.2–D.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umption of Fixed Capital or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K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f these, Mixed income + Operating surplus can be obtained as residual, viz. GDP – CE – (t – s) – CF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2D43-7FC1-40BD-9FCC-E0B5D02DDD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ompensation of Employe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CE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t Constant Pric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 inclu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ges and salaries – in cash &amp; kin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ontributions, and employers' social contrib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eflation of individual elements of CE is not necess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sufficient to apply the method appropriate for wages and salaries in cash to the entire 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E45-07C9-405C-89FC-804C631578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t Constant Pric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-A/B/C Metho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‘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’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xtrapolation by an "hours worked" measure separately for sufficiently detailed skill levels of employe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‘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’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(i) Extrapolation by “hours paid” without sufficiently detailed occupational classification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i) Deflation by average wage or wage rate if estimated at a sufficient level of stratification to distinguish reasonably homogenous groups of employ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‘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’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(i) Extrapolation by number of employees,   (ii) Deflation by an unrepresentative or general wage rate index or CP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75C7-3ECC-4D64-AE84-7DB3CD180F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axes &amp; Subsidies at Constant Pric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ction required betw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Taxes-subsidies) on products &amp; im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ther” (Taxes – subsidies) on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ter is considered as a component of value added (at basic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both are required for obtaining the balancing item 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xed income + Operating surplus”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17C0-A3EC-4029-A55C-57629E6835E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axes &amp; subsidies on products &amp; import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general, taxes &amp; subsidies on products at constant prices c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estimated by defl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xes &amp; subsidies on products at constant prices for bo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 valor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xes and for quantity taxes, can be obtai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pplying the implicit base year tax rates on the relevant transactions at constant pric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256F-355C-49C2-A4E7-1584C7EB10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ther” taxes and subsidies on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categories of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Other” taxes and subsidies on pro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 taxes – percentage of salary bi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es on ownership or use of an asset – number, size or value of asset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es in the form of licenses – at a fla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idies on certain processes (eg. reducing pollution) – at a flat rate for qualifying fi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records are the main source of data o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Other” taxes and subsidies on pro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ified by 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607B-C8E1-4388-921C-62ECBE9F34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ther” taxes and subsidies on production – A/B/C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‘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’ 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pplying the base year rates appropriately on the relevant number or deflated value separately for each categor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‘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’ meth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me method as ‘A’, but with less detailed data or inappropriate indicators for def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‘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’ meth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ne specified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nd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‘last resort’ 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eflation by GDP defl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A466-6904-4AF5-9654-71B985966A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HFCE at Constant Prices –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ssues of Compilation (1)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I (Laspeyres formula): The only source of comprehensive data on changes in purchasers' prices on consumer goods and servi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the ideal national accounts deflator: CPI - Paasche formul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unstable conditions lik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er inf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difference between a Laspeyres formula CPI and a Paasche formula CPI can be significa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, base periods for CPI and national accounts constant price estimates diff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AD11-85BC-448A-B630-86AAC05624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FC at Constant Pric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C at current prices are estimated from stock of fixed assets and their probable economic life (PIM) – closely linked to estimation of GFC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stimation of CFC at constant prices, the method applied for constant-price estimation of GFCF should be applied for respective types of ass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856-1D05-484B-8C50-16206D866D7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0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ﺸﻛﺮﺍ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HFCE at Constant Prices –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ssues of Compilation (2)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erage of HFCE differs from the consumption basket used for CPI of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simply deflating total HFCF by the total CPI is not enou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necessary to prepare the HFCE estimates at constant prices at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ost disaggregated level 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us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components of CPI as deflator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price information for flows not properly covered by CPI, when appropriate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A1E-2684-4117-ABA8-6B60FCCE92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HFCE and CPI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- Difference of Coverage (1)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sumption of own-produced goods and servic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These items are often not included in CPI (when based on 'final monetary consumption expenditure'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NAs, ‘output for own final use’ is valued at basic price, or at costs of production, if market prices are not avail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re output for own final use is a significant part of total consumption of a certain product, separately defla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part retained by the producer by a suitable PPI, 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part marketed by the corresponding component of CP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4A5A-370F-4CC7-954E-8625D47406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HFCE and CPI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- Difference of Coverage (2)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s and services received as income in ki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Often excluded from coverage of CP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NAs, these are valued at basic prices, if produced by the employer, and at market prices if purchased by the employ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ayment in kind to employees from own-production forms a significant part of household consumption for a product, it should be deflated using suitable PP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314D-816C-4219-8F07-29FF4CF0A6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HFCE and CPI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- Difference of Coverage (3)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s and services purchased abroad by resident househo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PI covers all purchases made by resident and non-resident households on the economic territory of a count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national accounts, HFCE includes purchases made abroad by resident households and excludes the expenditure of non-residents in the economic terri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urchases abroad by resident households form a significant proportion of HFCE, then this part should be deflated separate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328A-5264-449C-8C5C-9DE290717D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HFCE and CPI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- Difference of Coverage (4)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nsion funding and life insurance serv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insurance services and pension services are usually excluded from the CPI, since implicit service charge is not directly observ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components of HFCE at current prices should be deflated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DP defl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s done for the production-side estim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scellaneous items such as the service charges for lotteries and gambling, prostitution and narco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often excluded from CPI owing to the practical difficulties. Use the same indicators as done for production-side estim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FD9A-04D2-4F9F-A7A5-7DDB9A39B0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HFCE and CPI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- Conceptual Difference (1)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vices of owner-occupied dwellin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se represent a high proportion of final consumption of househol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commended method: Deflating by a suitable index of actual rent leve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no distribution margin involved, this component of HFCE at current prices should be deflated by the same indicators as done for production- side estimates. [S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n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AB20-A98D-41D7-9C25-9F43C29086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06:53:18Z</dcterms:created>
  <dc:creator>Aloke Kar</dc:creator>
  <dc:description/>
  <dc:language>en-US</dc:language>
  <cp:lastModifiedBy> </cp:lastModifiedBy>
  <dcterms:modified xsi:type="dcterms:W3CDTF">2007-10-16T14:10:34Z</dcterms:modified>
  <cp:revision>128</cp:revision>
  <dc:subject>National Accounts</dc:subject>
  <dc:title>Estimation of Gross Domestic Product at Constant Prices</dc:title>
</cp:coreProperties>
</file>