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E2A-E80A-49C7-B835-59762404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56D-1C75-4AFE-806E-437C945B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208-A2A0-4CD4-9482-42B394E5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903-8595-44F1-B18E-90D41BA5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B69-1A90-4A50-9208-22C9ECC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38F-FAA8-42B9-9C19-5C1B28D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870-1888-451F-8D2D-EF521990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C95-CC48-4A63-9F7A-0E72F67B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367-2F6B-4C5B-8C3F-F5E20D7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946-AF69-46DB-9935-E93B1E2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038-E7E8-4CF3-A8E9-A00D898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CD0-2923-4330-869B-16B0B9D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EB34-1700-4B85-9238-53C27594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Real Income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– GNI and Gross Disposable Inco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ESC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– 25 Sept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ramework for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easures for Income aggrega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GDI  = G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constant prices + Real Gains from changes in terms of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GNI  = Real GDI 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net primary incomes from abro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mary income defl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 balance defl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Gross National Disposabl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GNI  + real net current transfer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ro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urrent transfers defl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 defl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C95-95D0-488D-AE9A-0B82E2A97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tical Guide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Real Gains from changes in terms of trade 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M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[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X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/M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/XP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M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constant price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bsence of MPI, for example when UVIs are use for deriving imports at constant prices,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 import pric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l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 import price inde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urrent prices) /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onstant pric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l net primary incomes from abroa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mary income 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1EB-75C9-4753-B272-78007A4D5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tical Guide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net current transfers from abro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urrent transfers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GD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al G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al Gross National Disposable 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identities discussed earli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E13-9C7E-4D86-BE2F-10D350BF2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now work out estimates of ‘real’ GNI and ‘real’ gross disposable inc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’ Income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, output or production, the income flows can not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d into a price and a quantity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for income flows no meaningful price or volume measured can be def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come flows can be expressed in terms of theirs purchasing power over some selected basket of goods and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income deflated by a price index for the selected basket is called “real income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FEF-059B-407E-87A4-4B9AD2939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ed for Real Income Measure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P at constant prices reflects growth of an economy’s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 total real income that the residents derive from domestic production also depends on the rate at which the exports are traded against imports (terms of trad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between growth rates of GDP and real income can be substantial if exports and imports are large relative to GD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two-thirds of Iraq’s domestic production is expor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829-1B54-4178-8BF5-33524BBE9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al Measures – different from Constant-Price Measur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-price me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olume measures expressed in monetary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 Income me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asures purchasing power of income with respect to a selected basket of goods &amp;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re is no obvious choice of the bas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, 1993 SNA (Chp. XVI) recommends compilation of at least some measures of real in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1993 SNA fails to recommend a single method. It illustrates that no one deflator is optimal in all circumsta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FF5-7A2E-4129-B014-CD885C4BF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s of trade effe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real income which residents derive from domestic production 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ume of goods and services produc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at which exports can be traded against impo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exports’ prices rise faster than the imports’ prices (terms of trade improves) less exports are needed to pay for a given volume of im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 in the terms of trade leads to increase in  volume of (final consumption + capital formation) for the same level of domestic produ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A98-ED99-4C82-B482-ABC731390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s of trade effe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total real income generated by domestic production (GDI)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P at constant prices + the real gains from changes in the terms of trade with the rest of th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s “how to measure the real gains from changes in the terms of trad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3 SNA does not give any final solution to the problem. In fact, no measure is optimal in all circumsta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AB1-CDD8-4F8F-AB86-54F948D8B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al Gains from Changes in Terms of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difference between the “real” trade balance and the trade balance at constant pr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xports at curre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mports at curre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xport pric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mport pric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ice index based on some selected numer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23880" y="3200400"/>
                <a:ext cx="365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T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D20-3AB9-4CDA-B993-37B34945E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hoice of Trade Balance Defl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re is no agreement on choi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‘trade balance deflator’ – for deflating current-price trade balance to derive the “real” trade balanc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lternatives fall in two broad categor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: some general price index – GDP defla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:  MPI, XPI or a combination of MPI &amp; XP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PI strongly advocated, since are exports used for paying for impo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 resulting measure is not consistent with the general definition of real income mea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BB8-0D0E-4D84-A8F2-B2B7F67CA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PI as Trade Balance Defl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untries with hi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 and hi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oss domestic final expendi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, MPI seems to be an appropriate cho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oth these ratios are over 60% for Iraq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am of IMF experts, in an illustration, has used MPI as trade balance deflator for a GCC country having similar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27B-50F3-4A73-BE11-E193838897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6:53:18Z</dcterms:created>
  <dc:creator>Aloke Kar</dc:creator>
  <dc:description/>
  <dc:language>en-US</dc:language>
  <cp:lastModifiedBy> </cp:lastModifiedBy>
  <dcterms:modified xsi:type="dcterms:W3CDTF">2007-10-16T14:10:29Z</dcterms:modified>
  <cp:revision>139</cp:revision>
  <dc:subject>National Accounts</dc:subject>
  <dc:title>Estimation of Gross Domestic Product at Constant Prices</dc:title>
</cp:coreProperties>
</file>