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230-9BA8-451B-8112-6328E9FD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99D-4154-48E8-9B58-09C6B584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2B8-D0A4-48A1-904C-373268B9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546-A0A0-485C-9F29-6DF54F74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8F4-42E8-4180-A5AF-44736DD8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BF7-D2DA-477E-AA19-E887ED27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EF6-FFAC-429B-8F52-8A669E16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452-88C7-461F-8BE8-7378FC1E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E1B-8D31-476A-902F-97D553E2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D78-444A-4DFF-82E1-970B473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E8B-31C7-4D25-9FB9-5547795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207-6C2E-46E1-8650-265A8010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A29B-0ECA-4789-A516-F78EA3451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GDP at Constant Prices – Production Approach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-ESC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– 25 Septemb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gle input-related indicator methods 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Extrapolation by an index of compensation to employees deflated by wage rate ind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SA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IW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Extrapolation by an index based on physical quantities of inputs other than labo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Q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AD7-4DD3-43BA-AA81-AC557C8DE3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gle input-related indicator metho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extrapolation by an index of numbers of worker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extrapolation by an index of man-hours worked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extrapolation by an index of man-hours worked adjusted for change in labour produ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7CA-18DC-43B5-861A-6D5B1D34D1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red Methods of Output Measurement at Constant Pric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ion account, the balancing VA is derived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um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x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id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n products &amp; impor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uble-indicator and output-related single indicator methods of estimating VA at constant prices involve measurement of output at constant pri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A57-E6E8-4A47-A77F-4838BBB62B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red Methods of Output Measurement at Constant Pric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turnover / sales deflated by an appropriate price index is considered as the conceptually appropriate meth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under conditions of hyper inflation, when prices change very rapidly, price indices become increasingly unreliab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situations, volume indicators are expected to yield better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BD9-9C15-469E-B0C1-052CFEF2D1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red Methods of Output Measurement at Constant Price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UROST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ndbook on price and volume measures in national accounts (200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es methods of estimating output at constant prices into three categories: A, B and C. It recommends ‘A’ methods for each industry and considers the ‘C’ methods undesi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ndout –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5C7-BCBE-44D6-9602-DC2DF77BD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B/C Methods – EROSTAT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boo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es the methods for ‘market output’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ppropriately deflated turnover OR volume measures – with detailed product categorization ensuring reasonable homogeneity and very little change in 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urnover deflated by a less appropriate deflator and, in general, all volume meas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of all other indicators, especially 'Input' indic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E13-889C-490E-A4CE-1B4F0A56E3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red’, ‘Alternative’ and ‘Other’ Methods – OEC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A” methods of the EUROST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boo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a theoretical best for each indust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it is not always practical to follow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he “preferred” measures for services, as recommended in the OECD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ilation Manual for an Index of Services Production (2007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uggested for estimating output of services at constant pr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presents “alternative” and “other” indicators for compilation of Services production inde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793-1C42-439D-8C6C-B86DF4674C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red’ Methods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C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general, suggests two “preferred” methods for each services industry – ISIC group (3-digit) and class (4-digi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based on deflation of gross turnover at current prices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ppropriate quality-adjus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 index - ‘A’ method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boo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presen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ly correct metho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, using appropriate volume indicator.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ecifies appropriate volume indicator for each ISIC group / class. [S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out –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E8C-7157-4879-8093-7905400E1D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’ Methods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C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“alternative” methods too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general, suggests two for each ISIC group /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based on deflation of gross turnover at current prices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ially represent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 inde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, using less appropriate volume indicator.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ecifies the volume indicators for each ISIC group / class. [S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out –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0E8-76EF-4A1F-970E-B5CDF66917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’ Methods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C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for the “other” methods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 general, suggests a single method – based on a single input-related indicator, viz. ‘employment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ISIC group / class, however, other input-related indicators are also suggested.  [S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ndout –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4D7-0912-4C00-A1CA-CD4AB89EF7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Aggregates Involv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tput (P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nsumption (P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axes-subsidies) on products &amp; imports (D.21 – D.3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lue added /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B.1) –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ensation of employees (D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xed income (B.3) + Operating surplus (B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381-A159-4FED-8C2D-5B58AE3AC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utput at Constant Prices – Prescribed Metho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andout-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compilation of methods suggested in the EROST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andboo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OEC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separately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Market out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ales; and value of products - ‘finished’ and ‘work-in-progress’, supplied to other units of the same enterprise, paid as compensation in kind and those barter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Output for own final u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own final consumption or gross fixed capital forma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Other non-market out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upplied free, or sold at not-economically-significant prices to other institutional un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thods for ISIC sections ‘A’ to ‘F’ are from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andbook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those for ISIC sections ‘G’ to ‘P’ from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nu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297-C22C-4B05-9F55-2AAE5C41C3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rade Margin –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utput of distributive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f trading activities is the trade mar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ory: Difference between deflated sales and deflated purch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the required data are not avail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EC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ggests methods based on the assum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-to-sales ratios are constant at constant 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vides the basis for the prescribed method of deflating gross turnover by appropriate quality adjusted price ind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EEA-1B54-4BEA-9DDF-55856903FD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anking Servic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f Banking activities consist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 of Issue Department of Central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s and cha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rvices of Issue Deptt. – recommended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ion by productivity-adjusted number of employees (preferred 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ion by number of employees (alternative 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ees and charges Preferred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 income deflated by appropriate quality adjusted price indices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ion by volume indicator defined on numbers of loan, transactions and deposits appropriately class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CB9-55DE-4371-BEF2-78FD27A59F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anking Servic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ees and charges, alternativ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 income deflated by partially represented price ind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ion by volume indicator defined on number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 clea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redit car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bit car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vestment funds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ecurities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east preferred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ion by number of employees (alternative 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44A-681C-491D-8260-2B8A1F0778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ISIM at Constant Pr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lation by volume of output indicators covering the activities that generate FI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alued FISIM obtained by applying base period interest margins to the stocks of loans and deposits. Revaluation made by the implicit price deflator for domestic final dema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IM at current prices deflated by general GDP deflator or overall C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preferred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tion by number of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53F-7576-4F19-A200-2D5C049739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nsurance and Pension Funding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f insurance services at current prices =  actual premiums earned + premium supplements - claims due and the change in the actuarial reserves and reserves for with-pro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method: Deflation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DP def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f pension funding services at current prices = actual pensions contributions + supplementary contributions - benefits due and the change in actuarial reser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method: Deflation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DP def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0B4-504A-498F-A595-745315C540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utput of Non-Market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current prices, output of non-market production = sum of production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stant price estimates for non-market outputs, deflation by market-prices based price index shoul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us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ferred appro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xtrapolation of base year value with directly compiled output volume indicators. [S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has to rely on simplified methods based on input measures to approximate the value of output at constant pr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35B-9277-466D-BF23-AECD845ACB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0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ﺸﻛﺮﺍ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Added at Constant Prices – the Con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approach GD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∑VA, over industries – the main aggregate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no physical counterpart in the real world, un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nditure approach GD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 - balancing item of “production account” - not observable - change in current-prices VA not decomposable into price and quantity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 at constant prices is defined and measured as (output at constant prices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C at constant pri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 p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evious year’s prices for annual chain-linked series and prices of the “base” year for fixed-base year se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E55-2D21-4B30-85F6-43B3CACBAD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of Estimating GVA at Constant-Pri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ndou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methods of constant-price estimation are characterized by the use of the techniques and the number of indic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    extrapolation or deflation tech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   double or single indica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depends on the choice of indicators and the variables used for the purpo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   whether the indicator relates to output or inpu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  type of variable on which the indicators are bas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tically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are generally sup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175-DE94-480E-A63C-EB62D19F22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problems of using double indicator method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demanding in terms of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GVA is a small portion of output and when the relative prices change drastically,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ic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sometimes gives erratic result (even negative value added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ic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ly recommend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3A9-2CA9-4C90-A5C0-236DF6B926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Indicator Method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valuation of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P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Q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P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ouble Defl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IP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IP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ouble Extrapo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V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V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volume index as extrapola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  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Q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Q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quantity index as extrapo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241-9FC2-4805-ADF1-7034A4E5A8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uble Indicator Method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xtrapolation-Deflation combin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VY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IP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IPY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V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volume index as extrapol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QY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IP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IPY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Q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quantity index as extrapola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8F4-830F-4964-A247-0B0D36C38E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gle Indicator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gle output-related indicator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deflation by price index of outpu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IP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CP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Extrapolation by gross output volume ind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V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V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IP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Extrapolation by physical quantity output ind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Q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435-3B41-479A-9C01-B1F4547833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gle input-related indicator method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deflation by price index of inpu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IP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deflation by wage rate index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IW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Extrapolation by volume index of inpu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V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6D1-451A-4835-9C9F-9916EF90E2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6:53:18Z</dcterms:created>
  <dc:creator>Aloke Kar</dc:creator>
  <dc:description/>
  <dc:language>en-US</dc:language>
  <cp:lastModifiedBy> </cp:lastModifiedBy>
  <dcterms:modified xsi:type="dcterms:W3CDTF">2007-10-16T14:17:58Z</dcterms:modified>
  <cp:revision>96</cp:revision>
  <dc:subject>National Accounts</dc:subject>
  <dc:title>Estimation of Gross Domestic Product at Constant Prices</dc:title>
</cp:coreProperties>
</file>