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4F42-96EA-447E-851A-9D29484C2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34B-D446-4E42-9A07-A2E1D989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176-AF6D-451C-B96F-E9242CBB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D68-721B-48B1-BD04-AD2EA55D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0A51-00AB-4363-8ECA-6ECA4885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C154-07C7-488D-82F8-4E45E461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14DA-D8BC-4311-9EDB-79DBD23A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71D4-C50D-4D10-B790-07EA8DD2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BEDB-AE0C-49D6-8324-925E5440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9758-BB62-4783-BB58-EB477087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49B6-535B-477D-84B2-0607E9D8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4AF8-2DD7-4E35-8B26-33F0707B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DA4-5EFB-43C3-9682-C25A847D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40E7-C3FA-4EC4-9735-7AED309F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5D44-D59F-478B-8352-D21D6FE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1633-2EE6-4782-9D90-1E0F5688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B431-8807-4331-97C8-F07735C3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107A-97B2-47EA-9DCB-49C671DE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EF9-B29D-41B3-BECC-1830D69F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320-741B-4D9F-82B4-B10D421A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090-732E-403F-B39B-C8AE751B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680-3D6E-48AB-ACD4-6CF12B50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1E8-9376-4FC7-AA96-3C886BF0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652-2BE1-4E41-B903-23475A76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81D-21AE-4D70-9A95-B17CB28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2DCE-A05F-4B01-9339-3940C8BF29F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A158-896C-43DE-8507-521C13178A7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leem@bethlehem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Viable ICT strategic partnership </a:t>
            </a:r>
            <a:br>
              <a:rPr sz="5400"/>
            </a:br>
            <a:r>
              <a:rPr b="1" lang="en-US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for new and growing technologies</a:t>
            </a:r>
            <a:endParaRPr b="1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47920" y="39621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aleem Zougbi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Bethlehem University, Bethlehem, Palestine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99ff"/>
                </a:solidFill>
                <a:uFillTx/>
                <a:latin typeface="Times New Roman"/>
                <a:ea typeface="Times New Roman"/>
                <a:hlinkClick r:id="rId1"/>
              </a:rPr>
              <a:t>saleem@bethlehem.edu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Framework of Implementation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4-tier approac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ESCWA Administrativ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ESCWA Technical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Pragmatic Constrains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Partners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Two Phas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Phase 1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Building country focal poin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Building Knowledge-bas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Phase 2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Building Project Macrostructur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dentify priorit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Plan of  actio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CCF-1339-4BE8-89B6-C9F8AAEFB0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09680" y="533520"/>
            <a:ext cx="4724640" cy="581400"/>
          </a:xfrm>
          <a:prstGeom prst="rect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 Tier-approach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38080" y="2286000"/>
          <a:ext cx="7848720" cy="3243240"/>
        </p:xfrm>
        <a:graphic>
          <a:graphicData uri="http://schemas.openxmlformats.org/drawingml/2006/table">
            <a:tbl>
              <a:tblPr/>
              <a:tblGrid>
                <a:gridCol w="2116080"/>
                <a:gridCol w="505080"/>
                <a:gridCol w="1409760"/>
                <a:gridCol w="1197000"/>
                <a:gridCol w="652320"/>
                <a:gridCol w="1968480"/>
              </a:tblGrid>
              <a:tr h="795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ESCWA ICTD planning and administration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f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rioritization &amp; continued Evaluation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ESCWA)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efd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736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Sector and field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Feasibility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Governmental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dfa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R &amp; D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dfa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Academic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dfa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rivate Sector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dfad2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609480" y="408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123-172D-42AC-94F5-85E55A7DCC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1447920"/>
            <a:ext cx="2438280" cy="2260080"/>
          </a:xfrm>
          <a:prstGeom prst="rect">
            <a:avLst/>
          </a:prstGeom>
          <a:gradFill rotWithShape="0">
            <a:gsLst>
              <a:gs pos="0">
                <a:srgbClr val="edfad2"/>
              </a:gs>
              <a:gs pos="100000">
                <a:srgbClr val="eefda1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hase 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Building country focal point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Building Knowledge-bas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04920" y="5867280"/>
          <a:ext cx="5181480" cy="63972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  <a:gridCol w="129528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Govern-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R &amp; 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Academic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rivate Secto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dfad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04920" y="5257800"/>
          <a:ext cx="3733560" cy="639720"/>
        </p:xfrm>
        <a:graphic>
          <a:graphicData uri="http://schemas.openxmlformats.org/drawingml/2006/table">
            <a:tbl>
              <a:tblPr/>
              <a:tblGrid>
                <a:gridCol w="1352160"/>
                <a:gridCol w="1035360"/>
                <a:gridCol w="1346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Sector and fiel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Feasibility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 flipV="1" rot="12916800">
            <a:off x="1162080" y="4814640"/>
            <a:ext cx="2343960" cy="18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86" y="489"/>
                </a:moveTo>
                <a:arcTo wR="10800" hR="10800" stAng="-6438679" swAng="6993070"/>
                <a:lnTo>
                  <a:pt x="10800" y="10800"/>
                </a:lnTo>
                <a:close/>
              </a:path>
              <a:path fill="none" w="21600" h="21600">
                <a:moveTo>
                  <a:pt x="7586" y="489"/>
                </a:moveTo>
                <a:arcTo wR="10800" hR="10800" stAng="-6438679" swAng="6993070"/>
              </a:path>
            </a:pathLst>
          </a:cu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2895480"/>
            <a:ext cx="2438640" cy="2403000"/>
          </a:xfrm>
          <a:prstGeom prst="rect">
            <a:avLst/>
          </a:prstGeom>
          <a:gradFill rotWithShape="0">
            <a:gsLst>
              <a:gs pos="0">
                <a:srgbClr val="edfad2"/>
              </a:gs>
              <a:gs pos="100000">
                <a:srgbClr val="eefda1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hase 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Building Project Macrostructure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dentify priorities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Plan of  action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 rot="12916800">
            <a:off x="6288480" y="2446920"/>
            <a:ext cx="2632320" cy="22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86" y="489"/>
                </a:moveTo>
                <a:arcTo wR="10800" hR="10800" stAng="-6438679" swAng="6438679"/>
                <a:lnTo>
                  <a:pt x="10800" y="10800"/>
                </a:lnTo>
                <a:close/>
              </a:path>
              <a:path fill="none" w="21600" h="21600">
                <a:moveTo>
                  <a:pt x="7586" y="489"/>
                </a:moveTo>
                <a:arcTo wR="10800" hR="10800" stAng="-6438679" swAng="6438679"/>
              </a:path>
            </a:pathLst>
          </a:cu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172200" y="380880"/>
          <a:ext cx="2666880" cy="115884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ESCWA ICTD planning and administration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rioritization &amp; continued Evaluation (ESCWA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eefda1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rot="16200000">
            <a:off x="1942920" y="407592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124400" y="163836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3657600"/>
            <a:ext cx="1447920" cy="12193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ee5a0"/>
              </a:gs>
            </a:gsLst>
            <a:lin ang="108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Fundin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914400"/>
            <a:ext cx="1447560" cy="12193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ee5a0"/>
              </a:gs>
            </a:gsLst>
            <a:lin ang="108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Decisio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Makin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286000"/>
            <a:ext cx="1447560" cy="12193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ee5a0"/>
              </a:gs>
            </a:gsLst>
            <a:lin ang="108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trategi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562360" y="1905120"/>
            <a:ext cx="685800" cy="17524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562360" y="3200040"/>
            <a:ext cx="685800" cy="7621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791320" y="4191120"/>
            <a:ext cx="457200" cy="759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657240" y="3048120"/>
            <a:ext cx="609480" cy="914400"/>
          </a:xfrm>
          <a:prstGeom prst="line">
            <a:avLst/>
          </a:prstGeom>
          <a:ln w="5724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581280" y="2666880"/>
            <a:ext cx="533520" cy="76320"/>
          </a:xfrm>
          <a:prstGeom prst="line">
            <a:avLst/>
          </a:prstGeom>
          <a:ln w="5724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657240" y="1981080"/>
            <a:ext cx="609480" cy="609840"/>
          </a:xfrm>
          <a:prstGeom prst="line">
            <a:avLst/>
          </a:prstGeom>
          <a:ln w="5724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5867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CT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762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Partners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2286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ESCW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228600"/>
            <a:ext cx="0" cy="586728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228600"/>
            <a:ext cx="0" cy="45720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2B4-CFE9-4DB0-866F-627258E26E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6854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Post Script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36576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There should be a balance of centralization and decentraliz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pecialization and focus expertise in form a knowledge base among ESCWA count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CTD is the drive engine behind these focal poi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B23-131F-42DB-A192-5E6663875F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ank You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F91-D2A4-41ED-AD94-693597DE27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63560" y="226800"/>
            <a:ext cx="52689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Objective of this  presentation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1674360"/>
            <a:ext cx="64008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hare ideas about the concept of viability of strategic partnership regarding new and growing technologies in ESCWA count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dentify critical factors of success and sustainabili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uggest some framework of implementation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C9B-3634-45B4-96CB-33B99E1DF9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Defini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Viable: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bility to sustain insecure fund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bility to sustain monitoring fast growing ideas and domains of wor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bility to motivate respective types of regional actors of common goals and interests to sustain sharing of similar and complementary wor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233-906C-47CF-845C-5711FA5F85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trategic Partnershi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Commitments for a national goal, that has 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Long lifeti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vision for growth and chang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nterdisciplinary and cross-sector developm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DE4-DB9B-45AA-B8FE-0D0A0D894E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Dealing with innovation and growing technolog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Monitoring international developments and technology growth to identify scope of actions and their priorit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ssessing social and economic implications of growing technolog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ssisting interested partners and stake-holders to invest in, integrate and benefit from such technolog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56E-E07D-4FE3-B45A-BE24BB489F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91968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</a:rPr>
              <a:t>Critical factors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Establish a revolving fund, or endowment that would be the core funding for R&amp;D project ideas in innovative and growing technolog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Possible partners as donor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409760" indent="-495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Government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409760" indent="-495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Large companies in the ESCWA region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1035000" indent="-577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combination of these two types of donors is the better choice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219320"/>
            <a:ext cx="7620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. 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ustain insecure funding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EA2-3356-4B7A-8380-FDA4F5FE4D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52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Establish a network of ESCWA “eye-opener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Networking a group of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24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enior experts,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24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cademicians,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technology stake-holders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To keep constant watch on ideas and innovation that take place in the world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ssessing and monitoring international developments on technology growth to identify scope of possible actions and their priorit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0666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. 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ustain innovation and growth of technolog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3962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</a:rPr>
              <a:t>Critical factors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0CE-0749-4D92-9F1A-608AF7599A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dentify and link regional actors considering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Common goals and interest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Type (NGO, private sector, academic, government, etc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ize (how much resources, attitudes, scope of work)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hare and complement work on different leve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pecific and dedicated-level of technolog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pplications of innovative ideas and technology development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dvanced training for purposes of technology sharing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6858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. Motivate ESCWA countries cooperation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</a:rPr>
              <a:t>Critical factor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091-B0BB-4032-901F-E18FE3DE66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51920" y="15235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ssessing social and economic implications of growing technolog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On-going evaluation efforts to assess the following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uccess of identifying ideas that are innovative and growing technolog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mpact of sharing and cooperation between ESCWA countr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The improvement of social-economic development driven by growing technologies implementations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The success in bridging the divide between ESCWA countries in such work and similar work in other international arenas of the world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-360" y="759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</a:rPr>
              <a:t>Critical factors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609480"/>
            <a:ext cx="4572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. 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Evaluation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IC -4  (SZ)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8B0-D107-410E-BF8F-0F4210D19B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08:49Z</dcterms:created>
  <dc:creator>Saleem Zougbi</dc:creator>
  <dc:description/>
  <dc:language>en-US</dc:language>
  <cp:lastModifiedBy>Saleem Zougbi</cp:lastModifiedBy>
  <dcterms:modified xsi:type="dcterms:W3CDTF">2008-03-31T01:42:56Z</dcterms:modified>
  <cp:revision>37</cp:revision>
  <dc:subject/>
  <dc:title>Viable ICT strategic partnership  for new and growing technologies</dc:title>
</cp:coreProperties>
</file>